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59F6-3B98-4162-9741-ACE848FE8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283A-CF08-4D0C-B3A1-1A92E24E85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9465-08E8-4F20-BE84-A9B7E8D455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0BAE-71CA-4B53-B21C-5D30EBDC6C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D665-96E8-4A05-9CF3-75B53694AE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0A96-0451-479C-B126-6CBB3933F7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F713-3119-40D8-8353-3B93825533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D538-DFB2-4207-87C1-AB984E907D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1DAD-8A2C-44C5-8A1B-7F48421862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5718-8D81-4042-A55F-C6DE29B020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C5C1-2588-4932-BF9C-8B21818AB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8EF8-19AA-4883-9097-4FB9A4D1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53D6-3C90-4ABA-B0C8-1B5247D3E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8080-2053-4A67-803E-31CD1F62B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4E58-5932-4D5D-960E-1188110CE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10AB-62ED-4AED-BC50-EA4119F30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5B36D-ECAC-4368-BFC3-9B11FB96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44F8-0637-4F40-8819-936F2609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E249C-6EF0-43F2-8CBE-CE5952D2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75C1-351A-42AC-93ED-BF35A689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87D27-0895-4CF7-A786-15A81234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F294-9090-4F6B-A585-6A1B1C58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3C42-4EE5-4D26-9FB3-4BD46D4B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05C6-B283-4BB7-8334-AF7F57C5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6E44-DABA-44C8-B894-89A50B4A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BDD5-38F5-4067-A863-F3B92B517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218E-0BFF-4F84-A2D9-13E09BBF8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113F-5657-4625-B693-A8521ED9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CE33-722E-4BB0-81CB-A69BC91A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F381-B942-4D9F-A0C0-AA15F27E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8C9E-D4BC-455F-98B0-5B05FA50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A36C-3925-4B7D-8BED-93DA41A2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CF16-7BCD-4260-B0DE-AD74AF40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6047-6B7B-4F8E-9F11-20778475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100000">
                <a:srgbClr val="005a8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2"/>
                  </a:gs>
                  <a:gs pos="100000">
                    <a:srgbClr val="0066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4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6f9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E044-777F-4253-A2C3-E6A1C15D0E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2"/>
                  </a:gs>
                  <a:gs pos="100000">
                    <a:srgbClr val="0066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4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6f9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7C35-9519-4FA2-A5EE-B3378038B2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file:///dissolving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c0c0"/>
                </a:solidFill>
                <a:latin typeface="Arial"/>
              </a:rPr>
              <a:t>Chapter 5 – Solutions 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ience 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4800600" y="765000"/>
            <a:ext cx="3746520" cy="33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is makes room for more water particles to move in and attract more sugar partic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is process continues until all of the sugar is dissolv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2" name="Group 3"/>
          <p:cNvGrpSpPr/>
          <p:nvPr/>
        </p:nvGrpSpPr>
        <p:grpSpPr>
          <a:xfrm>
            <a:off x="444600" y="1600200"/>
            <a:ext cx="4279680" cy="2895480"/>
            <a:chOff x="444600" y="1600200"/>
            <a:chExt cx="4279680" cy="2895480"/>
          </a:xfrm>
        </p:grpSpPr>
        <p:pic>
          <p:nvPicPr>
            <p:cNvPr id="273" name="Picture 4" descr=""/>
            <p:cNvPicPr/>
            <p:nvPr/>
          </p:nvPicPr>
          <p:blipFill>
            <a:blip r:embed="rId1"/>
            <a:stretch/>
          </p:blipFill>
          <p:spPr>
            <a:xfrm>
              <a:off x="444600" y="1600200"/>
              <a:ext cx="4167000" cy="287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Rectangle 5"/>
            <p:cNvSpPr/>
            <p:nvPr/>
          </p:nvSpPr>
          <p:spPr>
            <a:xfrm>
              <a:off x="4038480" y="4191120"/>
              <a:ext cx="685800" cy="304560"/>
            </a:xfrm>
            <a:prstGeom prst="rect">
              <a:avLst/>
            </a:prstGeom>
            <a:solidFill>
              <a:srgbClr val="0025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Rectangle 6"/>
          <p:cNvSpPr/>
          <p:nvPr/>
        </p:nvSpPr>
        <p:spPr>
          <a:xfrm>
            <a:off x="5397480" y="4221000"/>
            <a:ext cx="37465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99ccff"/>
                </a:solidFill>
                <a:uFillTx/>
                <a:latin typeface="Tahoma"/>
                <a:hlinkClick r:id="rId2"/>
              </a:rPr>
              <a:t>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0" y="18900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GB" sz="3200" spc="-1" strike="noStrike">
                <a:solidFill>
                  <a:srgbClr val="00ff00"/>
                </a:solidFill>
                <a:latin typeface="Tahoma"/>
              </a:rPr>
              <a:t>solute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dissolves in the </a:t>
            </a:r>
            <a:r>
              <a:rPr b="1" lang="en-GB" sz="3200" spc="-1" strike="noStrike">
                <a:solidFill>
                  <a:srgbClr val="ffcc00"/>
                </a:solidFill>
                <a:latin typeface="Tahoma"/>
              </a:rPr>
              <a:t>solv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Group 3"/>
          <p:cNvGrpSpPr/>
          <p:nvPr/>
        </p:nvGrpSpPr>
        <p:grpSpPr>
          <a:xfrm>
            <a:off x="971640" y="836640"/>
            <a:ext cx="6985080" cy="3456000"/>
            <a:chOff x="971640" y="836640"/>
            <a:chExt cx="6985080" cy="3456000"/>
          </a:xfrm>
        </p:grpSpPr>
        <p:grpSp>
          <p:nvGrpSpPr>
            <p:cNvPr id="278" name="Group 4"/>
            <p:cNvGrpSpPr/>
            <p:nvPr/>
          </p:nvGrpSpPr>
          <p:grpSpPr>
            <a:xfrm>
              <a:off x="1906920" y="836640"/>
              <a:ext cx="4473360" cy="3456000"/>
              <a:chOff x="1906920" y="836640"/>
              <a:chExt cx="4473360" cy="3456000"/>
            </a:xfrm>
          </p:grpSpPr>
          <p:grpSp>
            <p:nvGrpSpPr>
              <p:cNvPr id="279" name="Group 5"/>
              <p:cNvGrpSpPr/>
              <p:nvPr/>
            </p:nvGrpSpPr>
            <p:grpSpPr>
              <a:xfrm>
                <a:off x="2100600" y="1181160"/>
                <a:ext cx="4279680" cy="2895480"/>
                <a:chOff x="2100600" y="1181160"/>
                <a:chExt cx="4279680" cy="2895480"/>
              </a:xfrm>
            </p:grpSpPr>
            <p:pic>
              <p:nvPicPr>
                <p:cNvPr id="280" name="Pictur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100600" y="1181160"/>
                  <a:ext cx="4167000" cy="2870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1" name="Rectangle 7"/>
                <p:cNvSpPr/>
                <p:nvPr/>
              </p:nvSpPr>
              <p:spPr>
                <a:xfrm>
                  <a:off x="5694480" y="3772080"/>
                  <a:ext cx="685800" cy="304560"/>
                </a:xfrm>
                <a:prstGeom prst="rect">
                  <a:avLst/>
                </a:prstGeom>
                <a:solidFill>
                  <a:srgbClr val="0025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2" name="Rectangle 8"/>
              <p:cNvSpPr/>
              <p:nvPr/>
            </p:nvSpPr>
            <p:spPr>
              <a:xfrm>
                <a:off x="1906920" y="836640"/>
                <a:ext cx="1081080" cy="3456000"/>
              </a:xfrm>
              <a:prstGeom prst="rect">
                <a:avLst/>
              </a:prstGeom>
              <a:solidFill>
                <a:srgbClr val="00254a"/>
              </a:solidFill>
              <a:ln w="9360">
                <a:solidFill>
                  <a:srgbClr val="00254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3" name="AutoShape 9"/>
            <p:cNvSpPr/>
            <p:nvPr/>
          </p:nvSpPr>
          <p:spPr>
            <a:xfrm rot="3848400">
              <a:off x="5506920" y="981000"/>
              <a:ext cx="360360" cy="2087640"/>
            </a:xfrm>
            <a:prstGeom prst="downArrow">
              <a:avLst>
                <a:gd name="adj1" fmla="val 50000"/>
                <a:gd name="adj2" fmla="val 144830"/>
              </a:avLst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Text Box 10"/>
            <p:cNvSpPr/>
            <p:nvPr/>
          </p:nvSpPr>
          <p:spPr>
            <a:xfrm>
              <a:off x="6588360" y="124488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Rockwell Extra Bold"/>
                </a:rPr>
                <a:t>solut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AutoShape 11"/>
            <p:cNvSpPr/>
            <p:nvPr/>
          </p:nvSpPr>
          <p:spPr>
            <a:xfrm rot="16200000">
              <a:off x="2270880" y="2324520"/>
              <a:ext cx="360360" cy="1511280"/>
            </a:xfrm>
            <a:prstGeom prst="downArrow">
              <a:avLst>
                <a:gd name="adj1" fmla="val 50000"/>
                <a:gd name="adj2" fmla="val 104845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Text Box 12"/>
            <p:cNvSpPr/>
            <p:nvPr/>
          </p:nvSpPr>
          <p:spPr>
            <a:xfrm>
              <a:off x="971640" y="2540160"/>
              <a:ext cx="17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Rockwell Extra Bold"/>
                </a:rPr>
                <a:t>solv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Rectangle 13"/>
          <p:cNvSpPr/>
          <p:nvPr/>
        </p:nvSpPr>
        <p:spPr>
          <a:xfrm>
            <a:off x="250920" y="4292640"/>
            <a:ext cx="8243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re is always more </a:t>
            </a:r>
            <a:r>
              <a:rPr b="1" lang="en-GB" sz="3200" spc="-1" strike="noStrike">
                <a:solidFill>
                  <a:srgbClr val="ffcc00"/>
                </a:solidFill>
                <a:latin typeface="Tahoma"/>
              </a:rPr>
              <a:t>solvent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an </a:t>
            </a:r>
            <a:r>
              <a:rPr b="1" lang="en-GB" sz="3200" spc="-1" strike="noStrike">
                <a:solidFill>
                  <a:srgbClr val="00ff00"/>
                </a:solidFill>
                <a:latin typeface="Tahoma"/>
              </a:rPr>
              <a:t>solute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in a sol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olu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is the substance that dissolves in a solvent to form a 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There is usually less solute than solvent in a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olv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is the substance that dissolves a solute to form a sol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There is usually more solvent in a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olub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means able to dissolve in a particular solve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sugar is soluble in water, or we can also say that sugar dissolves in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solub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means not able to be dissolved in a particular solv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y mixing materials together does not always make a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280" y="277920"/>
            <a:ext cx="87631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600" spc="-1" strike="noStrike" u="sng">
                <a:solidFill>
                  <a:srgbClr val="ffffff"/>
                </a:solidFill>
                <a:uFillTx/>
                <a:latin typeface="Arial Rounded MT Bold"/>
              </a:rPr>
              <a:t>Section 5.2- Water in the environment</a:t>
            </a:r>
            <a:endParaRPr b="0" lang="en-US" sz="36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467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 Rounded MT Bold"/>
              </a:rPr>
              <a:t>Distillation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: is a method for separating the parts of a liquid solution.  In distillation, the solvent is heated to change it to a gas, then condensed to a liquid ag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Condensation: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 is the change from a gas to a liquid. Because the solutes do not change state, they remain behi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 u="sng">
                <a:solidFill>
                  <a:srgbClr val="ffffff"/>
                </a:solidFill>
                <a:uFillTx/>
                <a:latin typeface="Arial Rounded MT Bold"/>
              </a:rPr>
              <a:t>Hard vs Soft Water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696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 Rounded MT Bold"/>
              </a:rPr>
              <a:t>Hard water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: water that contains a lot of dissolved miner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 Rounded MT Bold"/>
              </a:rPr>
              <a:t>Soft water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: water with few dissolved miner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 Rounded MT Bold"/>
              </a:rPr>
              <a:t>Desalination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: means removing the salt from salty water. In parts of the world, desalination must occur to provide drinking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 u="sng">
                <a:solidFill>
                  <a:srgbClr val="c0c0c0"/>
                </a:solidFill>
                <a:uFillTx/>
                <a:latin typeface="Arial"/>
              </a:rPr>
              <a:t>5.3 – Sugar in substances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90360" y="1674360"/>
            <a:ext cx="7543800" cy="41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ilute solu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a solution that contains very little solu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ncentrated solu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a solution that contains a lot of solute for the amount of solv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Picture 4" descr="MPj04090070000[1]"/>
          <p:cNvPicPr/>
          <p:nvPr/>
        </p:nvPicPr>
        <p:blipFill>
          <a:blip r:embed="rId1"/>
          <a:stretch/>
        </p:blipFill>
        <p:spPr>
          <a:xfrm>
            <a:off x="7010280" y="4419720"/>
            <a:ext cx="1627200" cy="21333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5" descr="MPj04089740000[1]"/>
          <p:cNvPicPr/>
          <p:nvPr/>
        </p:nvPicPr>
        <p:blipFill>
          <a:blip r:embed="rId2"/>
          <a:stretch/>
        </p:blipFill>
        <p:spPr>
          <a:xfrm>
            <a:off x="533520" y="4876920"/>
            <a:ext cx="1371600" cy="17524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6" descr="MCj02961400000[1]"/>
          <p:cNvPicPr/>
          <p:nvPr/>
        </p:nvPicPr>
        <p:blipFill>
          <a:blip r:embed="rId3"/>
          <a:stretch/>
        </p:blipFill>
        <p:spPr>
          <a:xfrm>
            <a:off x="7391520" y="1752480"/>
            <a:ext cx="1523880" cy="10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c0c0c0"/>
                </a:solidFill>
                <a:uFillTx/>
                <a:latin typeface="Arial"/>
              </a:rPr>
              <a:t>The particles theory Review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matter is made up of extremely  tiny partic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pure substance has its own kind of particle, different from the particles of other pure substa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les attract each 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les are always mov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les at a higher (warmer) temperature are moving faster than particles at a lower tempera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Organization Chart 2"/>
          <p:cNvGrpSpPr/>
          <p:nvPr/>
        </p:nvGrpSpPr>
        <p:grpSpPr>
          <a:xfrm>
            <a:off x="304920" y="271440"/>
            <a:ext cx="8609760" cy="6415920"/>
            <a:chOff x="304920" y="271440"/>
            <a:chExt cx="8609760" cy="6415920"/>
          </a:xfrm>
        </p:grpSpPr>
        <p:cxnSp>
          <p:nvCxnSpPr>
            <p:cNvPr id="302" name="_s1028"/>
            <p:cNvCxnSpPr>
              <a:stCxn id="303" idx="1"/>
              <a:endCxn id="304" idx="2"/>
            </p:cNvCxnSpPr>
            <p:nvPr/>
          </p:nvCxnSpPr>
          <p:spPr>
            <a:xfrm rot="10800000">
              <a:off x="4406760" y="4422240"/>
              <a:ext cx="407880" cy="1887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5" name="_s1029"/>
            <p:cNvCxnSpPr>
              <a:stCxn id="306" idx="1"/>
              <a:endCxn id="304" idx="2"/>
            </p:cNvCxnSpPr>
            <p:nvPr/>
          </p:nvCxnSpPr>
          <p:spPr>
            <a:xfrm rot="10800000">
              <a:off x="4406760" y="4422240"/>
              <a:ext cx="407880" cy="7552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7" name="_s1030"/>
            <p:cNvCxnSpPr>
              <a:stCxn id="304" idx="1"/>
              <a:endCxn id="308" idx="2"/>
            </p:cNvCxnSpPr>
            <p:nvPr/>
          </p:nvCxnSpPr>
          <p:spPr>
            <a:xfrm rot="10800000">
              <a:off x="2766600" y="3290040"/>
              <a:ext cx="410400" cy="757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9" name="_s1031"/>
            <p:cNvCxnSpPr>
              <a:stCxn id="310" idx="1"/>
              <a:endCxn id="311" idx="2"/>
            </p:cNvCxnSpPr>
            <p:nvPr/>
          </p:nvCxnSpPr>
          <p:spPr>
            <a:xfrm rot="10800000">
              <a:off x="6044040" y="3290040"/>
              <a:ext cx="410400" cy="757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12" name="_s1032"/>
            <p:cNvCxnSpPr>
              <a:stCxn id="311" idx="0"/>
              <a:endCxn id="313" idx="2"/>
            </p:cNvCxnSpPr>
            <p:nvPr/>
          </p:nvCxnSpPr>
          <p:spPr>
            <a:xfrm flipV="1" rot="16200000">
              <a:off x="5035680" y="1526760"/>
              <a:ext cx="378000" cy="1640520"/>
            </a:xfrm>
            <a:prstGeom prst="bentConnector3">
              <a:avLst>
                <a:gd name="adj1" fmla="val 3069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14" name="_s1033"/>
            <p:cNvCxnSpPr>
              <a:stCxn id="308" idx="0"/>
              <a:endCxn id="313" idx="2"/>
            </p:cNvCxnSpPr>
            <p:nvPr/>
          </p:nvCxnSpPr>
          <p:spPr>
            <a:xfrm flipH="1" flipV="1" rot="5400000">
              <a:off x="3396960" y="1528200"/>
              <a:ext cx="378000" cy="1638000"/>
            </a:xfrm>
            <a:prstGeom prst="bentConnector3">
              <a:avLst>
                <a:gd name="adj1" fmla="val 3069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15" name="_s1034"/>
            <p:cNvCxnSpPr>
              <a:stCxn id="313" idx="0"/>
              <a:endCxn id="316" idx="2"/>
            </p:cNvCxnSpPr>
            <p:nvPr/>
          </p:nvCxnSpPr>
          <p:spPr>
            <a:xfrm flipV="1" rot="16200000">
              <a:off x="3498120" y="496800"/>
              <a:ext cx="378000" cy="1435320"/>
            </a:xfrm>
            <a:prstGeom prst="bentConnector3">
              <a:avLst>
                <a:gd name="adj1" fmla="val 3069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17" name="_s1035"/>
            <p:cNvCxnSpPr>
              <a:stCxn id="318" idx="0"/>
              <a:endCxn id="316" idx="2"/>
            </p:cNvCxnSpPr>
            <p:nvPr/>
          </p:nvCxnSpPr>
          <p:spPr>
            <a:xfrm flipH="1" flipV="1" rot="5400000">
              <a:off x="2062800" y="496800"/>
              <a:ext cx="378000" cy="1435680"/>
            </a:xfrm>
            <a:prstGeom prst="bentConnector3">
              <a:avLst>
                <a:gd name="adj1" fmla="val 3069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16" name="_s1036"/>
            <p:cNvSpPr/>
            <p:nvPr/>
          </p:nvSpPr>
          <p:spPr>
            <a:xfrm>
              <a:off x="1740240" y="271440"/>
              <a:ext cx="2459880" cy="75456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 u="sng">
                  <a:solidFill>
                    <a:srgbClr val="00080c"/>
                  </a:solidFill>
                  <a:uFillTx/>
                  <a:latin typeface="Arial"/>
                </a:rPr>
                <a:t>MATTER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80c"/>
                  </a:solidFill>
                  <a:latin typeface="Arial"/>
                </a:rPr>
                <a:t>solid,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80c"/>
                  </a:solidFill>
                  <a:latin typeface="Arial"/>
                </a:rPr>
                <a:t>liquid or ga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_s1037"/>
            <p:cNvSpPr/>
            <p:nvPr/>
          </p:nvSpPr>
          <p:spPr>
            <a:xfrm>
              <a:off x="304920" y="1403640"/>
              <a:ext cx="2459880" cy="75456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80c"/>
                  </a:solidFill>
                  <a:latin typeface="Arial"/>
                </a:rPr>
                <a:t>Pure Substanc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_s1038"/>
            <p:cNvSpPr/>
            <p:nvPr/>
          </p:nvSpPr>
          <p:spPr>
            <a:xfrm>
              <a:off x="3174840" y="1403640"/>
              <a:ext cx="2459880" cy="75456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80c"/>
                  </a:solidFill>
                  <a:latin typeface="Arial"/>
                </a:rPr>
                <a:t>Mixtur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_s1039"/>
            <p:cNvSpPr/>
            <p:nvPr/>
          </p:nvSpPr>
          <p:spPr>
            <a:xfrm>
              <a:off x="1537200" y="2535840"/>
              <a:ext cx="2459880" cy="75456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80c"/>
                  </a:solidFill>
                  <a:latin typeface="Arial"/>
                </a:rPr>
                <a:t>Homogeneou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_s1040"/>
            <p:cNvSpPr/>
            <p:nvPr/>
          </p:nvSpPr>
          <p:spPr>
            <a:xfrm>
              <a:off x="4815000" y="2535840"/>
              <a:ext cx="2459880" cy="75456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80c"/>
                  </a:solidFill>
                  <a:latin typeface="Arial"/>
                </a:rPr>
                <a:t>Heterogeneou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_s1041"/>
            <p:cNvSpPr/>
            <p:nvPr/>
          </p:nvSpPr>
          <p:spPr>
            <a:xfrm>
              <a:off x="6454800" y="3668040"/>
              <a:ext cx="2459880" cy="75456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Mechanical</a:t>
              </a:r>
              <a:r>
                <a:rPr b="1" lang="fr-CA" sz="1900" spc="-1" strike="noStrike">
                  <a:solidFill>
                    <a:srgbClr val="000000"/>
                  </a:solidFill>
                  <a:latin typeface="Arial"/>
                </a:rPr>
                <a:t> Mixtur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_s1042"/>
            <p:cNvSpPr/>
            <p:nvPr/>
          </p:nvSpPr>
          <p:spPr>
            <a:xfrm>
              <a:off x="3177360" y="3668040"/>
              <a:ext cx="2457360" cy="75456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900" spc="-1" strike="noStrike">
                  <a:solidFill>
                    <a:srgbClr val="000000"/>
                  </a:solidFill>
                  <a:latin typeface="Arial"/>
                </a:rPr>
                <a:t>Solution</a:t>
              </a:r>
              <a:r>
                <a:rPr b="0" lang="fr-CA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_s1043"/>
            <p:cNvSpPr/>
            <p:nvPr/>
          </p:nvSpPr>
          <p:spPr>
            <a:xfrm>
              <a:off x="4815000" y="4800600"/>
              <a:ext cx="2459880" cy="75456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Solut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_s1044"/>
            <p:cNvSpPr/>
            <p:nvPr/>
          </p:nvSpPr>
          <p:spPr>
            <a:xfrm>
              <a:off x="4815000" y="5932800"/>
              <a:ext cx="2459880" cy="75456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Solvent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09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 Rounded MT Bold"/>
              </a:rPr>
              <a:t>What makes materials dissolve?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Dissolving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: Forming a solution by mixing two or more material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Mixing materials together do not always make a solution (they make a mechanical mixture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r example: If you mix water and cooking oil, they two substance do not combine into one. Same as if you mix water and sand, the sand will not dissolve (disappea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 Rounded MT Bold"/>
              </a:rPr>
              <a:t>Particle</a:t>
            </a:r>
            <a:r>
              <a:rPr b="1" lang="fr-CA" sz="4400" spc="-1" strike="noStrike" u="sng">
                <a:solidFill>
                  <a:srgbClr val="ffffff"/>
                </a:solidFill>
                <a:uFillTx/>
                <a:latin typeface="Arial Rounded MT Bold"/>
              </a:rPr>
              <a:t> attraction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4678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In liquids and gas solutions, the particles gradually move around and mix evenly throughout the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Particles attract each o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Particles are always mov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0" y="62064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 u="sng">
                <a:solidFill>
                  <a:srgbClr val="ffffff"/>
                </a:solidFill>
                <a:uFillTx/>
                <a:latin typeface="Tahoma"/>
              </a:rPr>
              <a:t>Particle Theory of Mat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533520" y="1752480"/>
            <a:ext cx="76327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atter is made of extremely small parti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articles are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alway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mo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4" descr="moving matter"/>
          <p:cNvPicPr/>
          <p:nvPr/>
        </p:nvPicPr>
        <p:blipFill>
          <a:blip r:embed="rId1"/>
          <a:stretch/>
        </p:blipFill>
        <p:spPr>
          <a:xfrm>
            <a:off x="2498760" y="3068640"/>
            <a:ext cx="365760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287280" y="368280"/>
            <a:ext cx="85327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orming a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solution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by mixing two or more materials is called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dissolving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(the Kool-aid dissolves in the wat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Group 3"/>
          <p:cNvGrpSpPr/>
          <p:nvPr/>
        </p:nvGrpSpPr>
        <p:grpSpPr>
          <a:xfrm>
            <a:off x="2119680" y="2578680"/>
            <a:ext cx="5341320" cy="3513960"/>
            <a:chOff x="2119680" y="2578680"/>
            <a:chExt cx="5341320" cy="3513960"/>
          </a:xfrm>
        </p:grpSpPr>
        <p:pic>
          <p:nvPicPr>
            <p:cNvPr id="229" name="Picture 4" descr=""/>
            <p:cNvPicPr/>
            <p:nvPr/>
          </p:nvPicPr>
          <p:blipFill>
            <a:blip r:embed="rId1"/>
            <a:stretch/>
          </p:blipFill>
          <p:spPr>
            <a:xfrm>
              <a:off x="3570480" y="4569120"/>
              <a:ext cx="2414880" cy="15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5" descr="beakerwater"/>
            <p:cNvPicPr/>
            <p:nvPr/>
          </p:nvPicPr>
          <p:blipFill>
            <a:blip r:embed="rId2"/>
            <a:stretch/>
          </p:blipFill>
          <p:spPr>
            <a:xfrm rot="19222800">
              <a:off x="2401560" y="3002040"/>
              <a:ext cx="1892160" cy="156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6" descr="koolaid"/>
            <p:cNvPicPr/>
            <p:nvPr/>
          </p:nvPicPr>
          <p:blipFill>
            <a:blip r:embed="rId3"/>
            <a:stretch/>
          </p:blipFill>
          <p:spPr>
            <a:xfrm rot="2151000">
              <a:off x="5740920" y="2945880"/>
              <a:ext cx="1567440" cy="102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Oval 7"/>
            <p:cNvSpPr/>
            <p:nvPr/>
          </p:nvSpPr>
          <p:spPr>
            <a:xfrm>
              <a:off x="5406120" y="3556800"/>
              <a:ext cx="53640" cy="536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Oval 8"/>
            <p:cNvSpPr/>
            <p:nvPr/>
          </p:nvSpPr>
          <p:spPr>
            <a:xfrm>
              <a:off x="5462640" y="3779640"/>
              <a:ext cx="55080" cy="547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Oval 9"/>
            <p:cNvSpPr/>
            <p:nvPr/>
          </p:nvSpPr>
          <p:spPr>
            <a:xfrm>
              <a:off x="5352120" y="3724200"/>
              <a:ext cx="53640" cy="55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Oval 10"/>
            <p:cNvSpPr/>
            <p:nvPr/>
          </p:nvSpPr>
          <p:spPr>
            <a:xfrm>
              <a:off x="5406120" y="3944880"/>
              <a:ext cx="53640" cy="572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Oval 11"/>
            <p:cNvSpPr/>
            <p:nvPr/>
          </p:nvSpPr>
          <p:spPr>
            <a:xfrm>
              <a:off x="5295960" y="3890880"/>
              <a:ext cx="55080" cy="572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Oval 12"/>
            <p:cNvSpPr/>
            <p:nvPr/>
          </p:nvSpPr>
          <p:spPr>
            <a:xfrm>
              <a:off x="5575680" y="3724200"/>
              <a:ext cx="53640" cy="55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13"/>
            <p:cNvSpPr/>
            <p:nvPr/>
          </p:nvSpPr>
          <p:spPr>
            <a:xfrm>
              <a:off x="5462640" y="3666960"/>
              <a:ext cx="55080" cy="572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Oval 14"/>
            <p:cNvSpPr/>
            <p:nvPr/>
          </p:nvSpPr>
          <p:spPr>
            <a:xfrm>
              <a:off x="5519160" y="3889440"/>
              <a:ext cx="55080" cy="586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Oval 15"/>
            <p:cNvSpPr/>
            <p:nvPr/>
          </p:nvSpPr>
          <p:spPr>
            <a:xfrm>
              <a:off x="5352120" y="4167360"/>
              <a:ext cx="53640" cy="586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Oval 16"/>
            <p:cNvSpPr/>
            <p:nvPr/>
          </p:nvSpPr>
          <p:spPr>
            <a:xfrm>
              <a:off x="5462640" y="4057560"/>
              <a:ext cx="55080" cy="547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17"/>
            <p:cNvSpPr/>
            <p:nvPr/>
          </p:nvSpPr>
          <p:spPr>
            <a:xfrm>
              <a:off x="5519160" y="3500280"/>
              <a:ext cx="55080" cy="572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18"/>
            <p:cNvSpPr/>
            <p:nvPr/>
          </p:nvSpPr>
          <p:spPr>
            <a:xfrm>
              <a:off x="5184000" y="4389120"/>
              <a:ext cx="53640" cy="547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19"/>
            <p:cNvSpPr/>
            <p:nvPr/>
          </p:nvSpPr>
          <p:spPr>
            <a:xfrm>
              <a:off x="5297040" y="4334040"/>
              <a:ext cx="55080" cy="572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Oval 20"/>
            <p:cNvSpPr/>
            <p:nvPr/>
          </p:nvSpPr>
          <p:spPr>
            <a:xfrm>
              <a:off x="5240520" y="4223880"/>
              <a:ext cx="55080" cy="55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Oval 21"/>
            <p:cNvSpPr/>
            <p:nvPr/>
          </p:nvSpPr>
          <p:spPr>
            <a:xfrm>
              <a:off x="5295960" y="4057560"/>
              <a:ext cx="55080" cy="547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Oval 22"/>
            <p:cNvSpPr/>
            <p:nvPr/>
          </p:nvSpPr>
          <p:spPr>
            <a:xfrm>
              <a:off x="5184000" y="4112280"/>
              <a:ext cx="53640" cy="536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Oval 23"/>
            <p:cNvSpPr/>
            <p:nvPr/>
          </p:nvSpPr>
          <p:spPr>
            <a:xfrm>
              <a:off x="5128920" y="4280040"/>
              <a:ext cx="55080" cy="55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Oval 24"/>
            <p:cNvSpPr/>
            <p:nvPr/>
          </p:nvSpPr>
          <p:spPr>
            <a:xfrm>
              <a:off x="5073480" y="4445280"/>
              <a:ext cx="55080" cy="586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25"/>
            <p:cNvSpPr/>
            <p:nvPr/>
          </p:nvSpPr>
          <p:spPr>
            <a:xfrm>
              <a:off x="5184000" y="4500360"/>
              <a:ext cx="53640" cy="572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1"/>
          <a:srcRect l="17306" t="-1601" r="20267" b="0"/>
          <a:stretch/>
        </p:blipFill>
        <p:spPr>
          <a:xfrm>
            <a:off x="396720" y="2898720"/>
            <a:ext cx="1955880" cy="2232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"/>
          <p:cNvPicPr/>
          <p:nvPr/>
        </p:nvPicPr>
        <p:blipFill>
          <a:blip r:embed="rId2"/>
          <a:srcRect l="17369" t="-3018" r="15504" b="0"/>
          <a:stretch/>
        </p:blipFill>
        <p:spPr>
          <a:xfrm>
            <a:off x="2484360" y="2970360"/>
            <a:ext cx="1944720" cy="216036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4"/>
          <p:cNvSpPr/>
          <p:nvPr/>
        </p:nvSpPr>
        <p:spPr>
          <a:xfrm>
            <a:off x="5199120" y="4935600"/>
            <a:ext cx="476280" cy="222120"/>
          </a:xfrm>
          <a:prstGeom prst="rect">
            <a:avLst/>
          </a:prstGeom>
          <a:solidFill>
            <a:srgbClr val="0025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5" descr=""/>
          <p:cNvPicPr/>
          <p:nvPr/>
        </p:nvPicPr>
        <p:blipFill>
          <a:blip r:embed="rId3"/>
          <a:srcRect l="15296" t="3292" r="20922" b="0"/>
          <a:stretch/>
        </p:blipFill>
        <p:spPr>
          <a:xfrm>
            <a:off x="4429080" y="3041640"/>
            <a:ext cx="1800360" cy="20988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6"/>
          <p:cNvSpPr/>
          <p:nvPr/>
        </p:nvSpPr>
        <p:spPr>
          <a:xfrm>
            <a:off x="7431120" y="4713120"/>
            <a:ext cx="465120" cy="230400"/>
          </a:xfrm>
          <a:prstGeom prst="rect">
            <a:avLst/>
          </a:prstGeom>
          <a:solidFill>
            <a:srgbClr val="0025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7" descr=""/>
          <p:cNvPicPr/>
          <p:nvPr/>
        </p:nvPicPr>
        <p:blipFill>
          <a:blip r:embed="rId4"/>
          <a:srcRect l="17300" t="2488" r="18780" b="0"/>
          <a:stretch/>
        </p:blipFill>
        <p:spPr>
          <a:xfrm>
            <a:off x="6407280" y="3041640"/>
            <a:ext cx="1909800" cy="207972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8"/>
          <p:cNvSpPr/>
          <p:nvPr/>
        </p:nvSpPr>
        <p:spPr>
          <a:xfrm>
            <a:off x="6437160" y="5587920"/>
            <a:ext cx="685800" cy="304920"/>
          </a:xfrm>
          <a:prstGeom prst="rect">
            <a:avLst/>
          </a:prstGeom>
          <a:solidFill>
            <a:srgbClr val="0025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1835280" y="1341360"/>
            <a:ext cx="576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The Process of Dissolv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284720" y="685800"/>
            <a:ext cx="4338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particles in a material stay together because they are attracted to each ot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ugar dissolves in water because the water particles attract a sugar particle more strongly than the other sugar particles around it c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0" name="Group 3"/>
          <p:cNvGrpSpPr/>
          <p:nvPr/>
        </p:nvGrpSpPr>
        <p:grpSpPr>
          <a:xfrm>
            <a:off x="250920" y="1600200"/>
            <a:ext cx="4267080" cy="2895480"/>
            <a:chOff x="250920" y="1600200"/>
            <a:chExt cx="4267080" cy="2895480"/>
          </a:xfrm>
        </p:grpSpPr>
        <p:pic>
          <p:nvPicPr>
            <p:cNvPr id="261" name="Picture 4" descr=""/>
            <p:cNvPicPr/>
            <p:nvPr/>
          </p:nvPicPr>
          <p:blipFill>
            <a:blip r:embed="rId1"/>
            <a:stretch/>
          </p:blipFill>
          <p:spPr>
            <a:xfrm>
              <a:off x="250920" y="1600200"/>
              <a:ext cx="4167360" cy="287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Rectangle 5"/>
            <p:cNvSpPr/>
            <p:nvPr/>
          </p:nvSpPr>
          <p:spPr>
            <a:xfrm>
              <a:off x="3832200" y="4191120"/>
              <a:ext cx="685800" cy="304560"/>
            </a:xfrm>
            <a:prstGeom prst="rect">
              <a:avLst/>
            </a:prstGeom>
            <a:solidFill>
              <a:srgbClr val="0025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4876920" y="685800"/>
            <a:ext cx="3943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water particles attract the outside sugar partic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Group 3"/>
          <p:cNvGrpSpPr/>
          <p:nvPr/>
        </p:nvGrpSpPr>
        <p:grpSpPr>
          <a:xfrm>
            <a:off x="444600" y="1600200"/>
            <a:ext cx="4279680" cy="2895480"/>
            <a:chOff x="444600" y="1600200"/>
            <a:chExt cx="4279680" cy="2895480"/>
          </a:xfrm>
        </p:grpSpPr>
        <p:pic>
          <p:nvPicPr>
            <p:cNvPr id="265" name="Picture 4" descr=""/>
            <p:cNvPicPr/>
            <p:nvPr/>
          </p:nvPicPr>
          <p:blipFill>
            <a:blip r:embed="rId1"/>
            <a:stretch/>
          </p:blipFill>
          <p:spPr>
            <a:xfrm>
              <a:off x="444600" y="1600200"/>
              <a:ext cx="4167000" cy="287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Rectangle 5"/>
            <p:cNvSpPr/>
            <p:nvPr/>
          </p:nvSpPr>
          <p:spPr>
            <a:xfrm>
              <a:off x="4038480" y="4191120"/>
              <a:ext cx="685800" cy="304560"/>
            </a:xfrm>
            <a:prstGeom prst="rect">
              <a:avLst/>
            </a:prstGeom>
            <a:solidFill>
              <a:srgbClr val="0025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876920" y="685800"/>
            <a:ext cx="37465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n the motion of the water particles carries them aw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457200" y="1600200"/>
            <a:ext cx="4267080" cy="2895480"/>
            <a:chOff x="457200" y="1600200"/>
            <a:chExt cx="4267080" cy="2895480"/>
          </a:xfrm>
        </p:grpSpPr>
        <p:pic>
          <p:nvPicPr>
            <p:cNvPr id="269" name="Picture 4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167360" cy="287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Rectangle 5"/>
            <p:cNvSpPr/>
            <p:nvPr/>
          </p:nvSpPr>
          <p:spPr>
            <a:xfrm>
              <a:off x="4038480" y="4191120"/>
              <a:ext cx="685800" cy="304560"/>
            </a:xfrm>
            <a:prstGeom prst="rect">
              <a:avLst/>
            </a:prstGeom>
            <a:solidFill>
              <a:srgbClr val="0025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17:59:29Z</dcterms:created>
  <dc:creator>Administrator</dc:creator>
  <dc:description/>
  <dc:language>en-US</dc:language>
  <cp:lastModifiedBy>Robert.Gellert</cp:lastModifiedBy>
  <dcterms:modified xsi:type="dcterms:W3CDTF">2010-04-29T12:16:38Z</dcterms:modified>
  <cp:revision>18</cp:revision>
  <dc:subject/>
  <dc:title>Chapter 5 – Solutions </dc:title>
</cp:coreProperties>
</file>