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1F83-24CE-477B-94E5-7BF3A308C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F60E-CF5F-4B77-91EB-164BD9D905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4D8A-4EB8-4821-A11B-7A0B7CE75B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762C-7A42-4620-9661-99062C6381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F541-B313-4AC4-BE2E-0080C16CAE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F019-89FA-49A0-8401-DAA581A6BB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2200-146F-46AD-B596-D5CE4F6271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5587-4888-4FA1-99A5-D832DCECC9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D2B5-B719-4EF8-AFCE-2F90BF4A1D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02AC-9420-4493-86D1-57D274335E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553A-71A9-42F0-AF88-06F359AF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3006-7CFC-4C51-AFDB-7B3C0D4F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E9E-D0C7-4F48-BD8B-8F3B2748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4A9-DC6E-489E-8238-B78B4762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4F39-B5A0-471F-B005-4225A440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92A3-66DF-4BE9-AC06-1E09B50E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C409-4847-4E85-AE55-DD764B4D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9CE2-19A0-49EF-A9F2-DC0E3356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B374-1059-4047-AF65-1D7FBB1E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46FD-3B54-467F-8CEB-02C9B3D6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CCFB-7F78-48B6-93B6-AF1289BD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0D7-ECA5-422D-AC57-EA672703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17FC-9970-43A4-9453-87CC017C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6B2C-AD70-4EB3-81BC-BA782F52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6597-D4F3-44AB-985F-3CBE0468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FD13-993D-4D63-8110-B746C702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2361-BA37-4DAA-BF2C-D6EB5B07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FB0-A6E0-4204-99FE-3B69C1A3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C75-A587-41A0-8BD5-0D31B6B1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7E97-A731-4068-ACCA-C1F9417B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5F5-EBE4-4DC1-BA19-77CD4300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B00-75BE-4F68-9071-9C7A1CE4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1E9-5092-4661-B0E0-2DAB8660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DAB-E6B5-40F9-8F18-AB216BD9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AE9E-ECD6-4F4C-AF4C-88F6DD1BB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29B1-71D9-4EB0-B1F0-0A65FAAB39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dissolving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c0c0"/>
                </a:solidFill>
                <a:latin typeface="Arial"/>
              </a:rPr>
              <a:t>Chapter 5 – Solutions 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ce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800600" y="765000"/>
            <a:ext cx="3746520" cy="33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makes room for more water particles to move in and attract more sugar parti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process continues until all of the sugar is dissol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444600" y="1600200"/>
            <a:ext cx="4279680" cy="2895480"/>
            <a:chOff x="444600" y="1600200"/>
            <a:chExt cx="4279680" cy="2895480"/>
          </a:xfrm>
        </p:grpSpPr>
        <p:pic>
          <p:nvPicPr>
            <p:cNvPr id="273" name="Picture 4" descr=""/>
            <p:cNvPicPr/>
            <p:nvPr/>
          </p:nvPicPr>
          <p:blipFill>
            <a:blip r:embed="rId1"/>
            <a:stretch/>
          </p:blipFill>
          <p:spPr>
            <a:xfrm>
              <a:off x="444600" y="1600200"/>
              <a:ext cx="416700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Rectangle 5"/>
            <p:cNvSpPr/>
            <p:nvPr/>
          </p:nvSpPr>
          <p:spPr>
            <a:xfrm>
              <a:off x="4038480" y="4191120"/>
              <a:ext cx="685800" cy="304560"/>
            </a:xfrm>
            <a:prstGeom prst="rect">
              <a:avLst/>
            </a:prstGeom>
            <a:solidFill>
              <a:srgbClr val="002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Rectangle 6"/>
          <p:cNvSpPr/>
          <p:nvPr/>
        </p:nvSpPr>
        <p:spPr>
          <a:xfrm>
            <a:off x="5397480" y="4221000"/>
            <a:ext cx="3746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solut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dissolves in the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ol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971640" y="836640"/>
            <a:ext cx="6985080" cy="3456000"/>
            <a:chOff x="971640" y="836640"/>
            <a:chExt cx="6985080" cy="3456000"/>
          </a:xfrm>
        </p:grpSpPr>
        <p:grpSp>
          <p:nvGrpSpPr>
            <p:cNvPr id="278" name="Group 4"/>
            <p:cNvGrpSpPr/>
            <p:nvPr/>
          </p:nvGrpSpPr>
          <p:grpSpPr>
            <a:xfrm>
              <a:off x="1906920" y="836640"/>
              <a:ext cx="4473360" cy="3456000"/>
              <a:chOff x="1906920" y="836640"/>
              <a:chExt cx="4473360" cy="3456000"/>
            </a:xfrm>
          </p:grpSpPr>
          <p:grpSp>
            <p:nvGrpSpPr>
              <p:cNvPr id="279" name="Group 5"/>
              <p:cNvGrpSpPr/>
              <p:nvPr/>
            </p:nvGrpSpPr>
            <p:grpSpPr>
              <a:xfrm>
                <a:off x="2100600" y="1181160"/>
                <a:ext cx="4279680" cy="2895480"/>
                <a:chOff x="2100600" y="1181160"/>
                <a:chExt cx="4279680" cy="2895480"/>
              </a:xfrm>
            </p:grpSpPr>
            <p:pic>
              <p:nvPicPr>
                <p:cNvPr id="280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00600" y="1181160"/>
                  <a:ext cx="4167000" cy="287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Rectangle 7"/>
                <p:cNvSpPr/>
                <p:nvPr/>
              </p:nvSpPr>
              <p:spPr>
                <a:xfrm>
                  <a:off x="5694480" y="3772080"/>
                  <a:ext cx="685800" cy="304560"/>
                </a:xfrm>
                <a:prstGeom prst="rect">
                  <a:avLst/>
                </a:prstGeom>
                <a:solidFill>
                  <a:srgbClr val="0025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Rectangle 8"/>
              <p:cNvSpPr/>
              <p:nvPr/>
            </p:nvSpPr>
            <p:spPr>
              <a:xfrm>
                <a:off x="1906920" y="836640"/>
                <a:ext cx="1081080" cy="3456000"/>
              </a:xfrm>
              <a:prstGeom prst="rect">
                <a:avLst/>
              </a:prstGeom>
              <a:solidFill>
                <a:srgbClr val="00254a"/>
              </a:solidFill>
              <a:ln w="9360">
                <a:solidFill>
                  <a:srgbClr val="0025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AutoShape 9"/>
            <p:cNvSpPr/>
            <p:nvPr/>
          </p:nvSpPr>
          <p:spPr>
            <a:xfrm rot="3848400">
              <a:off x="5506920" y="981000"/>
              <a:ext cx="360360" cy="2087640"/>
            </a:xfrm>
            <a:prstGeom prst="downArrow">
              <a:avLst>
                <a:gd name="adj1" fmla="val 50000"/>
                <a:gd name="adj2" fmla="val 14483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10"/>
            <p:cNvSpPr/>
            <p:nvPr/>
          </p:nvSpPr>
          <p:spPr>
            <a:xfrm>
              <a:off x="6588360" y="12448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Rockwell Extra Bold"/>
                </a:rPr>
                <a:t>solu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AutoShape 11"/>
            <p:cNvSpPr/>
            <p:nvPr/>
          </p:nvSpPr>
          <p:spPr>
            <a:xfrm rot="16200000">
              <a:off x="2270880" y="2324520"/>
              <a:ext cx="360360" cy="1511280"/>
            </a:xfrm>
            <a:prstGeom prst="downArrow">
              <a:avLst>
                <a:gd name="adj1" fmla="val 50000"/>
                <a:gd name="adj2" fmla="val 104845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Text Box 12"/>
            <p:cNvSpPr/>
            <p:nvPr/>
          </p:nvSpPr>
          <p:spPr>
            <a:xfrm>
              <a:off x="971640" y="254016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Rockwell Extra Bold"/>
                </a:rPr>
                <a:t>solv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Rectangle 13"/>
          <p:cNvSpPr/>
          <p:nvPr/>
        </p:nvSpPr>
        <p:spPr>
          <a:xfrm>
            <a:off x="250920" y="4292640"/>
            <a:ext cx="8243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re is always more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olvent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an 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solut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in a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lu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s the substance that dissolves in a solvent to form a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There is usually less solute than solvent in a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lv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s the substance that dissolves a solute to form a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There is usually more solvent in a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lu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eans able to dissolve in a particular solv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sugar is soluble in water, or we can also say that sugar dissolves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olu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eans not able to be dissolved in a particular sol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y mixing materials together does not always make a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Section 5.2- Water in the environment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Distillation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: is a method for separating the parts of a liquid solution.  In distillation, the solvent is heated to change it to a gas, then condensed to a liquid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Condensation: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is the change from a gas to a liquid. Because the solutes do not change state, they remain behi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 u="sng">
                <a:solidFill>
                  <a:srgbClr val="ffffff"/>
                </a:solidFill>
                <a:uFillTx/>
                <a:latin typeface="Arial Rounded MT Bold"/>
              </a:rPr>
              <a:t>Hard vs Soft Wate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Hard water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: water that contains a lot of dissolved miner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Soft water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: water with few dissolved miner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Desalination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: means removing the salt from salty water. In parts of the world, desalination must occur to provide drinking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 u="sng">
                <a:solidFill>
                  <a:srgbClr val="c0c0c0"/>
                </a:solidFill>
                <a:uFillTx/>
                <a:latin typeface="Arial"/>
              </a:rPr>
              <a:t>5.3 – Sugar in substance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360" y="1674360"/>
            <a:ext cx="75438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lute s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a solution that contains very little solu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centrated s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 solution that contains a lot of solute for the amount of sol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4" descr="MPj04090070000[1]"/>
          <p:cNvPicPr/>
          <p:nvPr/>
        </p:nvPicPr>
        <p:blipFill>
          <a:blip r:embed="rId1"/>
          <a:stretch/>
        </p:blipFill>
        <p:spPr>
          <a:xfrm>
            <a:off x="7010280" y="4419720"/>
            <a:ext cx="1627200" cy="2133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MPj04089740000[1]"/>
          <p:cNvPicPr/>
          <p:nvPr/>
        </p:nvPicPr>
        <p:blipFill>
          <a:blip r:embed="rId2"/>
          <a:stretch/>
        </p:blipFill>
        <p:spPr>
          <a:xfrm>
            <a:off x="533520" y="487692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MCj02961400000[1]"/>
          <p:cNvPicPr/>
          <p:nvPr/>
        </p:nvPicPr>
        <p:blipFill>
          <a:blip r:embed="rId3"/>
          <a:stretch/>
        </p:blipFill>
        <p:spPr>
          <a:xfrm>
            <a:off x="7391520" y="1752480"/>
            <a:ext cx="152388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c0c0c0"/>
                </a:solidFill>
                <a:uFillTx/>
                <a:latin typeface="Arial"/>
              </a:rPr>
              <a:t>The particles theory Review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tter is made up of extremely  tiny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ure substance has its own kind of particle, different from the particles of other pure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 attract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 are always mo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 at a higher (warmer) temperature are moving faster than particles at a lower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Organization Chart 2"/>
          <p:cNvGrpSpPr/>
          <p:nvPr/>
        </p:nvGrpSpPr>
        <p:grpSpPr>
          <a:xfrm>
            <a:off x="304920" y="271440"/>
            <a:ext cx="8609760" cy="6415920"/>
            <a:chOff x="304920" y="271440"/>
            <a:chExt cx="8609760" cy="6415920"/>
          </a:xfrm>
        </p:grpSpPr>
        <p:cxnSp>
          <p:nvCxnSpPr>
            <p:cNvPr id="302" name="_s1028"/>
            <p:cNvCxnSpPr>
              <a:stCxn id="303" idx="1"/>
              <a:endCxn id="304" idx="2"/>
            </p:cNvCxnSpPr>
            <p:nvPr/>
          </p:nvCxnSpPr>
          <p:spPr>
            <a:xfrm rot="10800000">
              <a:off x="4406760" y="4422240"/>
              <a:ext cx="407880" cy="1887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5" name="_s1029"/>
            <p:cNvCxnSpPr>
              <a:stCxn id="306" idx="1"/>
              <a:endCxn id="304" idx="2"/>
            </p:cNvCxnSpPr>
            <p:nvPr/>
          </p:nvCxnSpPr>
          <p:spPr>
            <a:xfrm rot="10800000">
              <a:off x="4406760" y="4422240"/>
              <a:ext cx="407880" cy="755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7" name="_s1030"/>
            <p:cNvCxnSpPr>
              <a:stCxn id="304" idx="1"/>
              <a:endCxn id="308" idx="2"/>
            </p:cNvCxnSpPr>
            <p:nvPr/>
          </p:nvCxnSpPr>
          <p:spPr>
            <a:xfrm rot="10800000">
              <a:off x="2766600" y="3290040"/>
              <a:ext cx="410400" cy="757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9" name="_s1031"/>
            <p:cNvCxnSpPr>
              <a:stCxn id="310" idx="1"/>
              <a:endCxn id="311" idx="2"/>
            </p:cNvCxnSpPr>
            <p:nvPr/>
          </p:nvCxnSpPr>
          <p:spPr>
            <a:xfrm rot="10800000">
              <a:off x="6044040" y="3290040"/>
              <a:ext cx="410400" cy="757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2" name="_s1032"/>
            <p:cNvCxnSpPr>
              <a:stCxn id="311" idx="0"/>
              <a:endCxn id="313" idx="2"/>
            </p:cNvCxnSpPr>
            <p:nvPr/>
          </p:nvCxnSpPr>
          <p:spPr>
            <a:xfrm flipV="1" rot="16200000">
              <a:off x="5035680" y="1526760"/>
              <a:ext cx="378000" cy="1640520"/>
            </a:xfrm>
            <a:prstGeom prst="bentConnector3">
              <a:avLst>
                <a:gd name="adj1" fmla="val 30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4" name="_s1033"/>
            <p:cNvCxnSpPr>
              <a:stCxn id="308" idx="0"/>
              <a:endCxn id="313" idx="2"/>
            </p:cNvCxnSpPr>
            <p:nvPr/>
          </p:nvCxnSpPr>
          <p:spPr>
            <a:xfrm flipH="1" flipV="1" rot="5400000">
              <a:off x="3396960" y="1528200"/>
              <a:ext cx="378000" cy="1638000"/>
            </a:xfrm>
            <a:prstGeom prst="bentConnector3">
              <a:avLst>
                <a:gd name="adj1" fmla="val 30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5" name="_s1034"/>
            <p:cNvCxnSpPr>
              <a:stCxn id="313" idx="0"/>
              <a:endCxn id="316" idx="2"/>
            </p:cNvCxnSpPr>
            <p:nvPr/>
          </p:nvCxnSpPr>
          <p:spPr>
            <a:xfrm flipV="1" rot="16200000">
              <a:off x="3498120" y="496800"/>
              <a:ext cx="378000" cy="1435320"/>
            </a:xfrm>
            <a:prstGeom prst="bentConnector3">
              <a:avLst>
                <a:gd name="adj1" fmla="val 30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7" name="_s1035"/>
            <p:cNvCxnSpPr>
              <a:stCxn id="318" idx="0"/>
              <a:endCxn id="316" idx="2"/>
            </p:cNvCxnSpPr>
            <p:nvPr/>
          </p:nvCxnSpPr>
          <p:spPr>
            <a:xfrm flipH="1" flipV="1" rot="5400000">
              <a:off x="2062800" y="496800"/>
              <a:ext cx="378000" cy="1435680"/>
            </a:xfrm>
            <a:prstGeom prst="bentConnector3">
              <a:avLst>
                <a:gd name="adj1" fmla="val 30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6" name="_s1036"/>
            <p:cNvSpPr/>
            <p:nvPr/>
          </p:nvSpPr>
          <p:spPr>
            <a:xfrm>
              <a:off x="1740240" y="2714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 u="sng">
                  <a:solidFill>
                    <a:srgbClr val="00080c"/>
                  </a:solidFill>
                  <a:uFillTx/>
                  <a:latin typeface="Arial"/>
                </a:rPr>
                <a:t>MATTER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solid,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liquid or ga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_s1037"/>
            <p:cNvSpPr/>
            <p:nvPr/>
          </p:nvSpPr>
          <p:spPr>
            <a:xfrm>
              <a:off x="304920" y="14036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Pure Substanc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_s1038"/>
            <p:cNvSpPr/>
            <p:nvPr/>
          </p:nvSpPr>
          <p:spPr>
            <a:xfrm>
              <a:off x="3174840" y="14036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Mixtur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_s1039"/>
            <p:cNvSpPr/>
            <p:nvPr/>
          </p:nvSpPr>
          <p:spPr>
            <a:xfrm>
              <a:off x="1537200" y="25358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Homogeneou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_s1040"/>
            <p:cNvSpPr/>
            <p:nvPr/>
          </p:nvSpPr>
          <p:spPr>
            <a:xfrm>
              <a:off x="4815000" y="25358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Heterogeneou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_s1041"/>
            <p:cNvSpPr/>
            <p:nvPr/>
          </p:nvSpPr>
          <p:spPr>
            <a:xfrm>
              <a:off x="6454800" y="36680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Mechanical</a:t>
              </a:r>
              <a:r>
                <a:rPr b="1" lang="fr-CA" sz="1900" spc="-1" strike="noStrike">
                  <a:solidFill>
                    <a:srgbClr val="000000"/>
                  </a:solidFill>
                  <a:latin typeface="Arial"/>
                </a:rPr>
                <a:t> Mixtur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_s1042"/>
            <p:cNvSpPr/>
            <p:nvPr/>
          </p:nvSpPr>
          <p:spPr>
            <a:xfrm>
              <a:off x="3177360" y="3668040"/>
              <a:ext cx="245736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9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r>
                <a:rPr b="0" lang="fr-CA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_s1043"/>
            <p:cNvSpPr/>
            <p:nvPr/>
          </p:nvSpPr>
          <p:spPr>
            <a:xfrm>
              <a:off x="4815000" y="480060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olu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_s1044"/>
            <p:cNvSpPr/>
            <p:nvPr/>
          </p:nvSpPr>
          <p:spPr>
            <a:xfrm>
              <a:off x="4815000" y="593280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olvent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9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What makes materials dissolve?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Dissolving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: Forming a solution by mixing two or more materia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ixing materials together do not always make a solution (they make a mechanical mixtur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r example: If you mix water and cooking oil, they two substance do not combine into one. Same as if you mix water and sand, the sand will not dissolve (disappea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 Rounded MT Bold"/>
              </a:rPr>
              <a:t>Particle</a:t>
            </a:r>
            <a:r>
              <a:rPr b="1" lang="fr-CA" sz="4400" spc="-1" strike="noStrike" u="sng">
                <a:solidFill>
                  <a:srgbClr val="ffffff"/>
                </a:solidFill>
                <a:uFillTx/>
                <a:latin typeface="Arial Rounded MT Bold"/>
              </a:rPr>
              <a:t> attraction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In liquids and gas solutions, the particles gradually move around and mix evenly throughout the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articles attract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articles are always mov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62064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 u="sng">
                <a:solidFill>
                  <a:srgbClr val="ffffff"/>
                </a:solidFill>
                <a:uFillTx/>
                <a:latin typeface="Tahoma"/>
              </a:rPr>
              <a:t>Particle Theory of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533520" y="1752480"/>
            <a:ext cx="76327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tter is made of extremely small p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articles ar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alway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o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moving matter"/>
          <p:cNvPicPr/>
          <p:nvPr/>
        </p:nvPicPr>
        <p:blipFill>
          <a:blip r:embed="rId1"/>
          <a:stretch/>
        </p:blipFill>
        <p:spPr>
          <a:xfrm>
            <a:off x="2498760" y="3068640"/>
            <a:ext cx="36576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287280" y="368280"/>
            <a:ext cx="8532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orming a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olu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by mixing two or more materials is called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dissolving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the Kool-aid dissolves in the wa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2119680" y="2578680"/>
            <a:ext cx="5341320" cy="3513960"/>
            <a:chOff x="2119680" y="2578680"/>
            <a:chExt cx="5341320" cy="3513960"/>
          </a:xfrm>
        </p:grpSpPr>
        <p:pic>
          <p:nvPicPr>
            <p:cNvPr id="229" name="Picture 4" descr=""/>
            <p:cNvPicPr/>
            <p:nvPr/>
          </p:nvPicPr>
          <p:blipFill>
            <a:blip r:embed="rId1"/>
            <a:stretch/>
          </p:blipFill>
          <p:spPr>
            <a:xfrm>
              <a:off x="3570480" y="4569120"/>
              <a:ext cx="2414880" cy="15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5" descr="beakerwater"/>
            <p:cNvPicPr/>
            <p:nvPr/>
          </p:nvPicPr>
          <p:blipFill>
            <a:blip r:embed="rId2"/>
            <a:stretch/>
          </p:blipFill>
          <p:spPr>
            <a:xfrm rot="19222800">
              <a:off x="2401560" y="3002040"/>
              <a:ext cx="1892160" cy="15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6" descr="koolaid"/>
            <p:cNvPicPr/>
            <p:nvPr/>
          </p:nvPicPr>
          <p:blipFill>
            <a:blip r:embed="rId3"/>
            <a:stretch/>
          </p:blipFill>
          <p:spPr>
            <a:xfrm rot="2151000">
              <a:off x="5740920" y="2945880"/>
              <a:ext cx="15674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Oval 7"/>
            <p:cNvSpPr/>
            <p:nvPr/>
          </p:nvSpPr>
          <p:spPr>
            <a:xfrm>
              <a:off x="5406120" y="3556800"/>
              <a:ext cx="53640" cy="53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8"/>
            <p:cNvSpPr/>
            <p:nvPr/>
          </p:nvSpPr>
          <p:spPr>
            <a:xfrm>
              <a:off x="5462640" y="3779640"/>
              <a:ext cx="55080" cy="5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9"/>
            <p:cNvSpPr/>
            <p:nvPr/>
          </p:nvSpPr>
          <p:spPr>
            <a:xfrm>
              <a:off x="5352120" y="3724200"/>
              <a:ext cx="53640" cy="55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10"/>
            <p:cNvSpPr/>
            <p:nvPr/>
          </p:nvSpPr>
          <p:spPr>
            <a:xfrm>
              <a:off x="5406120" y="3944880"/>
              <a:ext cx="5364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11"/>
            <p:cNvSpPr/>
            <p:nvPr/>
          </p:nvSpPr>
          <p:spPr>
            <a:xfrm>
              <a:off x="5295960" y="3890880"/>
              <a:ext cx="5508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12"/>
            <p:cNvSpPr/>
            <p:nvPr/>
          </p:nvSpPr>
          <p:spPr>
            <a:xfrm>
              <a:off x="5575680" y="3724200"/>
              <a:ext cx="53640" cy="55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3"/>
            <p:cNvSpPr/>
            <p:nvPr/>
          </p:nvSpPr>
          <p:spPr>
            <a:xfrm>
              <a:off x="5462640" y="3666960"/>
              <a:ext cx="5508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14"/>
            <p:cNvSpPr/>
            <p:nvPr/>
          </p:nvSpPr>
          <p:spPr>
            <a:xfrm>
              <a:off x="5519160" y="3889440"/>
              <a:ext cx="55080" cy="58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15"/>
            <p:cNvSpPr/>
            <p:nvPr/>
          </p:nvSpPr>
          <p:spPr>
            <a:xfrm>
              <a:off x="5352120" y="4167360"/>
              <a:ext cx="53640" cy="58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16"/>
            <p:cNvSpPr/>
            <p:nvPr/>
          </p:nvSpPr>
          <p:spPr>
            <a:xfrm>
              <a:off x="5462640" y="4057560"/>
              <a:ext cx="55080" cy="5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7"/>
            <p:cNvSpPr/>
            <p:nvPr/>
          </p:nvSpPr>
          <p:spPr>
            <a:xfrm>
              <a:off x="5519160" y="3500280"/>
              <a:ext cx="5508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8"/>
            <p:cNvSpPr/>
            <p:nvPr/>
          </p:nvSpPr>
          <p:spPr>
            <a:xfrm>
              <a:off x="5184000" y="4389120"/>
              <a:ext cx="53640" cy="5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>
              <a:off x="5297040" y="4334040"/>
              <a:ext cx="5508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20"/>
            <p:cNvSpPr/>
            <p:nvPr/>
          </p:nvSpPr>
          <p:spPr>
            <a:xfrm>
              <a:off x="5240520" y="4223880"/>
              <a:ext cx="55080" cy="55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21"/>
            <p:cNvSpPr/>
            <p:nvPr/>
          </p:nvSpPr>
          <p:spPr>
            <a:xfrm>
              <a:off x="5295960" y="4057560"/>
              <a:ext cx="55080" cy="5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22"/>
            <p:cNvSpPr/>
            <p:nvPr/>
          </p:nvSpPr>
          <p:spPr>
            <a:xfrm>
              <a:off x="5184000" y="4112280"/>
              <a:ext cx="53640" cy="53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23"/>
            <p:cNvSpPr/>
            <p:nvPr/>
          </p:nvSpPr>
          <p:spPr>
            <a:xfrm>
              <a:off x="5128920" y="4280040"/>
              <a:ext cx="55080" cy="55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5073480" y="4445280"/>
              <a:ext cx="55080" cy="58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25"/>
            <p:cNvSpPr/>
            <p:nvPr/>
          </p:nvSpPr>
          <p:spPr>
            <a:xfrm>
              <a:off x="5184000" y="4500360"/>
              <a:ext cx="5364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rcRect l="17306" t="-1601" r="20267" b="0"/>
          <a:stretch/>
        </p:blipFill>
        <p:spPr>
          <a:xfrm>
            <a:off x="396720" y="2898720"/>
            <a:ext cx="1955880" cy="2232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rcRect l="17369" t="-3018" r="15504" b="0"/>
          <a:stretch/>
        </p:blipFill>
        <p:spPr>
          <a:xfrm>
            <a:off x="2484360" y="2970360"/>
            <a:ext cx="1944720" cy="21603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5199120" y="4935600"/>
            <a:ext cx="476280" cy="222120"/>
          </a:xfrm>
          <a:prstGeom prst="rect">
            <a:avLst/>
          </a:prstGeom>
          <a:solidFill>
            <a:srgbClr val="0025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3"/>
          <a:srcRect l="15296" t="3292" r="20922" b="0"/>
          <a:stretch/>
        </p:blipFill>
        <p:spPr>
          <a:xfrm>
            <a:off x="4429080" y="3041640"/>
            <a:ext cx="1800360" cy="20988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7431120" y="4713120"/>
            <a:ext cx="465120" cy="230400"/>
          </a:xfrm>
          <a:prstGeom prst="rect">
            <a:avLst/>
          </a:prstGeom>
          <a:solidFill>
            <a:srgbClr val="0025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4"/>
          <a:srcRect l="17300" t="2488" r="18780" b="0"/>
          <a:stretch/>
        </p:blipFill>
        <p:spPr>
          <a:xfrm>
            <a:off x="6407280" y="3041640"/>
            <a:ext cx="1909800" cy="2079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6437160" y="5587920"/>
            <a:ext cx="685800" cy="304920"/>
          </a:xfrm>
          <a:prstGeom prst="rect">
            <a:avLst/>
          </a:prstGeom>
          <a:solidFill>
            <a:srgbClr val="0025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1835280" y="1341360"/>
            <a:ext cx="57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Process of Dissolv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284720" y="685800"/>
            <a:ext cx="433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particles in a material stay together because they are attracted to each 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ugar dissolves in water because the water particles attract a sugar particle more strongly than the other sugar particles around it c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250920" y="1600200"/>
            <a:ext cx="4267080" cy="2895480"/>
            <a:chOff x="250920" y="1600200"/>
            <a:chExt cx="4267080" cy="2895480"/>
          </a:xfrm>
        </p:grpSpPr>
        <p:pic>
          <p:nvPicPr>
            <p:cNvPr id="261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1600200"/>
              <a:ext cx="416736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5"/>
            <p:cNvSpPr/>
            <p:nvPr/>
          </p:nvSpPr>
          <p:spPr>
            <a:xfrm>
              <a:off x="3832200" y="4191120"/>
              <a:ext cx="685800" cy="304560"/>
            </a:xfrm>
            <a:prstGeom prst="rect">
              <a:avLst/>
            </a:prstGeom>
            <a:solidFill>
              <a:srgbClr val="002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4876920" y="685800"/>
            <a:ext cx="3943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water particles attract the outside sugar parti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444600" y="1600200"/>
            <a:ext cx="4279680" cy="2895480"/>
            <a:chOff x="444600" y="1600200"/>
            <a:chExt cx="4279680" cy="2895480"/>
          </a:xfrm>
        </p:grpSpPr>
        <p:pic>
          <p:nvPicPr>
            <p:cNvPr id="265" name="Picture 4" descr=""/>
            <p:cNvPicPr/>
            <p:nvPr/>
          </p:nvPicPr>
          <p:blipFill>
            <a:blip r:embed="rId1"/>
            <a:stretch/>
          </p:blipFill>
          <p:spPr>
            <a:xfrm>
              <a:off x="444600" y="1600200"/>
              <a:ext cx="416700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5"/>
            <p:cNvSpPr/>
            <p:nvPr/>
          </p:nvSpPr>
          <p:spPr>
            <a:xfrm>
              <a:off x="4038480" y="4191120"/>
              <a:ext cx="685800" cy="304560"/>
            </a:xfrm>
            <a:prstGeom prst="rect">
              <a:avLst/>
            </a:prstGeom>
            <a:solidFill>
              <a:srgbClr val="002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876920" y="685800"/>
            <a:ext cx="3746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n the motion of the water particles carries them a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457200" y="1600200"/>
            <a:ext cx="4267080" cy="2895480"/>
            <a:chOff x="457200" y="1600200"/>
            <a:chExt cx="4267080" cy="2895480"/>
          </a:xfrm>
        </p:grpSpPr>
        <p:pic>
          <p:nvPicPr>
            <p:cNvPr id="269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16736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Rectangle 5"/>
            <p:cNvSpPr/>
            <p:nvPr/>
          </p:nvSpPr>
          <p:spPr>
            <a:xfrm>
              <a:off x="4038480" y="4191120"/>
              <a:ext cx="685800" cy="304560"/>
            </a:xfrm>
            <a:prstGeom prst="rect">
              <a:avLst/>
            </a:prstGeom>
            <a:solidFill>
              <a:srgbClr val="002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7:59:29Z</dcterms:created>
  <dc:creator>Administrator</dc:creator>
  <dc:description/>
  <dc:language>en-US</dc:language>
  <cp:lastModifiedBy>Robert.Gellert</cp:lastModifiedBy>
  <dcterms:modified xsi:type="dcterms:W3CDTF">2010-04-29T12:16:38Z</dcterms:modified>
  <cp:revision>18</cp:revision>
  <dc:subject/>
  <dc:title>Chapter 5 – Solutions </dc:title>
</cp:coreProperties>
</file>