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9B9D-D505-4606-9A89-131B311A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E322-5067-4EBC-BE3E-ECBEF9F28F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432D-2591-46E9-934E-56415C0FC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79AB-631D-4F7D-8540-0659D0CD1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053D-3B63-4BC2-BFF4-FCBB04496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454-6EC0-485B-A53C-2786FECF15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3B46-4D9C-4393-B9AC-EE3A3F6647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767-192E-47FA-AF94-0CA6ECA3A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A16C-37DA-4958-8F55-189A89DD3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0E4-6E3C-4287-88E6-BDBAEC0E32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866-3EA3-475B-8C12-A58D666F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E4E-DB18-44EE-B7E7-70FFE72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D0C-6AF5-4E1D-90D2-8268E730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D06-7FAE-4E9E-9403-C42608BD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7884-26BC-40E6-9BF8-F6CE4EA8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EA63-5733-4793-AB94-D01D9C08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8CF1-86D7-492D-A9BF-7196F9B7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419A-7D9D-4E54-97B9-BCA7D23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4342-5336-4651-A661-A877C9BC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492D-069B-4D71-BDC5-8ABF2C76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C13B-4F9D-4398-9D67-0D62B256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F70-AD69-485B-BC42-80820DF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3ED-1467-4466-B9A5-0F3F555F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FBEC-0FEA-4FB8-B7F8-7F2830F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9C32-248F-47FA-B35B-4E537A8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C36-65FE-4BB3-9B97-17DD5A9E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4BA-638B-48BA-BC40-8D4C4D80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CCF-A4E0-4020-BE77-D4E3C7C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FE0-A76F-44F9-9D0E-844C173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DC5-C136-4A0B-B134-67678862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605-495A-421A-9CC0-926B5A3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709-CD4A-4206-BF43-7AB966C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A6F-25F8-4DBF-A13F-B8D11F1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832-B045-4425-876A-71ED579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847-B6B5-4562-89FE-F7876A7D0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9B97-CB00-4DEA-B285-0210F12CC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dissolving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c0c0"/>
                </a:solidFill>
                <a:latin typeface="Arial"/>
              </a:rPr>
              <a:t>Chapter 5 – Solutions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800600" y="765000"/>
            <a:ext cx="37465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akes room for more water particles to move in and attract mor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process continues until all of the sugar is dis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73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Rectangle 6"/>
          <p:cNvSpPr/>
          <p:nvPr/>
        </p:nvSpPr>
        <p:spPr>
          <a:xfrm>
            <a:off x="5397480" y="4221000"/>
            <a:ext cx="3746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dissolves in th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71640" y="836640"/>
            <a:ext cx="6985080" cy="3456000"/>
            <a:chOff x="971640" y="836640"/>
            <a:chExt cx="6985080" cy="3456000"/>
          </a:xfrm>
        </p:grpSpPr>
        <p:grpSp>
          <p:nvGrpSpPr>
            <p:cNvPr id="278" name="Group 4"/>
            <p:cNvGrpSpPr/>
            <p:nvPr/>
          </p:nvGrpSpPr>
          <p:grpSpPr>
            <a:xfrm>
              <a:off x="1906920" y="836640"/>
              <a:ext cx="4473360" cy="3456000"/>
              <a:chOff x="1906920" y="836640"/>
              <a:chExt cx="4473360" cy="3456000"/>
            </a:xfrm>
          </p:grpSpPr>
          <p:grpSp>
            <p:nvGrpSpPr>
              <p:cNvPr id="279" name="Group 5"/>
              <p:cNvGrpSpPr/>
              <p:nvPr/>
            </p:nvGrpSpPr>
            <p:grpSpPr>
              <a:xfrm>
                <a:off x="2100600" y="1181160"/>
                <a:ext cx="4279680" cy="2895480"/>
                <a:chOff x="2100600" y="1181160"/>
                <a:chExt cx="4279680" cy="2895480"/>
              </a:xfrm>
            </p:grpSpPr>
            <p:pic>
              <p:nvPicPr>
                <p:cNvPr id="280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00600" y="1181160"/>
                  <a:ext cx="4167000" cy="28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7"/>
                <p:cNvSpPr/>
                <p:nvPr/>
              </p:nvSpPr>
              <p:spPr>
                <a:xfrm>
                  <a:off x="5694480" y="3772080"/>
                  <a:ext cx="685800" cy="304560"/>
                </a:xfrm>
                <a:prstGeom prst="rect">
                  <a:avLst/>
                </a:prstGeom>
                <a:solidFill>
                  <a:srgbClr val="0025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Rectangle 8"/>
              <p:cNvSpPr/>
              <p:nvPr/>
            </p:nvSpPr>
            <p:spPr>
              <a:xfrm>
                <a:off x="1906920" y="836640"/>
                <a:ext cx="1081080" cy="3456000"/>
              </a:xfrm>
              <a:prstGeom prst="rect">
                <a:avLst/>
              </a:prstGeom>
              <a:solidFill>
                <a:srgbClr val="00254a"/>
              </a:solidFill>
              <a:ln w="9360">
                <a:solidFill>
                  <a:srgbClr val="0025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AutoShape 9"/>
            <p:cNvSpPr/>
            <p:nvPr/>
          </p:nvSpPr>
          <p:spPr>
            <a:xfrm rot="3848400">
              <a:off x="5506920" y="981000"/>
              <a:ext cx="360360" cy="2087640"/>
            </a:xfrm>
            <a:prstGeom prst="downArrow">
              <a:avLst>
                <a:gd name="adj1" fmla="val 50000"/>
                <a:gd name="adj2" fmla="val 14483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6588360" y="12448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u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 rot="16200000">
              <a:off x="2270880" y="2324520"/>
              <a:ext cx="360360" cy="1511280"/>
            </a:xfrm>
            <a:prstGeom prst="downArrow">
              <a:avLst>
                <a:gd name="adj1" fmla="val 50000"/>
                <a:gd name="adj2" fmla="val 10484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2"/>
            <p:cNvSpPr/>
            <p:nvPr/>
          </p:nvSpPr>
          <p:spPr>
            <a:xfrm>
              <a:off x="971640" y="25401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Rockwell Extra Bold"/>
                </a:rPr>
                <a:t>sol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Rectangle 13"/>
          <p:cNvSpPr/>
          <p:nvPr/>
        </p:nvSpPr>
        <p:spPr>
          <a:xfrm>
            <a:off x="250920" y="4292640"/>
            <a:ext cx="82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re is always more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olvent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an 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olut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n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in a solvent to form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less solute than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s the substance that dissolves a solute to form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There is usually more solvent in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able to dissolve in a particular sol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sugar is soluble in water, or we can also say that sugar dissolves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olu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ans not able to be dissolved in a particular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mixing materials together does not always make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Section 5.2- Water in the environment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istill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is a method for separating the parts of a liquid solution.  In distillation, the solvent is heated to change it to a gas, then condensed to a liquid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Condensation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is the change from a gas to a liquid. Because the solutes do not change state, they remain beh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vs Soft Wate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Hard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that contains a lot of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Soft water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water with few dissolved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Desalin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: means removing the salt from salty water. In parts of the world, desalination must occur to provide drink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 u="sng">
                <a:solidFill>
                  <a:srgbClr val="c0c0c0"/>
                </a:solidFill>
                <a:uFillTx/>
                <a:latin typeface="Arial"/>
              </a:rPr>
              <a:t>5.3 – Sugar in substa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360" y="1674360"/>
            <a:ext cx="75438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lute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 solution that contains very little sol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ed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solution that contains a lot of solute for the amount of sol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MPj04090070000[1]"/>
          <p:cNvPicPr/>
          <p:nvPr/>
        </p:nvPicPr>
        <p:blipFill>
          <a:blip r:embed="rId1"/>
          <a:stretch/>
        </p:blipFill>
        <p:spPr>
          <a:xfrm>
            <a:off x="7010280" y="4419720"/>
            <a:ext cx="1627200" cy="21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Pj04089740000[1]"/>
          <p:cNvPicPr/>
          <p:nvPr/>
        </p:nvPicPr>
        <p:blipFill>
          <a:blip r:embed="rId2"/>
          <a:stretch/>
        </p:blipFill>
        <p:spPr>
          <a:xfrm>
            <a:off x="533520" y="4876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MCj02961400000[1]"/>
          <p:cNvPicPr/>
          <p:nvPr/>
        </p:nvPicPr>
        <p:blipFill>
          <a:blip r:embed="rId3"/>
          <a:stretch/>
        </p:blipFill>
        <p:spPr>
          <a:xfrm>
            <a:off x="7391520" y="1752480"/>
            <a:ext cx="15238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c0c0"/>
                </a:solidFill>
                <a:uFillTx/>
                <a:latin typeface="Arial"/>
              </a:rPr>
              <a:t>The particles theory Review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tter is made up of extremely  tiny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ure substance has its own kind of particle, different from the particles of other pu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always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t a higher (warmer) temperature are moving faster than particles at a lower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2"/>
          <p:cNvGrpSpPr/>
          <p:nvPr/>
        </p:nvGrpSpPr>
        <p:grpSpPr>
          <a:xfrm>
            <a:off x="304920" y="271440"/>
            <a:ext cx="8609760" cy="6415920"/>
            <a:chOff x="304920" y="271440"/>
            <a:chExt cx="8609760" cy="6415920"/>
          </a:xfrm>
        </p:grpSpPr>
        <p:cxnSp>
          <p:nvCxnSpPr>
            <p:cNvPr id="302" name="_s1028"/>
            <p:cNvCxnSpPr>
              <a:stCxn id="303" idx="1"/>
              <a:endCxn id="304" idx="2"/>
            </p:cNvCxnSpPr>
            <p:nvPr/>
          </p:nvCxnSpPr>
          <p:spPr>
            <a:xfrm rot="10800000">
              <a:off x="4406760" y="4422240"/>
              <a:ext cx="407880" cy="188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1029"/>
            <p:cNvCxnSpPr>
              <a:stCxn id="306" idx="1"/>
              <a:endCxn id="304" idx="2"/>
            </p:cNvCxnSpPr>
            <p:nvPr/>
          </p:nvCxnSpPr>
          <p:spPr>
            <a:xfrm rot="10800000">
              <a:off x="4406760" y="4422240"/>
              <a:ext cx="407880" cy="755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1030"/>
            <p:cNvCxnSpPr>
              <a:stCxn id="304" idx="1"/>
              <a:endCxn id="308" idx="2"/>
            </p:cNvCxnSpPr>
            <p:nvPr/>
          </p:nvCxnSpPr>
          <p:spPr>
            <a:xfrm rot="10800000">
              <a:off x="276660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1031"/>
            <p:cNvCxnSpPr>
              <a:stCxn id="310" idx="1"/>
              <a:endCxn id="311" idx="2"/>
            </p:cNvCxnSpPr>
            <p:nvPr/>
          </p:nvCxnSpPr>
          <p:spPr>
            <a:xfrm rot="10800000">
              <a:off x="6044040" y="3290040"/>
              <a:ext cx="410400" cy="7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1032"/>
            <p:cNvCxnSpPr>
              <a:stCxn id="311" idx="0"/>
              <a:endCxn id="313" idx="2"/>
            </p:cNvCxnSpPr>
            <p:nvPr/>
          </p:nvCxnSpPr>
          <p:spPr>
            <a:xfrm flipV="1" rot="16200000">
              <a:off x="5035680" y="1526760"/>
              <a:ext cx="378000" cy="16405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1033"/>
            <p:cNvCxnSpPr>
              <a:stCxn id="308" idx="0"/>
              <a:endCxn id="313" idx="2"/>
            </p:cNvCxnSpPr>
            <p:nvPr/>
          </p:nvCxnSpPr>
          <p:spPr>
            <a:xfrm flipH="1" flipV="1" rot="5400000">
              <a:off x="3396960" y="1528200"/>
              <a:ext cx="378000" cy="163800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5" name="_s1034"/>
            <p:cNvCxnSpPr>
              <a:stCxn id="313" idx="0"/>
              <a:endCxn id="316" idx="2"/>
            </p:cNvCxnSpPr>
            <p:nvPr/>
          </p:nvCxnSpPr>
          <p:spPr>
            <a:xfrm flipV="1" rot="16200000">
              <a:off x="3498120" y="496800"/>
              <a:ext cx="378000" cy="143532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1035"/>
            <p:cNvCxnSpPr>
              <a:stCxn id="318" idx="0"/>
              <a:endCxn id="316" idx="2"/>
            </p:cNvCxnSpPr>
            <p:nvPr/>
          </p:nvCxnSpPr>
          <p:spPr>
            <a:xfrm flipH="1" flipV="1" rot="5400000">
              <a:off x="2062800" y="496800"/>
              <a:ext cx="378000" cy="1435680"/>
            </a:xfrm>
            <a:prstGeom prst="bentConnector3">
              <a:avLst>
                <a:gd name="adj1" fmla="val 3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1036"/>
            <p:cNvSpPr/>
            <p:nvPr/>
          </p:nvSpPr>
          <p:spPr>
            <a:xfrm>
              <a:off x="1740240" y="2714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80c"/>
                  </a:solidFill>
                  <a:uFillTx/>
                  <a:latin typeface="Arial"/>
                </a:rPr>
                <a:t>MATTE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solid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liquid or g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1037"/>
            <p:cNvSpPr/>
            <p:nvPr/>
          </p:nvSpPr>
          <p:spPr>
            <a:xfrm>
              <a:off x="30492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3174840" y="14036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1039"/>
            <p:cNvSpPr/>
            <p:nvPr/>
          </p:nvSpPr>
          <p:spPr>
            <a:xfrm>
              <a:off x="15372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om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1040"/>
            <p:cNvSpPr/>
            <p:nvPr/>
          </p:nvSpPr>
          <p:spPr>
            <a:xfrm>
              <a:off x="4815000" y="25358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1041"/>
            <p:cNvSpPr/>
            <p:nvPr/>
          </p:nvSpPr>
          <p:spPr>
            <a:xfrm>
              <a:off x="6454800" y="366804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 Mixtu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1042"/>
            <p:cNvSpPr/>
            <p:nvPr/>
          </p:nvSpPr>
          <p:spPr>
            <a:xfrm>
              <a:off x="3177360" y="3668040"/>
              <a:ext cx="245736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9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r>
                <a:rPr b="0" lang="fr-CA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15000" y="48006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4815000" y="5932800"/>
              <a:ext cx="2459880" cy="7545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lv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makes materials dissolve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issolv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: Forming a solution by mixing two or more materi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ixing materials together do not always make a solution (they make a mechanical mixtur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r example: If you mix water and cooking oil, they two substance do not combine into one. Same as if you mix water and sand, the sand will not dissolve (disappea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</a:t>
            </a:r>
            <a:r>
              <a:rPr b="1" lang="fr-CA" sz="4400" spc="-1" strike="noStrike" u="sng">
                <a:solidFill>
                  <a:srgbClr val="ffffff"/>
                </a:solidFill>
                <a:uFillTx/>
                <a:latin typeface="Arial Rounded MT Bold"/>
              </a:rPr>
              <a:t> attrac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 liquids and gas solutions, the particles gradually move around and mix evenly throughout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ttra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icles are always mo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ffffff"/>
                </a:solidFill>
                <a:uFillTx/>
                <a:latin typeface="Tahoma"/>
              </a:rPr>
              <a:t>Particle Theory of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33520" y="1752480"/>
            <a:ext cx="7632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ter is made of extremely small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l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lway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moving matter"/>
          <p:cNvPicPr/>
          <p:nvPr/>
        </p:nvPicPr>
        <p:blipFill>
          <a:blip r:embed="rId1"/>
          <a:stretch/>
        </p:blipFill>
        <p:spPr>
          <a:xfrm>
            <a:off x="2498760" y="3068640"/>
            <a:ext cx="3657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87280" y="368280"/>
            <a:ext cx="853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ming a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by mixing two or more materials is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solv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the Kool-aid dissolves in the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119680" y="2578680"/>
            <a:ext cx="5341320" cy="3513960"/>
            <a:chOff x="2119680" y="2578680"/>
            <a:chExt cx="5341320" cy="3513960"/>
          </a:xfrm>
        </p:grpSpPr>
        <p:pic>
          <p:nvPicPr>
            <p:cNvPr id="229" name="Picture 4" descr=""/>
            <p:cNvPicPr/>
            <p:nvPr/>
          </p:nvPicPr>
          <p:blipFill>
            <a:blip r:embed="rId1"/>
            <a:stretch/>
          </p:blipFill>
          <p:spPr>
            <a:xfrm>
              <a:off x="3570480" y="4569120"/>
              <a:ext cx="241488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beakerwater"/>
            <p:cNvPicPr/>
            <p:nvPr/>
          </p:nvPicPr>
          <p:blipFill>
            <a:blip r:embed="rId2"/>
            <a:stretch/>
          </p:blipFill>
          <p:spPr>
            <a:xfrm rot="19222800">
              <a:off x="2401560" y="3002040"/>
              <a:ext cx="189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6" descr="koolaid"/>
            <p:cNvPicPr/>
            <p:nvPr/>
          </p:nvPicPr>
          <p:blipFill>
            <a:blip r:embed="rId3"/>
            <a:stretch/>
          </p:blipFill>
          <p:spPr>
            <a:xfrm rot="2151000">
              <a:off x="5740920" y="2945880"/>
              <a:ext cx="15674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7"/>
            <p:cNvSpPr/>
            <p:nvPr/>
          </p:nvSpPr>
          <p:spPr>
            <a:xfrm>
              <a:off x="5406120" y="355680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"/>
            <p:cNvSpPr/>
            <p:nvPr/>
          </p:nvSpPr>
          <p:spPr>
            <a:xfrm>
              <a:off x="5462640" y="377964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535212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5406120" y="394488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5295960" y="38908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"/>
            <p:cNvSpPr/>
            <p:nvPr/>
          </p:nvSpPr>
          <p:spPr>
            <a:xfrm>
              <a:off x="5575680" y="3724200"/>
              <a:ext cx="5364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5462640" y="366696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4"/>
            <p:cNvSpPr/>
            <p:nvPr/>
          </p:nvSpPr>
          <p:spPr>
            <a:xfrm>
              <a:off x="5519160" y="388944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5352120" y="4167360"/>
              <a:ext cx="5364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546264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5519160" y="350028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5184000" y="4389120"/>
              <a:ext cx="5364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5297040" y="4334040"/>
              <a:ext cx="5508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5240520" y="422388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5295960" y="4057560"/>
              <a:ext cx="55080" cy="5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5184000" y="4112280"/>
              <a:ext cx="53640" cy="5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5128920" y="4280040"/>
              <a:ext cx="55080" cy="5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5073480" y="4445280"/>
              <a:ext cx="55080" cy="58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184000" y="4500360"/>
              <a:ext cx="53640" cy="57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rcRect l="17306" t="-1601" r="20267" b="0"/>
          <a:stretch/>
        </p:blipFill>
        <p:spPr>
          <a:xfrm>
            <a:off x="396720" y="2898720"/>
            <a:ext cx="19558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rcRect l="17369" t="-3018" r="15504" b="0"/>
          <a:stretch/>
        </p:blipFill>
        <p:spPr>
          <a:xfrm>
            <a:off x="2484360" y="2970360"/>
            <a:ext cx="1944720" cy="216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5199120" y="4935600"/>
            <a:ext cx="476280" cy="2221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3"/>
          <a:srcRect l="15296" t="3292" r="20922" b="0"/>
          <a:stretch/>
        </p:blipFill>
        <p:spPr>
          <a:xfrm>
            <a:off x="4429080" y="3041640"/>
            <a:ext cx="1800360" cy="2098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7431120" y="4713120"/>
            <a:ext cx="465120" cy="23040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rcRect l="17300" t="2488" r="18780" b="0"/>
          <a:stretch/>
        </p:blipFill>
        <p:spPr>
          <a:xfrm>
            <a:off x="6407280" y="3041640"/>
            <a:ext cx="1909800" cy="2079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6437160" y="5587920"/>
            <a:ext cx="685800" cy="304920"/>
          </a:xfrm>
          <a:prstGeom prst="rect">
            <a:avLst/>
          </a:prstGeom>
          <a:solidFill>
            <a:srgbClr val="0025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835280" y="1341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Process of Dis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284720" y="685800"/>
            <a:ext cx="433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ticles in a material stay together because they are attracted to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gar dissolves in water because the water particles attract a sugar particle more strongly than the other sugar particles around it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250920" y="1600200"/>
            <a:ext cx="4267080" cy="2895480"/>
            <a:chOff x="250920" y="1600200"/>
            <a:chExt cx="4267080" cy="2895480"/>
          </a:xfrm>
        </p:grpSpPr>
        <p:pic>
          <p:nvPicPr>
            <p:cNvPr id="261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5"/>
            <p:cNvSpPr/>
            <p:nvPr/>
          </p:nvSpPr>
          <p:spPr>
            <a:xfrm>
              <a:off x="383220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876920" y="685800"/>
            <a:ext cx="394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water particles attract the outside sugar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444600" y="1600200"/>
            <a:ext cx="4279680" cy="2895480"/>
            <a:chOff x="444600" y="1600200"/>
            <a:chExt cx="4279680" cy="2895480"/>
          </a:xfrm>
        </p:grpSpPr>
        <p:pic>
          <p:nvPicPr>
            <p:cNvPr id="26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1600200"/>
              <a:ext cx="41670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876920" y="685800"/>
            <a:ext cx="374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n the motion of the water particles carries them a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457200" y="1600200"/>
            <a:ext cx="4267080" cy="2895480"/>
            <a:chOff x="457200" y="1600200"/>
            <a:chExt cx="4267080" cy="28954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1673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5"/>
            <p:cNvSpPr/>
            <p:nvPr/>
          </p:nvSpPr>
          <p:spPr>
            <a:xfrm>
              <a:off x="4038480" y="4191120"/>
              <a:ext cx="685800" cy="304560"/>
            </a:xfrm>
            <a:prstGeom prst="rect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9:29Z</dcterms:created>
  <dc:creator>Administrator</dc:creator>
  <dc:description/>
  <dc:language>en-US</dc:language>
  <cp:lastModifiedBy>Robert.Gellert</cp:lastModifiedBy>
  <dcterms:modified xsi:type="dcterms:W3CDTF">2010-04-29T12:16:38Z</dcterms:modified>
  <cp:revision>18</cp:revision>
  <dc:subject/>
  <dc:title>Chapter 5 – Solutions </dc:title>
</cp:coreProperties>
</file>