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467-8D2B-4851-9F81-E68E0C11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65E-7E2B-4CA9-A122-40E494C1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6BE-D2E3-4C84-83CD-CFEE9B02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6CF-FB12-4844-9B76-F25FAA46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706F-B60E-4363-A790-4E4AE0FD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FF4D-633B-4062-AF8F-CF680DF2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827E-C353-4DB7-B584-C3E64ABF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712C-71D3-4698-A938-A28A1D67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8D60-16EC-4D8D-82AC-9ECBE248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3FAE-3506-4885-9698-8642D05E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CA49-EC9B-427D-8964-40D032E3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AD2-6414-40D5-A93F-F16358B8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C82C-F204-40EE-B28F-212FC4E3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B2BE-3C51-4F87-879C-AFB58CF9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3640-B21A-4E75-B941-91C9028D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8C7E-5AC6-4CE9-95CD-8A1094D2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6EA3-F20E-4B1E-AF32-694C85FC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4CE-BDD9-44C2-9133-3F9D9FE8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99A-3C80-4148-A004-EA125A36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B68-3B5E-414A-ABD6-15204FC3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169-0607-4811-B70B-B2825677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9AB-3425-40C0-BDEA-A6C9390F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A32-16AC-4E0D-ACD4-359566BC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A44-5886-45FF-9490-FBDB2F61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2531-54F0-4854-8548-578A7E383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01B2-CF2E-4A79-B08D-201100D83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3999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Mary Poarch</cp:lastModifiedBy>
  <dcterms:modified xsi:type="dcterms:W3CDTF">2004-03-18T19:21:42Z</dcterms:modified>
  <cp:revision>30</cp:revision>
  <dc:subject/>
  <dc:title>Ecology</dc:title>
</cp:coreProperties>
</file>