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29E-C133-4712-857A-5141B7ED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EEC-0AA7-440B-9F59-9A26579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8BB-E45D-4952-A184-A1B470F2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9FB-8900-4C97-A46B-A567A546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A63D-2411-4B62-BB86-6E487CB7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AC8-C91B-46F6-B034-795B150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FE0-FD83-4C4E-A277-958F3C1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F76-E6CB-4F50-A1CA-B9232027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5A5-D3BD-4C27-B36A-52C9DAF0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3982-20FF-45F2-A60F-2A90362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3ED5-0979-4723-AE47-54FB0BC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DBD-FA1C-4894-86E0-52E8FD68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206-AE70-4944-8ED0-0E793FA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5163-5726-43AF-8B2E-E0C3DE1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AED-830F-4360-B60B-7E93D12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5DA-3A85-444E-A8DE-8BEAF0E7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11DD-DA67-4FC5-8B01-21FE4EEF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451-BE7E-4D9A-AB5B-3493B1A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F43-2DCB-4C7A-BFD3-BF98916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AF9-40C9-4FE9-A48A-74A0005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A80-F550-42D5-B861-462FF6DF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DD3-1BC3-4DBE-87D5-104A046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1C6-113E-41B7-B5A5-DE16EB7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8F0-C70E-4584-A1EB-30530D4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516-1703-4619-990A-170B07B82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0B3-3957-4136-A2AE-1BE665930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Mary Poarch</cp:lastModifiedBy>
  <dcterms:modified xsi:type="dcterms:W3CDTF">2004-03-18T19:21:42Z</dcterms:modified>
  <cp:revision>30</cp:revision>
  <dc:subject/>
  <dc:title>Ecology</dc:title>
</cp:coreProperties>
</file>