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829-DF14-4941-8F94-FD8722F6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21F-F707-45C9-B117-AFC94E95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309-BE88-483F-97FB-5FDFC104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E53-BDA6-4B06-A6A4-1E9C8371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9D9-C200-471C-B429-9D028CD5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964-0ED4-44AE-9DE1-CE3D443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B1B-E81D-4327-855C-3CCCCD11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08A-0C41-4344-B790-7421E399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47C-4E59-4BEB-A649-0C557CCC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2A3-1D65-40BF-BABE-6F3DE83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1F1-2193-43C2-B18C-B465EF6C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D15-6561-473F-A25F-17B45FAE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E5D4-1558-4C6F-B494-997D32B787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lanetpals.com/foodchain.html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texploring.com/me/me2.html" TargetMode="Externa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vtaide.com/png/foodchains.htm" TargetMode="Externa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ftexploring.com/me/pyramid.html" TargetMode="Externa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7456/succession1.html" TargetMode="Externa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tf.edu/ete/modules/msese/earthsysflr/biomes.html" TargetMode="Externa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mbgnet.mobot.org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ll the living organisms that live in an area and the nonliving features of their enviro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place where an organism lives and that provides the types of food, shelter, moisture, and temperature needed for surviv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 an ecosystem, refers to the unique ways an organism survives, obtains food and shelter, and avoids dang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nything that can restrict the size of a population, including living and nonliving features of an ecosystem, such as predators or droug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argest number of individuals of a particular species that an ecosystem can support over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organism, such as a green plant or alga, that uses an outside source of energy like the Sun to create energy-rich food molecu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um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 organism that cannot create energy-rich molecules but obtains its food by eating other organis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ompos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nsume wastes and dead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animal that hunts and kills other animals for food.  A predator is a consumer [carnivore or omnivore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animal that is hunted and caught for food.  Prey is a consumer; it may be a herbivore, omnivore, or carniv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n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b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v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n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omnivores or other carnivores [other consumer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b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produ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n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producers and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e 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aptations of consum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nivore - meat-eating animal with sharp canine teeth specialized to rip and tear fles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bivore - plant-eating mammal with incisors specialized to cut vegetation and large, flat molars to grind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nivore - plant- and meat-eating animal with incisors specialized to cut vegetables, premolars to chew meat, and molars to grind f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view food chains, herbivores, carnivores, omnivores, decompo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planetpals.com/foodchain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flow through an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flow through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he movement of energy through an ecosystem through food webs.  The transfer of energy  from one organism to an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view the flow of energy through plants and animals here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ftexploring.com/me/me2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ch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hain of organisms along which energy , in the form of food passes. An organism feeds on the link before it and is in turn prey for the link after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we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omplex network of many interconnected food chains and feeding relationships; a group of interconnecting food cha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food chain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vtaide.com/png/foodchains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way of showing energy flow.  As the amount of available energy decreases, the pyramid gets smaller.  Each layer on a pyramid is called a trophic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e 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f the interactions that take place among organisms and their environ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3055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energy pyramid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ftexploring.com/me/pyramid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u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type of symbiotic relationship in which both organisms benef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s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type of symbiotic relationship in which one organism benefits and the other organism is not aff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i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ny close relationship between species, including mutualism, commensalism, and parasit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a type of symbiotic relationship in which one organism benefits and the other organism is harm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ucc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atural, gradual changes in the types of species that live in an area; can be primary or seco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akes where no soil ex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akes place where soil is already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oneer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x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oneer spe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 group of hardy organisms, such as lichens, found in the primary stage of succession and that begin an area's soil-building pro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max 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stable, end stage of ecological succession in which the plants and animals of a community use resources efficiently and balance is maintained by disturbances such as fi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succession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library.thinkquest.org/17456/succession1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 the types of biom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 the types of biom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ig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world's largest biome, located south of the tundra between 50° N and 60° N latitude; has long, cold winters, precipitation between 35 cm and 100 cm each year, cone-bearing evergreen trees, and dense fore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old, dry, treeless biome with less than 25 cm of precipitation each year, a short growing season, permafrost, and winters that can be six to nine months lo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e rain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iome with 200 cm to 400 cm of precipitation each year, average temperatures between 9°C and 12°C, and forests dominated by trees with needlelike le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pical rain 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most biologically diverse biome; has an average temperature of 25°C and receives between 200 cm and 600 cm of precipitation each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ss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emperate and tropical regions with 25 cm to 75 cm of precipitation each year that are dominated by climax communities of grasses; ideal for growing crops and raising cattle and sh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driest biome on Earth with less than 25 cm of rain each year; has dunes or thin soil with little organic matter and plants and animals specially adapted to survive extreme cond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iome usually having four distinct seasons, annual precipitation between 75 cm and 150 cm, and climax communities of deciduous tr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sh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flowing water such as rivers and streams and standing water such as lakes, ponds, and wetl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twa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oceans, seas, a few inland lakes, such as the Great Salt Lake in Utah, coastal inlets and estua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sp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part of Earth that supports life, including the top portion of Earth's crust, the atmosphere, and all the water on Earth's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io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non-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biome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cotf.edu/ete/modules/msese/earthsysflr/biomes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information on biomes can be found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mbgnet.mobot.org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large geographic areas with similar climates and eco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ICAL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E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ne of 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ll the organisms that belong to the same species living in a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ll the populations of different species that live in an eco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1:14:47Z</dcterms:created>
  <dc:creator>Mary Poarch</dc:creator>
  <dc:description/>
  <dc:language>en-US</dc:language>
  <cp:lastModifiedBy>Mary Poarch</cp:lastModifiedBy>
  <dcterms:modified xsi:type="dcterms:W3CDTF">2004-09-16T01:32:19Z</dcterms:modified>
  <cp:revision>46</cp:revision>
  <dc:subject/>
  <dc:title>Ecology</dc:title>
</cp:coreProperties>
</file>