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012-150A-4153-84F9-BD2A5625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DB8-C023-4172-86F5-B0DA5F8C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696-B32E-4562-AD2C-1D541073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EB4-6C80-4DE5-BBE5-C0FE1115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F06-EA1A-45F7-8988-A598A084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DD2-7DDD-4DB6-8DFE-AFB9EC91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3B4-883E-41DE-B092-2AAF869B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1F8-3B19-4C15-B39E-B589D332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9FD-0311-442C-BD09-35D3849B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AF5-BA70-48EA-8DA3-C985D12E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A3E-CCD8-4139-840B-85590EEA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DF2-D28E-4E91-81DC-2448AFE1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482D-9B8F-4218-8EC1-0FA53A242F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lanetpals.com/foodchain.html" TargetMode="Externa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texploring.com/me/me2.html" TargetMode="Externa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vtaide.com/png/foodchains.htm" TargetMode="Externa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ftexploring.com/me/pyramid.html" TargetMode="External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17456/succession1.html" TargetMode="Externa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cotf.edu/ete/modules/msese/earthsysflr/biomes.html" TargetMode="Externa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mbgnet.mobot.org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ll the living organisms that live in an area and the nonliving features of their enviro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bit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place where an organism lives and that provides the types of food, shelter, moisture, and temperature needed for surviv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 an ecosystem, refers to the unique ways an organism survives, obtains food and shelter, and avoids dang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ing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nything that can restrict the size of a population, including living and nonliving features of an ecosystem, such as predators or droug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argest number of individuals of a particular species that an ecosystem can support over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organism, such as a green plant or alga, that uses an outside source of energy like the Sun to create energy-rich food molecu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um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 organism that cannot create energy-rich molecules but obtains its food by eating other organis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ompos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onsume wastes and dead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n animal that hunts and kills other animals for food.  A predator is a consumer [carnivore or omnivore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n animal that is hunted and caught for food.  Prey is a consumer; it may be a herbivore, omnivore, or carniv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niv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biv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niv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niv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at omnivores or other carnivores [other consumer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biv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at produ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niv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at producers and consu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fine Ecolog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aptations of consum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nivore - meat-eating animal with sharp canine teeth specialized to rip and tear fles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bivore - plant-eating mammal with incisors specialized to cut vegetation and large, flat molars to grind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nivore - plant- and meat-eating animal with incisors specialized to cut vegetables, premolars to chew meat, and molars to grind f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view food chains, herbivores, carnivores, omnivores, decompos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planetpals.com/foodchain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flow through an 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 flow through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the movement of energy through an ecosystem through food webs.  The transfer of energy  from one organism to an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view the flow of energy through plants and animals here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ftexploring.com/me/me2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ch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hain of organisms along which energy , in the form of food passes. An organism feeds on the link before it and is in turn prey for the link after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we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omplex network of many interconnected food chains and feeding relationships; a group of interconnecting food cha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food chains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vtaide.com/png/foodchains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pyram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 pyram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way of showing energy flow.  As the amount of available energy decreases, the pyramid gets smaller.  Each layer on a pyramid is called a trophic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fine Ecolog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of the interactions that take place among organisms and their environ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3055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energy pyramids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ftexploring.com/me/pyramid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ua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 type of symbiotic relationship in which both organisms benef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sa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 type of symbiotic relationship in which one organism benefits and the other organism is not affe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bio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ny close relationship between species, including mutualism, commensalism, and parasit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si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a type of symbiotic relationship in which one organism benefits and the other organism is harm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ucces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cc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natural, gradual changes in the types of species that live in an area; can be primary or second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akes where no soil ex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ary succ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akes place where soil is already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oneer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x co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oneer spe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 group of hardy organisms, such as lichens, found in the primary stage of succession and that begin an area's soil-building pro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max commun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stable, end stage of ecological succession in which the plants and animals of a community use resources efficiently and balance is maintained by disturbances such as fi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succession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library.thinkquest.org/17456/succession1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st the types of biom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st the types of biom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ical rain 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s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sh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ig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world's largest biome, located south of the tundra between 50° N and 60° N latitude; has long, cold winters, precipitation between 35 cm and 100 cm each year, cone-bearing evergreen trees, and dense fore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nd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old, dry, treeless biome with less than 25 cm of precipitation each year, a short growing season, permafrost, and winters that can be six to nine months lo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erate rainfor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iome with 200 cm to 400 cm of precipitation each year, average temperatures between 9°C and 12°C, and forests dominated by trees with needlelike lea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opical rain for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most biologically diverse biome; has an average temperature of 25°C and receives between 200 cm and 600 cm of precipitation each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ss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temperate and tropical regions with 25 cm to 75 cm of precipitation each year that are dominated by climax communities of grasses; ideal for growing crops and raising cattle and she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driest biome on Earth with less than 25 cm of rain each year; has dunes or thin soil with little organic matter and plants and animals specially adapted to survive extreme cond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duous for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iome usually having four distinct seasons, annual precipitation between 75 cm and 150 cm, and climax communities of deciduous tre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esh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flowing water such as rivers and streams and standing water such as lakes, ponds, and wetla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twa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oceans, seas, a few inland lakes, such as the Great Salt Lake in Utah, coastal inlets and estua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sph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part of Earth that supports life, including the top portion of Earth's crust, the atmosphere, and all the water on Earth's surf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io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non-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biomes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cotf.edu/ete/modules/msese/earthsysflr/biomes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e information on biomes can be found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mbgnet.mobot.org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large geographic areas with similar climates and eco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ICAL RAIN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E RAIN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UOUS 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one of  any living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ll the organisms that belong to the same species living in a co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ll the populations of different species that live in an eco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1:14:47Z</dcterms:created>
  <dc:creator>Mary Poarch</dc:creator>
  <dc:description/>
  <dc:language>en-US</dc:language>
  <cp:lastModifiedBy>Mary Poarch</cp:lastModifiedBy>
  <dcterms:modified xsi:type="dcterms:W3CDTF">2004-09-16T01:32:19Z</dcterms:modified>
  <cp:revision>46</cp:revision>
  <dc:subject/>
  <dc:title>Ecology</dc:title>
</cp:coreProperties>
</file>