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7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12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26.jpeg" ContentType="image/jpeg"/>
  <Override PartName="/ppt/media/image37.wmf" ContentType="image/x-wmf"/>
  <Override PartName="/ppt/media/image32.jpeg" ContentType="image/jpeg"/>
  <Override PartName="/ppt/media/image17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15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7125-7500-46AB-A742-CDECF26FD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CA0B-2A79-4E4A-AA85-9DCD4B7A0B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7BB-8244-4B39-9484-75E20254E7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F5B-AF54-451E-B068-967941A137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EEB-F453-4F54-9B05-41E8B47832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537-53B0-4192-BE04-667BE7590C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358-9235-465B-A948-F2215E9830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B739-C2C4-42C4-9F39-F8AD24345A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E13-A40B-4BB1-B2E4-A21601C9BB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D12-CC6D-454A-B647-3112E39C24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632-BBE7-4750-B86C-F50DD4D8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A41-EE60-4ED3-A4DB-18A878B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8C84-4D8F-4697-938D-0DE4D402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023D5-366A-4DD9-8EE4-69F9A170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3009-C7E6-4C07-967D-CB2ECC8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31F65-2715-4BD2-86C7-244B7CA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31A99-98C8-40E7-BF5E-C87B199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C645F-01D9-4410-AD1E-838F0CF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84874-B41E-44A3-8574-7B6322E2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ED58-6C12-455D-B76D-25A0962D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D5DD6-724B-4FEF-9BA5-A5003664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EE466-AF4C-4B5B-8C34-7B5B093B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90A-D907-4001-8EDA-7B429BB3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156EA-37F0-4761-AC78-4354FD7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E1B0D-9BE1-423A-9A32-6C9D7A6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11592-5327-44B6-89CD-C31E9219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E1FAE-64F1-4A93-BB1B-976FB8F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9DBEF-A4C4-4728-B0E1-B6B34D2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CECBE-6531-4530-913F-B9D02EA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3737-2CF9-494B-8C1A-C7DCE8C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3EFF3-01D1-4E4B-BF54-ABDDA3F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89E4-89F0-4498-AA33-28A9D9D0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8DA8-4DC7-46D6-B0BD-E5E4208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4B0-43F7-494E-9A5B-1FC6B7CB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F3264-2887-403D-A20B-3E5837FA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EDFA2-25FC-4A0E-9B7E-EDB1655D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19B4-F150-4A62-B444-CDA71604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7087C-E751-430B-9027-208656B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F57FF-29B1-4C52-A4B2-7C5C2A1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F6B98-E8DC-4167-8CA3-33A4747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6F9C0-2586-492B-9F04-7BF74B2E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8BFD-53EF-4834-9E84-D5A9619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415DE-B83C-4589-810A-34CA0C8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1050D-D1E3-4B06-A54C-D74BCB2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9B78-757C-47E4-B75F-E8323C6C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CAD4E-19D8-47B4-9E36-9308F22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40E2-9B5D-4571-8C02-FBD5C847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BB227-CE96-4302-B1C9-BB47F3E6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76C3B-184D-479A-9E08-50E10ABA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012D1-7251-49FE-9EAA-74403F7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AA498-2A32-4196-8D98-F21A1F99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D1E09-7457-40F2-BA0C-5FFF756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D4A0D-36A8-46A1-BAA2-50B11A6F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113C9-93F4-4D93-A3EB-41FC8CB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F98CF-4FAE-4BD7-A9E0-E5673D5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224-14DF-4A89-BE15-98ADADA7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53E3D-819A-4F83-AED7-9D8BACA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8C43-EC00-401E-921A-0131203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1888D-209D-478F-AA5B-58A1DA8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6FCEF-2B04-41FF-8DF7-7AF4D9E5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AC9D-9203-4B5E-A5B9-10359391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B816E-1D31-4281-A848-31DF767D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8C094-1559-4BD3-B6B8-238B6CC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82C17-D805-4E02-B5A9-4455AD6C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16313-71FC-48D1-B6C0-C4CAE2E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6783B-6DBE-42F3-9AAE-381660A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156-FC5F-4364-9125-7C5D4BF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02EF8-D812-4913-BC40-21FCAC2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6DF77-5E25-451F-82A1-F2DFFB1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B37DA-5304-4214-9AC3-78199CD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9C2F2-A9B1-46ED-A4FE-A3F15A3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78BD8-A13D-4121-8AD5-E4A2FAB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300E7-7ADE-47D6-AE6C-54F65790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C642D-2D57-486E-AB03-150CAF8A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EE625-496E-460B-BD7C-1CAD0E5D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ABB1B-9496-4611-8BFF-469159CA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B5881-8F8F-4141-8941-51B3C06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E1CF-63A2-4672-909B-18BD82FD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81611-E954-4130-8870-7A9AA3E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A7CB5-EFE7-4C11-9742-2339469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8B596-5386-43D7-879D-EBD560E0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18A9F-EB0E-473D-A1FF-C24ED69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CEFEF-62FC-437D-947E-2431A8A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3A678-6640-49C1-AAD7-4D05484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346D7-1582-4645-BB4B-F61342C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BD2B7-B63D-47E1-85D0-40F36B35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F4CDD-B2BA-419C-8BE4-3DC3D3A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DA462-AA1D-42F3-8EDE-CEF18578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A45-3A6B-40D6-ABE1-75A910F8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CD5AC-D378-4D39-8121-3839DA0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89B6F-4D9D-495C-8E37-28977FA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8365A-DA0F-4A81-A850-61D75A76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A6F6D-7A54-4484-B5D4-0BCDF3F6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54F4F-888A-4814-A273-36AC0567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60205-8264-4622-AFAA-F280826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9BCE9-68B3-4A78-92CD-1C8146D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68F58-8FAA-4DCB-8DB9-0362EE0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A7A16-A6E5-4AEF-BADA-F854CB6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8FEA4-E389-4941-BFD3-F1AC22FF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DC0D-63A6-4C59-ADDD-1A75454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868BD-7EA7-434B-AF1F-A21D374B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C9FAD-6575-48C9-A555-00E8D986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0BB3D-7F53-46B1-87D9-E03E5BD2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1A12E-C59B-4432-BCE5-0D7D1C8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74A64-8578-4AF9-AB7A-AB30FF2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3D793-6FF4-42FC-A9B7-5A4CE78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0A895-0322-4D61-8A41-56C77FE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6C174-00E7-412C-B27B-723CF41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F0DE7-BA86-4EF5-9F6C-ABCDB32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97BFC-A51B-48E8-9A33-D271C0C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4B9C-0D02-44FE-A222-D982D5D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61DAA-43DF-457D-8A34-11B4A4DE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53B6D-8E44-4709-A054-6F349592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52D26-0A6C-4296-A983-DFF91E77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091-4FFD-49EF-875C-CF5182E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4E1-5BB6-4622-97C6-33388DC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0A5-83EA-430E-8D0F-DD9A831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A76-86F3-46B7-A4D8-AAB6EF57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FA01-5E52-417B-A230-61B43E0F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139-4B34-4311-A4EA-9447CEF5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3AE6-E21D-4B4F-B4F5-D7BC4EC2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9309-234E-45F4-93FD-EC65F82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D7CD-826D-4923-B838-988A0C5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304A-EA38-4108-A734-C7CD088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9BEF-B34D-4A0E-BC5F-CB3FF4F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8F4-F3F2-4D5A-AB5F-594AC00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0668-B554-4C3B-8733-FD8F538E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BE04-E5C3-4C5E-9439-6F8D27F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DC3C-B1F8-463C-918F-9BA9FD0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D10A-30BC-4EFB-AB45-DA79220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BE41-0BC4-41B8-871A-D7B477EB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EBE1-3065-4E2C-B1F8-2CDA7693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7B6B-E24C-47A6-8273-D38488A1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28F5-8FC1-47B5-A403-9762C4CD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FDE4-0D82-4DC4-89D1-983140C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42E7-0437-44FE-9903-44108BB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AB4-219D-402F-82BF-1788C607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26E6-C787-46DE-AAFD-B9A6056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85A7-47EC-4166-9B54-6CE6AC8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21B8-96A0-4627-A2FB-1E83ABD7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B487-853B-4553-9AD9-73E3ED0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143C-D07D-443D-A94A-9F877A2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26A9-B58B-478C-AB00-1C14FDE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1C16-23E8-4309-B074-A151FAA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16F7-33B7-4D37-BC33-2EA1CE95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E6F3-7B08-41FA-B62E-F9396716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CE37-7F3E-4F8C-ADC7-B5F1EA37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FC2-69A6-478C-8515-2ACDBB05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FFE5-E0B6-4A1E-942F-45F8683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281B-37E4-4EBF-AFB2-BF8017C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7E2E-A544-45FD-8CF4-53EC904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0E6E-098B-42A9-A3F5-5DF7EA7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16DB-F495-497A-8662-6BB78F5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AFCA-5E3F-4FE1-ACCD-E16CEBDF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94E7-3736-45A0-B55A-1ED91A3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2DE7-E727-4ACA-B347-061065F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3216-90DB-4B7E-B987-DE91870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552A-60D3-498F-B674-02A4730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5AE-2869-4773-B0C4-8CB89654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39CC-2F40-48DD-9900-D4C749C5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065D-1CBB-4755-A8B0-16294325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6EA5-964B-475D-8D57-44F4010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0EBF-C8A6-4456-AE32-13B1438A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9B18-41E0-4F81-9EF9-7900B81A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C061-6DD6-457D-88D7-7FCF2EE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0D3D-9D4F-4E61-A822-5AD4249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A1F3-8D74-4CB1-9507-AAE5513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4723D-CA8B-4F74-A386-142B5BF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EF2E-420B-45BE-BED3-22AA917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E0C-81AE-4A30-8B7F-DF8952B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6E91-A840-4798-BEC3-03DACB5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4597-F680-43DC-A5E7-6D7B0D52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0FD2-3676-4DB6-9483-DF6C7146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C482-D02C-4C2E-940F-3B46CFD1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29D55-CA58-4BA2-B00E-5778867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14E75-BD23-45AF-8BBE-9D05BEA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BDE5-5E59-4BE2-B425-74DE463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EC7F-1551-4FDA-9147-1C1DAE4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674D-1DBD-405A-A219-2A59B47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5E0D-7F35-4045-ABC3-4641DC2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0F0-AC0A-4E06-B3FF-9538CF9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7AF7-41EE-4115-8D39-3744BA2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9C45-6D01-4A6E-A468-7BFB681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37DA-F7EC-40AC-94FB-DFF1EE4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232C7-3F5B-4DF0-9356-6A683105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4596-634E-42CD-A66E-6A3D39E2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503D-16E2-4C18-B2E7-F4CB5FE1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D7D5-8762-41DF-BEC3-B447CC20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CF14-E389-482B-810B-B6495C05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A184-3638-4689-8BD1-5D4880C2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07286-4D89-4591-80EE-94E5A96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626-2423-4012-A407-89B6FD0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EA7F0-35B0-4800-A775-E63E7FE2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4573-940F-49C2-8DFB-F51CB38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A2ABD-D3E8-4DF3-8C07-91FB532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855B3-BC90-4C85-8534-4E1654B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35BA-F10C-4A24-BEBA-5F989AF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F25A7-4A3D-4884-9F0D-A38D7B5B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B21E-907C-45BC-A9DB-A5D5890D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C2A24-27B0-44E0-9D6B-51C3362A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12E8-3765-448F-9327-86B7986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B781-12D5-4DC5-9737-9AB97544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256-E9D6-438F-87D6-83F042389B6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E66-A99E-4360-BFBD-E46B9C36ECC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FD7A-E4A7-4F17-A8C8-D22458BB503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68A3-7D5A-46A1-B374-75103616081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BC9F-E740-41EA-836E-A158A0F257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9465-3586-490A-ABA5-3400A7540E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C8A-AAE9-4B15-80CD-B69D10BDD38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D75-847C-4788-8502-D89B89612F5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4EE2-6EB5-4CCE-A7FD-D93C70CBFA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C43-3644-4684-9775-E66544E38F4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27FF-D24D-47C0-9A6F-40F6A91FA448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308-7989-4FE4-BD61-312D1DC6A5AF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298F-A27C-45D3-A65F-01AADEB8B69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889-725B-4972-8242-23B76CC706B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47F6-7A23-4F61-87CF-06B5CCEE42D6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CC0-21E6-43D3-9799-0D0F3845CE91}" type="slidenum">
              <a:rPr b="0" lang="fr-CA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Title 1" descr=""/>
          <p:cNvPicPr/>
          <p:nvPr/>
        </p:nvPicPr>
        <p:blipFill>
          <a:blip r:embed="rId1"/>
          <a:stretch/>
        </p:blipFill>
        <p:spPr>
          <a:xfrm>
            <a:off x="706320" y="853920"/>
            <a:ext cx="8334360" cy="1481400"/>
          </a:xfrm>
          <a:prstGeom prst="rect">
            <a:avLst/>
          </a:prstGeom>
          <a:ln w="0">
            <a:noFill/>
          </a:ln>
        </p:spPr>
      </p:pic>
      <p:pic>
        <p:nvPicPr>
          <p:cNvPr id="693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Owner\AppData\Local\Microsoft\Windows\Temporary Internet Files\Content.IE5\1HGG76PY\MCj04369200000[1].png"/>
          <p:cNvPicPr/>
          <p:nvPr/>
        </p:nvPicPr>
        <p:blipFill>
          <a:blip r:embed="rId3"/>
          <a:stretch/>
        </p:blipFill>
        <p:spPr>
          <a:xfrm>
            <a:off x="6858000" y="3571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C:\Users\Owner\AppData\Local\Microsoft\Windows\Temporary Internet Files\Content.IE5\1BCSU8LE\MPj03995780000[1].jpg"/>
          <p:cNvPicPr/>
          <p:nvPr/>
        </p:nvPicPr>
        <p:blipFill>
          <a:blip r:embed="rId4"/>
          <a:stretch/>
        </p:blipFill>
        <p:spPr>
          <a:xfrm>
            <a:off x="857160" y="3786120"/>
            <a:ext cx="2071800" cy="258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:\Users\Owner\AppData\Local\Microsoft\Windows\Temporary Internet Files\Content.IE5\PKO7PTW0\MCj02317760000[1].wmf"/>
          <p:cNvPicPr/>
          <p:nvPr/>
        </p:nvPicPr>
        <p:blipFill>
          <a:blip r:embed="rId5"/>
          <a:stretch/>
        </p:blipFill>
        <p:spPr>
          <a:xfrm>
            <a:off x="2214720" y="500040"/>
            <a:ext cx="3301920" cy="16495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0"/>
          <p:cNvSpPr/>
          <p:nvPr/>
        </p:nvSpPr>
        <p:spPr>
          <a:xfrm>
            <a:off x="3784320" y="47149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entury Gothic"/>
              </a:rPr>
              <a:t>January – March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me materials cannot be described by a single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a material that has more than one set of properties. It contains more than one kind of matter combined in such a way that it keeps its own set of properties.</a:t>
            </a:r>
            <a:r>
              <a:rPr b="0" i="1" lang="en-US" sz="3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wo or more substances combined together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09120" y="837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: means made up of parts, or mixed. A heterogeneous mixture is made up of parts that can be seen and obser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MCj02333550000[1]"/>
          <p:cNvPicPr/>
          <p:nvPr/>
        </p:nvPicPr>
        <p:blipFill>
          <a:blip r:embed="rId1"/>
          <a:stretch/>
        </p:blipFill>
        <p:spPr>
          <a:xfrm>
            <a:off x="762120" y="3733920"/>
            <a:ext cx="2895480" cy="2489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MPj04392720000[1]"/>
          <p:cNvPicPr/>
          <p:nvPr/>
        </p:nvPicPr>
        <p:blipFill>
          <a:blip r:embed="rId2"/>
          <a:stretch/>
        </p:blipFill>
        <p:spPr>
          <a:xfrm>
            <a:off x="4419720" y="3733920"/>
            <a:ext cx="38862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Homogeneous mixture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: means every part of the material is the same. There is only one set of proper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fr-CA" sz="3000" spc="-1" strike="noStrike">
                <a:solidFill>
                  <a:srgbClr val="ffffff"/>
                </a:solidFill>
                <a:latin typeface="Arial"/>
              </a:rPr>
              <a:t>: water, a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4" descr="MPj04384670000[1]"/>
          <p:cNvPicPr/>
          <p:nvPr/>
        </p:nvPicPr>
        <p:blipFill>
          <a:blip r:embed="rId1"/>
          <a:stretch/>
        </p:blipFill>
        <p:spPr>
          <a:xfrm>
            <a:off x="685800" y="411336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MPj04365520000[1]"/>
          <p:cNvPicPr/>
          <p:nvPr/>
        </p:nvPicPr>
        <p:blipFill>
          <a:blip r:embed="rId2"/>
          <a:stretch/>
        </p:blipFill>
        <p:spPr>
          <a:xfrm>
            <a:off x="4952880" y="2666880"/>
            <a:ext cx="3772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Franklin Gothic Book"/>
              </a:rPr>
              <a:t>Heterogeneous or Homogeneous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sal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 and pepper mix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i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 juice with p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A Classified Photograph-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 Activity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(p. 101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33520" y="1676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the photograph on p. 9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ake a table (like the one on p. 10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nd 10 substances in the im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assify whether each material is heterogeneous or homogeneous. Record your decision in the second column of your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the third column, identify what made you decide (observati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4648320" y="1981080"/>
          <a:ext cx="4038480" cy="2073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5720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4648320" y="3990960"/>
          <a:ext cx="4038480" cy="2104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5720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648320" y="304920"/>
          <a:ext cx="4038480" cy="12952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Quiz 4.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The quiz on section 4.1</a:t>
            </a:r>
            <a:r>
              <a:rPr b="0" lang="fr-CA" sz="3000" spc="-1" strike="noStrike">
                <a:solidFill>
                  <a:srgbClr val="ffffff"/>
                </a:solidFill>
                <a:latin typeface="Arial Rounded MT Bold"/>
              </a:rPr>
              <a:t>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 definitions (matter, properties, homogeneous, heterogeneous, mix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Study</a:t>
            </a:r>
            <a:r>
              <a:rPr b="1" i="1" lang="fr-CA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 time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udy your 5 definitions (matter, properties, mixture, homogeneous, heterogeneo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Write them dow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tudy with a partner (no lapto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ake a list of as many properties as you can think of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2 – What is a mixtu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520" y="13712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ything with at least two distinct sets of properties (characteristics) is a mixture of at least 2 materia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  sand, pop, sandwi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(All are heterogeneous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hen a mixture’s different parts can be identified this easily, the mixture is usually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echanical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Title 3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699" name="Content Placeholder 8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498160" cy="4583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Owner\AppData\Local\Microsoft\Windows\Temporary Internet Files\Content.IE5\1BCSU8LE\MPj04393840000[1].jpg"/>
          <p:cNvPicPr/>
          <p:nvPr/>
        </p:nvPicPr>
        <p:blipFill>
          <a:blip r:embed="rId3"/>
          <a:stretch/>
        </p:blipFill>
        <p:spPr>
          <a:xfrm>
            <a:off x="357120" y="1714680"/>
            <a:ext cx="4714920" cy="443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ven so-called “homogenized” milk turned out to be a heterogeneous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t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look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omogeneous. With your eyes only, you cannot detect bubbles or bits with a different set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ith a microscope, the milk contains many tiny elements of a second liquid – fat. No matter how smooth milk appears, it is actu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By now you may be wondering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n’t anything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s everything on Earth reall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an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b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4" descr="MCj04315600000[1]"/>
          <p:cNvPicPr/>
          <p:nvPr/>
        </p:nvPicPr>
        <p:blipFill>
          <a:blip r:embed="rId1"/>
          <a:stretch/>
        </p:blipFill>
        <p:spPr>
          <a:xfrm rot="1060200">
            <a:off x="4876560" y="3352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4315600000[1]"/>
          <p:cNvPicPr/>
          <p:nvPr/>
        </p:nvPicPr>
        <p:blipFill>
          <a:blip r:embed="rId2"/>
          <a:stretch/>
        </p:blipFill>
        <p:spPr>
          <a:xfrm rot="20137200">
            <a:off x="6095880" y="144756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977760000[1]"/>
          <p:cNvPicPr/>
          <p:nvPr/>
        </p:nvPicPr>
        <p:blipFill>
          <a:blip r:embed="rId3"/>
          <a:stretch/>
        </p:blipFill>
        <p:spPr>
          <a:xfrm>
            <a:off x="7772400" y="1219320"/>
            <a:ext cx="1066680" cy="874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MCj04042630000[1]"/>
          <p:cNvPicPr/>
          <p:nvPr/>
        </p:nvPicPr>
        <p:blipFill>
          <a:blip r:embed="rId4"/>
          <a:stretch/>
        </p:blipFill>
        <p:spPr>
          <a:xfrm>
            <a:off x="6781680" y="3294000"/>
            <a:ext cx="15289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homogeneous mixture is called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olutions are everywhere. 2/3 of Earth is covered with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liquid 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- the water of the oc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rth is surrounded by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ga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ution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at we call air – a homogeneous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mixture of oxygen, nitrogen, and other gas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 Mixtur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8080" y="13716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eve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solid solution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such as a sterling silv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(Sterling silver is a solution of silver and copper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5" descr="MPj03989610000[1]"/>
          <p:cNvPicPr/>
          <p:nvPr/>
        </p:nvPicPr>
        <p:blipFill>
          <a:blip r:embed="rId1"/>
          <a:stretch/>
        </p:blipFill>
        <p:spPr>
          <a:xfrm>
            <a:off x="4495680" y="478944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MPj03848250000[1]"/>
          <p:cNvPicPr/>
          <p:nvPr/>
        </p:nvPicPr>
        <p:blipFill>
          <a:blip r:embed="rId2"/>
          <a:stretch/>
        </p:blipFill>
        <p:spPr>
          <a:xfrm>
            <a:off x="1600200" y="4724280"/>
            <a:ext cx="190512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to do 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07.  Do the activity in the yellow square “Homogeneous Mixtur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questions 1 of “What to do”. When you  are done, complete # 2, 3,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p. 111 complete # 1 and # 2 a). We will correct in a few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nsw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44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#1. </a:t>
            </a: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How may sets of properties do you need to observe in order to classify a material as a heterogeneous mixtur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nything with two or more distinct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2. a) What is a solu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A homogeneous mixture is a solu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c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4.3 – Mixtures and Pure Substa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33520" y="12952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have seen tha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eterogeneous 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have two sets of proper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re are also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homogeneous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mixtur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, which have properties that are a bl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blend of properties depends on how much of one material and how much of the other material are in the mixt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re there any pure substances – materials whose properties are not a blend and are always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√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Yes there are pure substanc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s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: gold, oxygen, copper, aluminum, silver, sugar, salt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How can you find a pure substance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17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First you look to see if the material is homogeneous. A pure substance must be homogene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vestigate (observe) the properties of the material to find out if they are always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0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f they re all exactly the same in all parts of the material, no matter what part of the world the material comes from, then you may conclude that you have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 Rounded MT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thorough investigation is necessary before anything can be classified as a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450720" y="390600"/>
            <a:ext cx="8242560" cy="12920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71120"/>
            <a:ext cx="8082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Task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differences between these pairs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lass &amp; Ste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Water &amp;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Gasoline &amp; O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3" name="Picture 4" descr="MCj04043530000[1]"/>
          <p:cNvPicPr/>
          <p:nvPr/>
        </p:nvPicPr>
        <p:blipFill>
          <a:blip r:embed="rId2"/>
          <a:stretch/>
        </p:blipFill>
        <p:spPr>
          <a:xfrm>
            <a:off x="6324480" y="4114800"/>
            <a:ext cx="18288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 Rounded MT Bold"/>
              </a:rPr>
              <a:t>What we have seen so far about matt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767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Organization Chart 5"/>
          <p:cNvGrpSpPr/>
          <p:nvPr/>
        </p:nvGrpSpPr>
        <p:grpSpPr>
          <a:xfrm>
            <a:off x="838080" y="1523880"/>
            <a:ext cx="7467120" cy="4601160"/>
            <a:chOff x="838080" y="1523880"/>
            <a:chExt cx="7467120" cy="4601160"/>
          </a:xfrm>
        </p:grpSpPr>
        <p:cxnSp>
          <p:nvCxnSpPr>
            <p:cNvPr id="779" name="_s1028"/>
            <p:cNvCxnSpPr>
              <a:stCxn id="780" idx="0"/>
              <a:endCxn id="781" idx="2"/>
            </p:cNvCxnSpPr>
            <p:nvPr/>
          </p:nvCxnSpPr>
          <p:spPr>
            <a:xfrm flipV="1" rot="16200000">
              <a:off x="5867280" y="389448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2" name="_s1029"/>
            <p:cNvCxnSpPr>
              <a:stCxn id="783" idx="0"/>
              <a:endCxn id="781" idx="2"/>
            </p:cNvCxnSpPr>
            <p:nvPr/>
          </p:nvCxnSpPr>
          <p:spPr>
            <a:xfrm flipH="1" flipV="1" rot="5400000">
              <a:off x="4284000" y="38952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4" name="_s1030"/>
            <p:cNvCxnSpPr>
              <a:stCxn id="781" idx="0"/>
              <a:endCxn id="785" idx="2"/>
            </p:cNvCxnSpPr>
            <p:nvPr/>
          </p:nvCxnSpPr>
          <p:spPr>
            <a:xfrm flipV="1" rot="16200000">
              <a:off x="4283640" y="2169000"/>
              <a:ext cx="575640" cy="158400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6" name="_s1031"/>
            <p:cNvCxnSpPr>
              <a:stCxn id="787" idx="0"/>
              <a:endCxn id="785" idx="2"/>
            </p:cNvCxnSpPr>
            <p:nvPr/>
          </p:nvCxnSpPr>
          <p:spPr>
            <a:xfrm flipH="1" flipV="1" rot="5400000">
              <a:off x="2700000" y="2169000"/>
              <a:ext cx="575640" cy="1584720"/>
            </a:xfrm>
            <a:prstGeom prst="bentConnector3">
              <a:avLst>
                <a:gd name="adj1" fmla="val 19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5" name="_s1032"/>
            <p:cNvSpPr/>
            <p:nvPr/>
          </p:nvSpPr>
          <p:spPr>
            <a:xfrm>
              <a:off x="2422080" y="152388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All 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_s1033"/>
            <p:cNvSpPr/>
            <p:nvPr/>
          </p:nvSpPr>
          <p:spPr>
            <a:xfrm>
              <a:off x="83808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eterogeneou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1034"/>
            <p:cNvSpPr/>
            <p:nvPr/>
          </p:nvSpPr>
          <p:spPr>
            <a:xfrm>
              <a:off x="4005720" y="324936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ateria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_s1035"/>
            <p:cNvSpPr/>
            <p:nvPr/>
          </p:nvSpPr>
          <p:spPr>
            <a:xfrm>
              <a:off x="2422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Homogeneou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mixture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_s1036"/>
            <p:cNvSpPr/>
            <p:nvPr/>
          </p:nvSpPr>
          <p:spPr>
            <a:xfrm>
              <a:off x="5590080" y="4974840"/>
              <a:ext cx="2715120" cy="115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80c"/>
                  </a:solidFill>
                  <a:latin typeface="Arial"/>
                </a:rPr>
                <a:t>Pure substance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8" name="Picture 20" descr="MCj04338000000[1]"/>
          <p:cNvPicPr/>
          <p:nvPr/>
        </p:nvPicPr>
        <p:blipFill>
          <a:blip r:embed="rId1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A The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pure substances always be the sa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How can solutions have blended properties but still be homogeneou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o answer these questions, scientists need a theory (explanation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4" descr="MCj04315120000[1]"/>
          <p:cNvPicPr/>
          <p:nvPr/>
        </p:nvPicPr>
        <p:blipFill>
          <a:blip r:embed="rId1"/>
          <a:stretch/>
        </p:blipFill>
        <p:spPr>
          <a:xfrm>
            <a:off x="7696080" y="2133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 theory that scientists use to explain the properties of various mixtures and substances is called th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article theory of matt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ll matter is made up of extremely tiny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Each pure substance has its own kind of particle, different from the particles of other pure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Picture 4" descr="MCj04338000000[1]"/>
          <p:cNvPicPr/>
          <p:nvPr/>
        </p:nvPicPr>
        <p:blipFill>
          <a:blip r:embed="rId1"/>
          <a:stretch/>
        </p:blipFill>
        <p:spPr>
          <a:xfrm>
            <a:off x="79246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68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ased on the particle theory,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ure substance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s a material made up of only one kind of extremely small partic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ccording to the particle theory, all water particles are exactly the sa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ure water, no matter how or where it is obtained, always contains identical partic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440" y="1218960"/>
            <a:ext cx="7543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imilarly, all particles of table     sugar are exactly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hey are different from water particles, different from the particles of any other subs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ut all the particles of table sugar are the sa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6" name="Picture 6" descr="MPj02896290000[1]"/>
          <p:cNvPicPr/>
          <p:nvPr/>
        </p:nvPicPr>
        <p:blipFill>
          <a:blip r:embed="rId1"/>
          <a:stretch/>
        </p:blipFill>
        <p:spPr>
          <a:xfrm>
            <a:off x="7162920" y="68580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MCj02514750000[1]"/>
          <p:cNvPicPr/>
          <p:nvPr/>
        </p:nvPicPr>
        <p:blipFill>
          <a:blip r:embed="rId2"/>
          <a:stretch/>
        </p:blipFill>
        <p:spPr>
          <a:xfrm>
            <a:off x="7543800" y="5181480"/>
            <a:ext cx="13017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 Rounded MT Bold"/>
              </a:rPr>
              <a:t>Lets see how well you understood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15235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Turn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5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nswer to questions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1. a, b, c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and #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2. a, b, c, d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i="1" lang="en-US" sz="3000" spc="-1" strike="noStrike">
                <a:solidFill>
                  <a:srgbClr val="ffffff"/>
                </a:solidFill>
                <a:latin typeface="Arial Rounded MT Bold"/>
              </a:rPr>
              <a:t>Sciencepower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p. 118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#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Rounded MT Bold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 will correct the exercise together in 10-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swers « Pouring? Shaping? Filling? (p. 115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1. Name the state(s) in which a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a) has a fixed shap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A -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b) takes the shape of its co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) always fills watever container it is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53316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 Rounded MT Bold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Name the state(s) in which the particl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) far apart from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–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) relatively clos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) free to move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C - gas   &amp; B -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) held in fix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A-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8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D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44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Introduction – Chapter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Section 5.1 definition - dis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Rounded MT Bold"/>
              </a:rPr>
              <a:t>Comic st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struction materi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be mel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not bend in original sta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without being melt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glass is transparent, steel is gre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ight (steel is heavier, if the size is the sam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el (metal) can conduct electric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lass is fragile, steel is not easily brok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6" name="Picture 4" descr="MCj03316670000[1]"/>
          <p:cNvPicPr/>
          <p:nvPr/>
        </p:nvPicPr>
        <p:blipFill>
          <a:blip r:embed="rId2"/>
          <a:stretch/>
        </p:blipFill>
        <p:spPr>
          <a:xfrm>
            <a:off x="7238880" y="304920"/>
            <a:ext cx="1209960" cy="17859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MCj00902410000[1]"/>
          <p:cNvPicPr/>
          <p:nvPr/>
        </p:nvPicPr>
        <p:blipFill>
          <a:blip r:embed="rId3"/>
          <a:stretch/>
        </p:blipFill>
        <p:spPr>
          <a:xfrm>
            <a:off x="6629400" y="2666880"/>
            <a:ext cx="2125800" cy="150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Cj04062020000[1]"/>
          <p:cNvPicPr/>
          <p:nvPr/>
        </p:nvPicPr>
        <p:blipFill>
          <a:blip r:embed="rId4"/>
          <a:stretch/>
        </p:blipFill>
        <p:spPr>
          <a:xfrm>
            <a:off x="457200" y="228600"/>
            <a:ext cx="1112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can freeze and evapor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can drink th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ood for our healt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nflammable (cannot catch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water is clear, milk has colo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transparent, milk is no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more widespread on earth (2/3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ter is naturally on Earth, milk comes from cow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lk is thicker than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1" name="Picture 4" descr="MCj04104490000[1]"/>
          <p:cNvPicPr/>
          <p:nvPr/>
        </p:nvPicPr>
        <p:blipFill>
          <a:blip r:embed="rId2"/>
          <a:stretch/>
        </p:blipFill>
        <p:spPr>
          <a:xfrm>
            <a:off x="6553080" y="762120"/>
            <a:ext cx="2341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Rectangle 2" descr=""/>
          <p:cNvPicPr/>
          <p:nvPr/>
        </p:nvPicPr>
        <p:blipFill>
          <a:blip r:embed="rId1"/>
          <a:stretch/>
        </p:blipFill>
        <p:spPr>
          <a:xfrm>
            <a:off x="1292400" y="298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Resembla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bustible (can catch on fi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xture (not pure substanc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ifferenc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or (oil has color, gasoline is clear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il is thicker than gasoli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soline is what we put in our ca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oking oil can be used in a kitch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14" name="Picture 4" descr="MCj03842060000[1]"/>
          <p:cNvPicPr/>
          <p:nvPr/>
        </p:nvPicPr>
        <p:blipFill>
          <a:blip r:embed="rId2"/>
          <a:stretch/>
        </p:blipFill>
        <p:spPr>
          <a:xfrm>
            <a:off x="380880" y="228600"/>
            <a:ext cx="1300320" cy="15080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MCj03254760000[1]"/>
          <p:cNvPicPr/>
          <p:nvPr/>
        </p:nvPicPr>
        <p:blipFill>
          <a:blip r:embed="rId3"/>
          <a:stretch/>
        </p:blipFill>
        <p:spPr>
          <a:xfrm>
            <a:off x="7238880" y="609480"/>
            <a:ext cx="1459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90080" cy="25416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odule 2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ff"/>
                </a:solidFill>
                <a:latin typeface="Arial"/>
              </a:rPr>
              <a:t>Pure Substances and Mix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4.1 - Matter in Your Worl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Matter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any material that occupies space and has a mass (includes all solids, liquids, and gas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Properties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 the characteristics that are used to describe ma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s: size, shape, form, state, smell, color, tas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*Every material has its own set of propertie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 Rounded MT Bold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ater at the beach (photo on page 98)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as the following propertie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lear,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ol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odor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reezes at 0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º C 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under norm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ndi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oils at 100º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MCj0410921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MCj04125560000[1]"/>
          <p:cNvPicPr/>
          <p:nvPr/>
        </p:nvPicPr>
        <p:blipFill>
          <a:blip r:embed="rId2"/>
          <a:stretch/>
        </p:blipFill>
        <p:spPr>
          <a:xfrm>
            <a:off x="457200" y="3049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Cj02949790000[1]"/>
          <p:cNvPicPr/>
          <p:nvPr/>
        </p:nvPicPr>
        <p:blipFill>
          <a:blip r:embed="rId3"/>
          <a:stretch/>
        </p:blipFill>
        <p:spPr>
          <a:xfrm>
            <a:off x="4724280" y="3527280"/>
            <a:ext cx="3886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38:30Z</dcterms:created>
  <dc:creator>Lisa.c.Cormier</dc:creator>
  <dc:description/>
  <dc:language>en-US</dc:language>
  <cp:lastModifiedBy>Lisa.c.Cormier</cp:lastModifiedBy>
  <dcterms:modified xsi:type="dcterms:W3CDTF">2009-04-16T17:57:01Z</dcterms:modified>
  <cp:revision>4</cp:revision>
  <dc:subject/>
  <dc:title>Science 7</dc:title>
</cp:coreProperties>
</file>