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7.png" ContentType="image/png"/>
  <Override PartName="/ppt/media/image8.jpeg" ContentType="image/jpeg"/>
  <Override PartName="/ppt/media/image28.png" ContentType="image/png"/>
  <Override PartName="/ppt/media/image31.wmf" ContentType="image/x-wmf"/>
  <Override PartName="/ppt/media/image11.png" ContentType="image/png"/>
  <Override PartName="/ppt/media/image12.wmf" ContentType="image/x-wmf"/>
  <Override PartName="/ppt/media/image30.wmf" ContentType="image/x-wmf"/>
  <Override PartName="/ppt/media/image33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34.png" ContentType="image/png"/>
  <Override PartName="/ppt/media/image9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5.png" ContentType="image/png"/>
  <Override PartName="/ppt/media/image26.jpeg" ContentType="image/jpeg"/>
  <Override PartName="/ppt/media/image37.wmf" ContentType="image/x-wmf"/>
  <Override PartName="/ppt/media/image32.jpeg" ContentType="image/jpeg"/>
  <Override PartName="/ppt/media/image17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.png" ContentType="image/png"/>
  <Override PartName="/ppt/media/image1.png" ContentType="image/png"/>
  <Override PartName="/ppt/media/image15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9DB1-FC85-41F6-BB11-8D2A97F6E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BA08-0D53-4DFF-9F45-E82B370826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C095-18F5-480F-B7A9-FB902EAE12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5B2F-47C5-46E2-810D-1FE76BEEA9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5E70-E0ED-4B1B-A5A7-B3A0BDD0EBC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92BB-E02B-48A2-AE90-9D3230F357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782E-24B7-4820-9BE6-A73A970645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CA7D-D3C2-4846-8EEA-7941412EE8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22E0-1F35-4B3D-B8AC-981DC240FC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4A55-AE39-47CD-9FDC-E6037A8589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3EA-9B12-4DC5-8A57-3C51B9D7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BD0-E939-4F91-A9AC-476BB4AC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28509-DC98-4539-BE1F-0B0DFFB4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222D0-EA6F-4D5F-99C8-E98FE76D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C8BFF-C09C-4ED4-A955-6F7C5CAC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089CB-A6DE-4E60-B762-F947AC26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F7EB1-4375-46F4-935D-058F7300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79891-B1AE-47FB-9577-EE094755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BFCD8-36CB-41BF-8208-B52CFAAF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717A4-6981-4653-BAE7-470CC8FA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B260E-497F-494C-B123-6F9D25F6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278FE-A105-400F-885F-97AF5EA4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B0A-E43E-4BB3-BA4F-F3045A4A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2A219-E8A8-4452-9E57-0515734E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56C19-CAC9-45CB-843E-B504D725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34EFA-A0C8-478C-9570-55266050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FBD7C-0A84-45F8-977F-3CF53732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84F67-7755-4564-8F53-5DD637E1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21AC6-4B91-4E82-A503-DD100C36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C3E70-6552-409E-A4B5-8B323E3D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44094-2D9B-4B12-B3C6-36A2B66E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C9882-1A3D-4B69-912D-C4504DFE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8DFC5-AD8F-4F4B-8B49-74532E2B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3FF-9049-411E-9D28-F31351F0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6B9CB-0689-4EE1-94EE-A51CB852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F66CF-460F-40B2-AC1E-FCC86FA2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6B049-1ADF-4883-83B7-53B69973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6F860-3FB8-4634-8A58-AE33E80E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26DB9-08F1-4412-B251-AFFAB877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7B77A-5EE8-4F05-BCC6-54776F97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51448-96F2-4BDF-B055-408A57F8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5076C-6D22-40DF-A221-FA4E5169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80BDD-3B72-433F-A38B-EB733AC3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E27F1-CD3D-4B2B-9E7A-887B8B1C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6E27-AC92-4893-BC3C-64102B7A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77C4C-3CF9-4282-992E-32199F9F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53476-8D1E-4D16-A3EF-8DB2AD05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043A1-4A81-4B2C-BC1C-96D7E1E5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80F47-89C2-4500-9268-F5699D8C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1AA92-1F1D-49BF-9830-70CE890C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A2685-008D-4EF8-8FFA-DDA16EDE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FA4D8-05E3-49D1-8FBD-A3FD9CB0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95595-73DC-4544-84C2-53129612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1EC5A-9E9D-44EA-B7B6-CCF71F4D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0A0BA-591E-413D-BFB5-50B847D2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66BD-97CD-423A-9119-332B671C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F6D8B-1441-422D-9093-E5C4F72C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EE696-45A0-4136-B655-B6E5FA02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9F867-D1AA-48D9-BCE1-6B0C9F73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7F2F8-A48E-4968-82FA-EF21C56F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955CC-4A90-4595-A7A4-6DA6D458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6F5C8E-6247-490D-A24A-47409503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5E314-B54C-4D2B-ABEE-62EF4100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FDE8E-BDC1-456C-A291-B436E225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2391B-CCF7-4738-9695-0C168CB4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9685E-1293-42AE-8B7A-D3B6DB84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1597-8C24-40FA-AD54-FE93338A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5F3DA-9B69-4006-84CC-56F7B93C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0F4D1-9911-4D36-810A-60C4D492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F704B-06F6-427A-92E7-E734DE4B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7E80D-5949-4C30-9965-D55F43DB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3F12E-0968-4FEB-9B04-03491425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0D37B-7554-4AF6-B20A-056BB74D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6CBFD-7FC9-4B61-8780-1F201938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B5656-1ECA-48FC-BB8B-CC79AE75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65115-5136-447D-8C05-24103196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0C6988-2D03-4D02-A9C5-9210F967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50BE-1029-48F9-BBFC-7B1C7600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E48CD-5049-4386-BCD3-78A322EF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F11CB-A8CC-41DD-A9CB-BD885BB2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32DEEA-553E-4D14-A07A-5DA70D14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7BB63-4EEA-4260-A93C-62FFE3F2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00D55B-15E0-46A1-BE4C-27BEBB29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6FDDC8-A746-4539-A9A8-CAFA7F9E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BE752B-69FD-4F12-90AD-BDA9069F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BC68F-6871-4B54-9672-7B1E1C74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237269-DF08-4137-9A8B-AAA4D59F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561A35-9140-434A-B828-E7074E6C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AA4B-5B5F-47AC-B19B-858824AA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B434CE-DDE5-41BF-A825-5C6833A9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251245-8059-4439-86F0-F55FD4ED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4D120-A0DE-482F-912D-172B3440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E9859B-E462-480B-997F-96DFF25D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69F384-4B8F-4690-8EAD-DDCB5B42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268472-02DB-4A2B-8028-527BC044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B5873-13B5-4A7A-B119-5ED1644B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450F12-E0FD-4CFF-AB82-18B2B008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8FB26-AF59-4884-A31D-2A91053D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604CBD-301D-4FCE-B947-2131980E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51FC-7463-4BAF-94C0-173E1792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BB6206-FB09-4AFC-AB28-2B39F1E3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B19D4B-A4FB-4760-B601-5A3301F0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DA271-390A-4B19-9EC0-5F1BC5BF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198050-1B25-4F4F-9BC2-A8E8E209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90191D-88DD-4C76-9546-DCEB8074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9F239-E27F-40F1-A80D-1B922217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78388F-179A-4692-BA45-A42B7480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D9C28-35A9-45EF-913A-8FA1B882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794C2B-209E-4304-967A-A40EE34D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BF4D93-49A6-49CD-B8A5-A0A81384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C2E0-7C4B-40B7-8F10-69B94D4B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D6B6BC-6683-4DC7-9DDC-C2E449E6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711B7A-B8B0-425A-A9DC-55747899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F7C727-D408-41D1-8D75-224B8D66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95F5-51A6-4C39-AC3E-EC075812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78C0-0D42-4FCA-A4F3-44CA4C0E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98C2-CF89-4C5C-B591-A80A94E6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BBA3-5543-4B52-BBED-A0906227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9F01-9320-4CA1-9767-7C5C6B3F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1279-5268-41F3-B09B-2E0C988D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1986F-8621-42EC-B4A4-0CE310EA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740AE-58E4-4D19-B65E-83A2CEAB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86823-C685-451E-AC75-0FC0ECD4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868A4-A736-4AFD-809B-E756EA69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95953-E93D-46FC-91EB-4E88ADB8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CEC-24A6-441C-A46B-49984E94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DEC97-B8E6-4DEE-9BBF-A36D7563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7102E-8C58-45C7-9B68-760F0FDC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B6328-129D-43C8-A75B-C431E906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D6210-82E8-48B8-893C-8B9F2FA4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4394-EFBE-4A60-A496-5B8FBE97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0176A-4FF5-4C45-9459-E502BE39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02E6-4FA6-4FD9-9725-102CCB0E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E419E-B53A-4AF6-AD92-BDF4B2D9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2084E-54FC-4A44-96C3-77AA39EC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C153E-0031-4576-B2B6-A83EA09B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F7F-A9E1-4584-AFE3-A8802ADA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D2F28-DBF0-4D24-A20F-BA0D47C8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38B11-E1E0-4B66-B087-1CD97BE4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CE709-C1F6-46CC-8377-6D6A9CEF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369AC-117A-4C26-A9C7-4012914C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A97EA-67BD-40BD-A65A-93FA382F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D3B85-633C-458D-A15D-53815050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262FC-2309-4B19-A04C-49487018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92909-1C5A-4488-BD4F-05F35A40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0E779-30E0-4FE4-8B22-B51B0C3F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F0962-F72A-4E45-A116-D81928FA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DA5-F613-446D-B5DD-E21534AA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82A7D-5AF3-4022-B426-B2496352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1A21B-5AAC-437F-BDAB-319BC25E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3985D-5BB0-41ED-9ADE-9F55A005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D489B-018D-4905-AD41-8F162EB3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3658F-CA72-4818-AE4B-89657CB6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693A8-FCB8-483E-BC48-1BBB7E46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133FD-B456-4C9F-B6BF-09A2F8CF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5844D-C567-4B91-9865-A9AE4FD7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C4198-270D-4755-A019-CBF3A151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F6960-978D-4900-A27F-1A6FABFF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A86-439E-401B-B86E-9F215E4F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2E18A-82E3-4FE9-949E-01C57F15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9C60A-87CE-4DD8-9A02-9BA26463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4B40E-5D93-4057-BC28-91C6A46F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0CA63-E979-497F-966D-FF7CAC6A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9328B-B99F-4E3A-BA1A-44430D6B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9B62E-5452-4DBB-9D16-57BA694E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10FFA-9B02-4AC9-BC32-2D7CA8D0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144F5-2629-42BC-9953-132790CC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E4F4B-CB63-4A78-BFD1-96D68221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9FB81-C9D6-40CE-A851-67EBFAEA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F4D-1DD5-497A-BD66-5865D905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B6673-FFC1-42C1-A7C1-07C39A36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86791-ECA9-4E5C-AA1B-3C8204C9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DB6E9-CC15-48A2-BB59-BC671C34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3B683-B965-48D1-8249-40CDF6F9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034D3-D731-4E0F-8AD0-3E356F4C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B2999-6D4E-4038-BA94-C58AC539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14BCF-477D-43B4-A788-0A09E7CA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999EA-1B74-464D-B0C8-5243B5AD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09744-D9AE-4132-92C2-4FDAD22D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BE3FD-3CF7-4AB8-8AB8-41BF1622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24D-DAE8-466B-8159-C892B032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8682C-1F1E-4BA5-9563-9A6A25CA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5C922-C7EC-4BD6-AB40-EE43E189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E2812-ED8A-45D2-9199-735A0DB5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8FB88-B1CA-4FAA-9CBA-0D3859DD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AA088-6E5E-4555-9E91-8BA713ED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2303C-EDB3-4C72-B9EF-4298F964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2A6D0-AD86-4579-8C41-5EE9FAAD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7F3EB-0A2B-4B27-8C5D-A307DEC2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C42CC-DA8B-43B9-AEEB-E1078041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10FFC-92C3-4CDD-A981-E329694B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2BE-D231-4CBE-8CFF-0AF1C1D4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869A3-20B4-48E2-8737-983D5394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6ECA1-378F-484C-A77C-ECDC4ACF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AC5F0-4974-4206-8662-DB238D09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4ADA1-7AFF-4C71-BAEC-B4BF7E9C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840CA-304B-45E2-B60C-CA73E88A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CFEB6-AD04-4B22-A92A-4078C52D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3A60F-DE8B-4E49-8C90-D56CCE21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62C95-9893-4190-ACDF-B3AF31D1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982AE-4447-4244-88F7-F8977CA4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6B7F5-EEAC-4181-94EF-64CA2C22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C5AE-ED45-4556-858C-6D6870AF1D0F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060F-5C34-46C1-BA38-E0E0564B0E1E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AF88-6409-46C5-9286-DF506C25630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F2D7-778A-4454-AE47-7C96B1FC10E2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BFAC-E451-4193-B271-9C3C1EACC65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F66D-EA37-41F6-B7BB-5FBCEE1183C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B2E3-C806-4ED4-89FB-C699AD8B58A4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5BF0-2ED5-45A7-94E8-E92FE80AB397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B4ED-45ED-4A4D-B85C-C305CF3885C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3D0E-E3E8-4788-9BD5-C5C5A433C70C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D3E7-31B7-4B97-87F0-AE282B65E158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903F-5A98-40CA-A70C-4E1338F6AC53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8604-370D-41BA-B8C5-6C24BA5DF39D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3589-CCA6-458F-B4CD-AB42042ECCD3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64BF-C0E5-4549-B8E9-A8047EAAF4DD}" type="slidenum">
              <a:rPr b="0" lang="fr-CA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0A3F-9987-496F-BB37-8035F0FF3EAD}" type="slidenum">
              <a:rPr b="0" lang="fr-CA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Title 1" descr=""/>
          <p:cNvPicPr/>
          <p:nvPr/>
        </p:nvPicPr>
        <p:blipFill>
          <a:blip r:embed="rId1"/>
          <a:stretch/>
        </p:blipFill>
        <p:spPr>
          <a:xfrm>
            <a:off x="706320" y="853920"/>
            <a:ext cx="8334360" cy="1481400"/>
          </a:xfrm>
          <a:prstGeom prst="rect">
            <a:avLst/>
          </a:prstGeom>
          <a:ln w="0">
            <a:noFill/>
          </a:ln>
        </p:spPr>
      </p:pic>
      <p:pic>
        <p:nvPicPr>
          <p:cNvPr id="693" name="Subtitle 2" descr=""/>
          <p:cNvPicPr/>
          <p:nvPr/>
        </p:nvPicPr>
        <p:blipFill>
          <a:blip r:embed="rId2"/>
          <a:stretch/>
        </p:blipFill>
        <p:spPr>
          <a:xfrm>
            <a:off x="536400" y="2243160"/>
            <a:ext cx="8071200" cy="17683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" descr="C:\Users\Owner\AppData\Local\Microsoft\Windows\Temporary Internet Files\Content.IE5\1HGG76PY\MCj04369200000[1].png"/>
          <p:cNvPicPr/>
          <p:nvPr/>
        </p:nvPicPr>
        <p:blipFill>
          <a:blip r:embed="rId3"/>
          <a:stretch/>
        </p:blipFill>
        <p:spPr>
          <a:xfrm>
            <a:off x="6858000" y="3571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" descr="C:\Users\Owner\AppData\Local\Microsoft\Windows\Temporary Internet Files\Content.IE5\1BCSU8LE\MPj03995780000[1].jpg"/>
          <p:cNvPicPr/>
          <p:nvPr/>
        </p:nvPicPr>
        <p:blipFill>
          <a:blip r:embed="rId4"/>
          <a:stretch/>
        </p:blipFill>
        <p:spPr>
          <a:xfrm>
            <a:off x="857160" y="3786120"/>
            <a:ext cx="2071800" cy="258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7" descr="C:\Users\Owner\AppData\Local\Microsoft\Windows\Temporary Internet Files\Content.IE5\PKO7PTW0\MCj02317760000[1].wmf"/>
          <p:cNvPicPr/>
          <p:nvPr/>
        </p:nvPicPr>
        <p:blipFill>
          <a:blip r:embed="rId5"/>
          <a:stretch/>
        </p:blipFill>
        <p:spPr>
          <a:xfrm>
            <a:off x="2214720" y="500040"/>
            <a:ext cx="3301920" cy="1649520"/>
          </a:xfrm>
          <a:prstGeom prst="rect">
            <a:avLst/>
          </a:prstGeom>
          <a:ln w="0">
            <a:noFill/>
          </a:ln>
        </p:spPr>
      </p:pic>
      <p:sp>
        <p:nvSpPr>
          <p:cNvPr id="697" name="TextBox 10"/>
          <p:cNvSpPr/>
          <p:nvPr/>
        </p:nvSpPr>
        <p:spPr>
          <a:xfrm>
            <a:off x="3784320" y="47149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entury Gothic"/>
              </a:rPr>
              <a:t>January – March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ome materials cannot be described by a single set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: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a material that has more than one set of properties. It contains more than one kind of matter combined in such a way that it keeps its own set of properties.</a:t>
            </a:r>
            <a:r>
              <a:rPr b="0" i="1" lang="en-US" sz="3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wo or more substances combined together i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609120" y="8377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: means made up of parts, or mixed. A heterogeneous mixture is made up of parts that can be seen and observ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7" name="Picture 5" descr="MCj02333550000[1]"/>
          <p:cNvPicPr/>
          <p:nvPr/>
        </p:nvPicPr>
        <p:blipFill>
          <a:blip r:embed="rId1"/>
          <a:stretch/>
        </p:blipFill>
        <p:spPr>
          <a:xfrm>
            <a:off x="762120" y="3733920"/>
            <a:ext cx="2895480" cy="24890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" descr="MPj04392720000[1]"/>
          <p:cNvPicPr/>
          <p:nvPr/>
        </p:nvPicPr>
        <p:blipFill>
          <a:blip r:embed="rId2"/>
          <a:stretch/>
        </p:blipFill>
        <p:spPr>
          <a:xfrm>
            <a:off x="4419720" y="3733920"/>
            <a:ext cx="38862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80880" y="533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  <a:ea typeface="Arial"/>
              </a:rPr>
              <a:t>Homogeneous mixture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: means every part of the material is the same. There is only one set of propert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0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r>
              <a:rPr b="0" lang="fr-CA" sz="3000" spc="-1" strike="noStrike">
                <a:solidFill>
                  <a:srgbClr val="ffffff"/>
                </a:solidFill>
                <a:latin typeface="Arial"/>
              </a:rPr>
              <a:t>: water, ai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Picture 4" descr="MPj04384670000[1]"/>
          <p:cNvPicPr/>
          <p:nvPr/>
        </p:nvPicPr>
        <p:blipFill>
          <a:blip r:embed="rId1"/>
          <a:stretch/>
        </p:blipFill>
        <p:spPr>
          <a:xfrm>
            <a:off x="685800" y="4113360"/>
            <a:ext cx="3048120" cy="22874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MPj04365520000[1]"/>
          <p:cNvPicPr/>
          <p:nvPr/>
        </p:nvPicPr>
        <p:blipFill>
          <a:blip r:embed="rId2"/>
          <a:stretch/>
        </p:blipFill>
        <p:spPr>
          <a:xfrm>
            <a:off x="4952880" y="2666880"/>
            <a:ext cx="3772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Franklin Gothic Book"/>
              </a:rPr>
              <a:t>Heterogeneous or Homogeneous?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with salt in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e ju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nut bu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t and pepper mixed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othie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nge juice with pu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e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7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A Classified Photograph-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 Activity 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(p. 101)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533520" y="1676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Study the photograph on p. 9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Make a table (like the one on p. 10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ind 10 substances in the imag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lassify whether each material is heterogeneous or homogeneous. Record your decision in the second column of your ta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In the third column, identify what made you decide (observations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6" name=""/>
          <p:cNvGraphicFramePr/>
          <p:nvPr/>
        </p:nvGraphicFramePr>
        <p:xfrm>
          <a:off x="457200" y="1981080"/>
          <a:ext cx="4038480" cy="20732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4648320" y="1981080"/>
          <a:ext cx="4038480" cy="20732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457200" y="3990960"/>
          <a:ext cx="4038480" cy="2104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4648320" y="3990960"/>
          <a:ext cx="4038480" cy="2104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457200" y="304920"/>
          <a:ext cx="4038480" cy="12952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4648320" y="304920"/>
          <a:ext cx="4038480" cy="12952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Quiz 4.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9144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The quiz on section 4.1</a:t>
            </a:r>
            <a:r>
              <a:rPr b="0" lang="fr-CA" sz="3000" spc="-1" strike="noStrike">
                <a:solidFill>
                  <a:srgbClr val="ffffff"/>
                </a:solidFill>
                <a:latin typeface="Arial Rounded MT Bold"/>
              </a:rPr>
              <a:t> 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5 definitions (matter, properties, homogeneous, heterogeneous, mixt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Study</a:t>
            </a:r>
            <a:r>
              <a:rPr b="1" i="1" lang="fr-CA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 time!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tudy your 5 definitions (matter, properties, mixture, homogeneous, heterogeneou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Write them down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Study with a partner (no laptop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Make a list of as many properties as you can think of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4.2 – What is a mixture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33520" y="137124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ything with at least two distinct sets of properties (characteristics) is a mixture of at least 2 materia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Exampl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:  sand, pop, sandwi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(All are heterogeneous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hen a mixture’s different parts can be identified this easily, the mixture is usually called a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echanical 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Title 3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699" name="Content Placeholder 8" descr=""/>
          <p:cNvPicPr/>
          <p:nvPr/>
        </p:nvPicPr>
        <p:blipFill>
          <a:blip r:embed="rId2"/>
          <a:stretch/>
        </p:blipFill>
        <p:spPr>
          <a:xfrm>
            <a:off x="450720" y="1878120"/>
            <a:ext cx="8498160" cy="45831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C:\Users\Owner\AppData\Local\Microsoft\Windows\Temporary Internet Files\Content.IE5\1BCSU8LE\MPj04393840000[1].jpg"/>
          <p:cNvPicPr/>
          <p:nvPr/>
        </p:nvPicPr>
        <p:blipFill>
          <a:blip r:embed="rId3"/>
          <a:stretch/>
        </p:blipFill>
        <p:spPr>
          <a:xfrm>
            <a:off x="357120" y="1714680"/>
            <a:ext cx="4714920" cy="4431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8088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Even so-called “homogenized” milk turned out to be a heterogeneous mixt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t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look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homogeneous. With your eyes only, you cannot detect bubbles or bits with a different set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ith a microscope, the milk contains many tiny elements of a second liquid – fat. No matter how smooth milk appears, it is actually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 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By now you may be wondering …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8088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anything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everything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n’t anything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everything on Earth really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Can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b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3" name="Picture 4" descr="MCj04315600000[1]"/>
          <p:cNvPicPr/>
          <p:nvPr/>
        </p:nvPicPr>
        <p:blipFill>
          <a:blip r:embed="rId1"/>
          <a:stretch/>
        </p:blipFill>
        <p:spPr>
          <a:xfrm rot="1060200">
            <a:off x="4876560" y="33526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" descr="MCj04315600000[1]"/>
          <p:cNvPicPr/>
          <p:nvPr/>
        </p:nvPicPr>
        <p:blipFill>
          <a:blip r:embed="rId2"/>
          <a:stretch/>
        </p:blipFill>
        <p:spPr>
          <a:xfrm rot="20137200">
            <a:off x="6095880" y="144756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6" descr="MCj03977760000[1]"/>
          <p:cNvPicPr/>
          <p:nvPr/>
        </p:nvPicPr>
        <p:blipFill>
          <a:blip r:embed="rId3"/>
          <a:stretch/>
        </p:blipFill>
        <p:spPr>
          <a:xfrm>
            <a:off x="7772400" y="1219320"/>
            <a:ext cx="1066680" cy="8744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" descr="MCj04042630000[1]"/>
          <p:cNvPicPr/>
          <p:nvPr/>
        </p:nvPicPr>
        <p:blipFill>
          <a:blip r:embed="rId4"/>
          <a:stretch/>
        </p:blipFill>
        <p:spPr>
          <a:xfrm>
            <a:off x="6781680" y="3294000"/>
            <a:ext cx="152892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 Mixtur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8088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 homogeneous mixture is called a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solution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olutions are everywhere. 2/3 of Earth is covered with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liquid solution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- the water of the ocea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Earth is surrounded by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ga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solution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that we call air – a homogeneous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mixture of oxygen, nitrogen, and other gase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 Mixtur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838080" y="1371600"/>
            <a:ext cx="7467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re are even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solid solution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, such as a sterling silv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(Sterling silver is a solution of silver and copper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Picture 5" descr="MPj03989610000[1]"/>
          <p:cNvPicPr/>
          <p:nvPr/>
        </p:nvPicPr>
        <p:blipFill>
          <a:blip r:embed="rId1"/>
          <a:stretch/>
        </p:blipFill>
        <p:spPr>
          <a:xfrm>
            <a:off x="4495680" y="4789440"/>
            <a:ext cx="2514600" cy="14382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6" descr="MPj03848250000[1]"/>
          <p:cNvPicPr/>
          <p:nvPr/>
        </p:nvPicPr>
        <p:blipFill>
          <a:blip r:embed="rId2"/>
          <a:stretch/>
        </p:blipFill>
        <p:spPr>
          <a:xfrm>
            <a:off x="1600200" y="4724280"/>
            <a:ext cx="1905120" cy="12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What to do now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 p. 107.  Do the activity in the yellow square “Homogeneous Mixtures”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swer questions 1 of “What to do”. When you  are done, complete # 2, 3, 4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n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 p. 111 complete # 1 and # 2 a). We will correct in a few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Answ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685440" y="12952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#1. </a:t>
            </a: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How may sets of properties do you need to observe in order to classify a material as a heterogeneous 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-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Anything with two or more distinct sets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2. a) What is a solution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-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A homogeneous mixture is a solu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c"/>
                </a:solidFill>
                <a:latin typeface="Arial Rounded MT Bol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4.3 – Mixtures and Pure Substance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533520" y="1295280"/>
            <a:ext cx="80769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e have seen that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 mixtur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have two sets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re are also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, which have properties that are a ble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blend of properties depends on how much of one material and how much of the other material are in the mixt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8080" y="1294920"/>
            <a:ext cx="74678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re there any pure substances – materials whose properties are not a blend and are always the sam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√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Yes there are pure substanc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Examples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: gold, oxygen, copper, aluminum, silver, sugar, salt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How can you find a pure substance?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761760" y="144792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First you look to see if the material is homogeneous. A pure substance must be homogeneo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nvestigate (observe) the properties of the material to find out if they are always the sa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2" name="Picture 4" descr="MCj04338000000[1]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9140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 Rounded MT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f they re all exactly the same in all parts of the material, no matter what part of the world the material comes from, then you may conclude that you have a pure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 Rounded MT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 Rounded MT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 thorough investigation is necessary before anything can be classified as a pure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5" name="Picture 4" descr="MCj04338000000[1]"/>
          <p:cNvPicPr/>
          <p:nvPr/>
        </p:nvPicPr>
        <p:blipFill>
          <a:blip r:embed="rId1"/>
          <a:stretch/>
        </p:blipFill>
        <p:spPr>
          <a:xfrm>
            <a:off x="7924680" y="152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Rectangle 2" descr=""/>
          <p:cNvPicPr/>
          <p:nvPr/>
        </p:nvPicPr>
        <p:blipFill>
          <a:blip r:embed="rId1"/>
          <a:stretch/>
        </p:blipFill>
        <p:spPr>
          <a:xfrm>
            <a:off x="450720" y="390600"/>
            <a:ext cx="8242560" cy="129204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533520" y="1671120"/>
            <a:ext cx="80820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Task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differences between these pairs: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Glass &amp; Ste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Water &amp; Mil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Gasoline &amp; O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03" name="Picture 4" descr="MCj04043530000[1]"/>
          <p:cNvPicPr/>
          <p:nvPr/>
        </p:nvPicPr>
        <p:blipFill>
          <a:blip r:embed="rId2"/>
          <a:stretch/>
        </p:blipFill>
        <p:spPr>
          <a:xfrm>
            <a:off x="6324480" y="4114800"/>
            <a:ext cx="18288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What we have seen so far about matter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27672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Organization Chart 5"/>
          <p:cNvGrpSpPr/>
          <p:nvPr/>
        </p:nvGrpSpPr>
        <p:grpSpPr>
          <a:xfrm>
            <a:off x="838080" y="1523880"/>
            <a:ext cx="7467120" cy="4601160"/>
            <a:chOff x="838080" y="1523880"/>
            <a:chExt cx="7467120" cy="4601160"/>
          </a:xfrm>
        </p:grpSpPr>
        <p:cxnSp>
          <p:nvCxnSpPr>
            <p:cNvPr id="779" name="_s1028"/>
            <p:cNvCxnSpPr>
              <a:stCxn id="780" idx="0"/>
              <a:endCxn id="781" idx="2"/>
            </p:cNvCxnSpPr>
            <p:nvPr/>
          </p:nvCxnSpPr>
          <p:spPr>
            <a:xfrm flipV="1" rot="16200000">
              <a:off x="5867280" y="3894480"/>
              <a:ext cx="575640" cy="158472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2" name="_s1029"/>
            <p:cNvCxnSpPr>
              <a:stCxn id="783" idx="0"/>
              <a:endCxn id="781" idx="2"/>
            </p:cNvCxnSpPr>
            <p:nvPr/>
          </p:nvCxnSpPr>
          <p:spPr>
            <a:xfrm flipH="1" flipV="1" rot="5400000">
              <a:off x="4284000" y="3895200"/>
              <a:ext cx="575640" cy="158400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4" name="_s1030"/>
            <p:cNvCxnSpPr>
              <a:stCxn id="781" idx="0"/>
              <a:endCxn id="785" idx="2"/>
            </p:cNvCxnSpPr>
            <p:nvPr/>
          </p:nvCxnSpPr>
          <p:spPr>
            <a:xfrm flipV="1" rot="16200000">
              <a:off x="4283640" y="2169000"/>
              <a:ext cx="575640" cy="158400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6" name="_s1031"/>
            <p:cNvCxnSpPr>
              <a:stCxn id="787" idx="0"/>
              <a:endCxn id="785" idx="2"/>
            </p:cNvCxnSpPr>
            <p:nvPr/>
          </p:nvCxnSpPr>
          <p:spPr>
            <a:xfrm flipH="1" flipV="1" rot="5400000">
              <a:off x="2700000" y="2169000"/>
              <a:ext cx="575640" cy="158472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85" name="_s1032"/>
            <p:cNvSpPr/>
            <p:nvPr/>
          </p:nvSpPr>
          <p:spPr>
            <a:xfrm>
              <a:off x="2422080" y="152388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All materia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_s1033"/>
            <p:cNvSpPr/>
            <p:nvPr/>
          </p:nvSpPr>
          <p:spPr>
            <a:xfrm>
              <a:off x="838080" y="324936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Heterogeneou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materia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_s1034"/>
            <p:cNvSpPr/>
            <p:nvPr/>
          </p:nvSpPr>
          <p:spPr>
            <a:xfrm>
              <a:off x="4005720" y="324936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Homogeneou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materia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_s1035"/>
            <p:cNvSpPr/>
            <p:nvPr/>
          </p:nvSpPr>
          <p:spPr>
            <a:xfrm>
              <a:off x="2422080" y="497484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Homogeneou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mixture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_s1036"/>
            <p:cNvSpPr/>
            <p:nvPr/>
          </p:nvSpPr>
          <p:spPr>
            <a:xfrm>
              <a:off x="5590080" y="497484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Pure substance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88" name="Picture 20" descr="MCj04338000000[1]"/>
          <p:cNvPicPr/>
          <p:nvPr/>
        </p:nvPicPr>
        <p:blipFill>
          <a:blip r:embed="rId1"/>
          <a:stretch/>
        </p:blipFill>
        <p:spPr>
          <a:xfrm>
            <a:off x="7924680" y="12193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A Theory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60912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How can pure substances always be the sam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How can solutions have blended properties but still be homogeneou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o answer these questions, scientists need a theory (explanation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1" name="Picture 4" descr="MCj04315120000[1]"/>
          <p:cNvPicPr/>
          <p:nvPr/>
        </p:nvPicPr>
        <p:blipFill>
          <a:blip r:embed="rId1"/>
          <a:stretch/>
        </p:blipFill>
        <p:spPr>
          <a:xfrm>
            <a:off x="7696080" y="21337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457200" y="304920"/>
            <a:ext cx="81532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theory that scientists use to explain the properties of various mixtures and substances is called the 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article theory of matt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ll matter is made up of extremely tiny particl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Each pure substance has its own kind of particle, different from the particles of other pure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3" name="Picture 4" descr="MCj04338000000[1]"/>
          <p:cNvPicPr/>
          <p:nvPr/>
        </p:nvPicPr>
        <p:blipFill>
          <a:blip r:embed="rId1"/>
          <a:stretch/>
        </p:blipFill>
        <p:spPr>
          <a:xfrm>
            <a:off x="7924680" y="152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456840" y="380520"/>
            <a:ext cx="80773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Based on the particle theory,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ure substanc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is a material made up of only one kind of extremely small partic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ccording to the particle theory, all water particles are exactly the sam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Pure water, no matter how or where it is obtained, always contains identical particl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685440" y="1218960"/>
            <a:ext cx="7543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imilarly, all particles of table     sugar are exactly the sa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y are different from water particles, different from the particles of any other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But all the particles of table sugar are the sa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6" name="Picture 6" descr="MPj02896290000[1]"/>
          <p:cNvPicPr/>
          <p:nvPr/>
        </p:nvPicPr>
        <p:blipFill>
          <a:blip r:embed="rId1"/>
          <a:stretch/>
        </p:blipFill>
        <p:spPr>
          <a:xfrm>
            <a:off x="7162920" y="685800"/>
            <a:ext cx="1596960" cy="22860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7" descr="MCj02514750000[1]"/>
          <p:cNvPicPr/>
          <p:nvPr/>
        </p:nvPicPr>
        <p:blipFill>
          <a:blip r:embed="rId2"/>
          <a:stretch/>
        </p:blipFill>
        <p:spPr>
          <a:xfrm>
            <a:off x="7543800" y="5181480"/>
            <a:ext cx="1301760" cy="14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Lets see how well you understood…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914400" y="152352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urn to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. 115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in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swer to questions #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1. a, b, c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and #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2. a, b, c, d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n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. 118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#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e will correct the exercise together in 10-15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swers « Pouring? Shaping? Filling? (p. 115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76212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1. Name the state(s) in which a material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a) has a fixed shap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A - sol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b) takes the shape of its contain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B - liqu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) always fills watever container it is 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C - g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53316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 Rounded MT Bold"/>
              </a:rPr>
              <a:t>2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Name the state(s) in which the particle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) far apart from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C –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b) relatively close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B - 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) free to move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C - gas   &amp; B - 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d) held in fixed po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A- so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8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D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85440" y="15235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Introduction – Chapter 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Section 5.1 definition - diss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Comic str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Resembla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nstruction material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n be mel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nnot bend in original stat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(without being melted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iffere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or (glass is transparent, steel is grey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ight (steel is heavier, if the size is the sam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eel (metal) can conduct electric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lass is fragile, steel is not easily brok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06" name="Picture 4" descr="MCj03316670000[1]"/>
          <p:cNvPicPr/>
          <p:nvPr/>
        </p:nvPicPr>
        <p:blipFill>
          <a:blip r:embed="rId2"/>
          <a:stretch/>
        </p:blipFill>
        <p:spPr>
          <a:xfrm>
            <a:off x="7238880" y="304920"/>
            <a:ext cx="1209960" cy="17859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" descr="MCj00902410000[1]"/>
          <p:cNvPicPr/>
          <p:nvPr/>
        </p:nvPicPr>
        <p:blipFill>
          <a:blip r:embed="rId3"/>
          <a:stretch/>
        </p:blipFill>
        <p:spPr>
          <a:xfrm>
            <a:off x="6629400" y="2666880"/>
            <a:ext cx="2125800" cy="150840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" descr="MCj04062020000[1]"/>
          <p:cNvPicPr/>
          <p:nvPr/>
        </p:nvPicPr>
        <p:blipFill>
          <a:blip r:embed="rId4"/>
          <a:stretch/>
        </p:blipFill>
        <p:spPr>
          <a:xfrm>
            <a:off x="457200" y="228600"/>
            <a:ext cx="11127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Resemblanc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y can freeze and evapora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can drink the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ood for our healt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nflammable (cannot catch fir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iffere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or (water is clear, milk has color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ter is transparent, milk is no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ter is more widespread on earth (2/3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ter is naturally on Earth, milk comes from cow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ilk is thicker than wa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11" name="Picture 4" descr="MCj04104490000[1]"/>
          <p:cNvPicPr/>
          <p:nvPr/>
        </p:nvPicPr>
        <p:blipFill>
          <a:blip r:embed="rId2"/>
          <a:stretch/>
        </p:blipFill>
        <p:spPr>
          <a:xfrm>
            <a:off x="6553080" y="762120"/>
            <a:ext cx="23418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Rectangle 2" descr=""/>
          <p:cNvPicPr/>
          <p:nvPr/>
        </p:nvPicPr>
        <p:blipFill>
          <a:blip r:embed="rId1"/>
          <a:stretch/>
        </p:blipFill>
        <p:spPr>
          <a:xfrm>
            <a:off x="1292400" y="29844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Resembla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ranspar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bustible (can catch on fir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ixture (not pure substance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iffere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or (oil has color, gasoline is clear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mel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il is thicker than gasolin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asoline is what we put in our ca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oking oil can be used in a kitch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14" name="Picture 4" descr="MCj03842060000[1]"/>
          <p:cNvPicPr/>
          <p:nvPr/>
        </p:nvPicPr>
        <p:blipFill>
          <a:blip r:embed="rId2"/>
          <a:stretch/>
        </p:blipFill>
        <p:spPr>
          <a:xfrm>
            <a:off x="380880" y="228600"/>
            <a:ext cx="1300320" cy="150804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MCj03254760000[1]"/>
          <p:cNvPicPr/>
          <p:nvPr/>
        </p:nvPicPr>
        <p:blipFill>
          <a:blip r:embed="rId3"/>
          <a:stretch/>
        </p:blipFill>
        <p:spPr>
          <a:xfrm>
            <a:off x="7238880" y="609480"/>
            <a:ext cx="1459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Rectangle 2" descr=""/>
          <p:cNvPicPr/>
          <p:nvPr/>
        </p:nvPicPr>
        <p:blipFill>
          <a:blip r:embed="rId1"/>
          <a:stretch/>
        </p:blipFill>
        <p:spPr>
          <a:xfrm>
            <a:off x="682560" y="1066680"/>
            <a:ext cx="8290080" cy="254160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609480" y="36572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odule 2 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ffff"/>
                </a:solidFill>
                <a:latin typeface="Arial"/>
              </a:rPr>
              <a:t>Pure Substances and Mix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4.1 - Matter in Your Worl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Matter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  any material that occupies space and has a mass (includes all solids, liquids, and gase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Properties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  the characteristics that are used to describe mat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xamples: size, shape, form, state, smell, color, tast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*Every material has its own set of properties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ater at the beach (photo on page 98) 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has the following properti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lear, liqu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olor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odor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reezes at 0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º C *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(under norm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condi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Boils at 100º 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2" name="Picture 4" descr="MCj04109210000[1]"/>
          <p:cNvPicPr/>
          <p:nvPr/>
        </p:nvPicPr>
        <p:blipFill>
          <a:blip r:embed="rId1"/>
          <a:stretch/>
        </p:blipFill>
        <p:spPr>
          <a:xfrm>
            <a:off x="7315200" y="228600"/>
            <a:ext cx="1514520" cy="15238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5" descr="MCj04125560000[1]"/>
          <p:cNvPicPr/>
          <p:nvPr/>
        </p:nvPicPr>
        <p:blipFill>
          <a:blip r:embed="rId2"/>
          <a:stretch/>
        </p:blipFill>
        <p:spPr>
          <a:xfrm>
            <a:off x="457200" y="30492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" descr="MCj02949790000[1]"/>
          <p:cNvPicPr/>
          <p:nvPr/>
        </p:nvPicPr>
        <p:blipFill>
          <a:blip r:embed="rId3"/>
          <a:stretch/>
        </p:blipFill>
        <p:spPr>
          <a:xfrm>
            <a:off x="4724280" y="3527280"/>
            <a:ext cx="388620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7:38:30Z</dcterms:created>
  <dc:creator>Lisa.c.Cormier</dc:creator>
  <dc:description/>
  <dc:language>en-US</dc:language>
  <cp:lastModifiedBy>Lisa.c.Cormier</cp:lastModifiedBy>
  <dcterms:modified xsi:type="dcterms:W3CDTF">2009-04-16T17:57:01Z</dcterms:modified>
  <cp:revision>4</cp:revision>
  <dc:subject/>
  <dc:title>Science 7</dc:title>
</cp:coreProperties>
</file>