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7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12.wmf" ContentType="image/x-wmf"/>
  <Override PartName="/ppt/media/image30.wmf" ContentType="image/x-wmf"/>
  <Override PartName="/ppt/media/image33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34.png" ContentType="image/png"/>
  <Override PartName="/ppt/media/image9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26.jpeg" ContentType="image/jpeg"/>
  <Override PartName="/ppt/media/image37.wmf" ContentType="image/x-wmf"/>
  <Override PartName="/ppt/media/image32.jpeg" ContentType="image/jpeg"/>
  <Override PartName="/ppt/media/image17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1.png" ContentType="image/png"/>
  <Override PartName="/ppt/media/image15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4BB0-81A6-454F-9B36-D69AE8430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F3F0-9F7F-4B51-ADC2-D3C5E6B842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239E-3028-4E6D-A717-ACA7B30CE5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12FE-B906-477F-A506-BBA3D73B9D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365F-CFE2-4CB4-BA40-26DE00693C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F6F6-A746-461E-877F-69892F5818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84A7-B9E8-429F-8A39-23711D1B78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20C8-F50F-42D4-9ED3-D231A00838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9B73-7AE1-4BD9-A059-001F4BA975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161F-8AFF-4DE1-8E9F-0EB67969EC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D2F-C9E3-4091-8A02-A14F6A07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355-DFC6-4E92-BFCC-B148C77E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D0472-3FA0-4FF5-A011-F7D45F1B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A7191-E3C1-4DC6-95D6-7230FDB4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345FA-C68A-434F-9105-00E92463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BC1A1-D521-461B-B74E-7B9300BA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4377D-9CEF-40B8-AD6D-3F07D9C7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4EBBC-75D2-4464-8CF0-A7177B06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21F9D-C6F6-47D2-870A-9E32C0A6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7DE1E-EDF7-43E9-951A-DBCA3FAA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447A6-87D2-491D-A9DE-F3F30F75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21E49-7BFA-4500-A60B-AAF55518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313-FDFC-4A13-8C9C-7A8268DA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7B121-4D92-4792-93AF-D0D3A7D1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130B7-B515-41C5-B02E-FACD1A60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FDE3E-53C0-4476-8785-C0C08A6C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E1C64-21C7-450B-AFDC-91C1239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A4841-257B-447B-8EE4-A162C2E6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FC7B2-C549-45A8-BC57-AEDEB0DB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C3242-FD62-44FC-81ED-367F87F9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18A82-6CB2-4016-B249-E3FF18EE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CEFB1-07E7-40C9-93A6-857C26F0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EF6C3-521A-4CEC-91D5-5D475D88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23E-B510-4AA2-99B6-8FF2B81B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4A928-9106-43C6-9359-457A4B1C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93FBA-E367-40A2-9C99-07CF7237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5556C-C058-4653-B2A4-EC53ACA2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839A1-C82C-4A6F-B882-43FBBEC7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0DBAC-7F76-4841-A4E7-A12D16EC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9E5F2-C812-497C-B245-F15C5830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6BB22-37CD-47C4-A3E7-9511F249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9A71F-3071-4C78-87B5-56A6F0CB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96BFA-6ED4-4FD3-AF6C-914E11AE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66D73-9120-4C0B-AE78-B5DC447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1D73-F97D-4334-BF2D-778DAE17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62A9E-73AD-4395-BEC6-BB9252F8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5BF3D-7C93-492D-99C1-ADC62D67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B91D1-2B84-4E55-95BD-E7C2E5C6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D03B7-1FE3-4288-B0BE-05E734D7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24A60-DB22-4874-9405-4599F2CE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1DD43-9A61-4BA1-88AE-761FABB1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E3FD6-1C30-4B9E-998B-BDCF1918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A68D4-34F9-4105-9D3F-248792B6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12BA6-5252-4029-93ED-2F75E335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7F783-FA70-4A56-9118-5BE382DE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9DB7-3A23-49D6-9FF9-E5F4A965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0657F-8511-42D4-AA22-9FF4A626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8CC07-5A73-4AC0-94A7-DEE91EB6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2FE96-81F8-401E-905B-ECA47FE3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6C089-1739-42B4-9A65-EC1A85C8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171BA-D28B-4620-9097-0D77FC71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A9F81-3D0D-4DBA-B353-BBDC5D50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97532-941E-4BA3-A81D-E0121D07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D9F79-A24D-4364-8317-9AB89074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FCC3D-A550-49B0-91F0-FC2982B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05C6F-48C7-4F45-B5E2-BA5F811E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2147-4CF3-4FE0-9627-D12E0FCF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96003-D417-4526-AE7E-0D4618CF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D1196-02CB-4807-BF1A-A662E6BC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1B714-8CD2-4AEC-AEA8-DC8CAD5D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6F495-EDD8-4EE6-BDCE-23391330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CBFF7-C448-45E4-8E4F-1ED263DD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1B60D-47EE-444E-ABF3-E271F744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51E97-8D94-49C3-83B7-44E459C3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F09D3-5D4F-47AC-AA4E-E79C8509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54D4E-1018-4255-9410-6712FA45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870AC-8680-4C11-BC55-D74D6A51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1A5E-AE72-410E-99F9-0A647685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88855-A1B5-43D2-869F-1C11EB0C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F8A01-505C-44FF-9390-500EC9EF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03369-768D-4E37-95BF-3E07E6D7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83DFA-113A-42CA-958B-94072AFF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0016F-A2DB-4282-9320-607835CF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102FD-3CF2-4596-8E93-8F1DE590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A460E-970D-48E4-9109-90BC7524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55C44-07D1-4469-8FCD-8962EBB0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6FCB2-C551-423E-B21A-E20B21B8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B6524-9A75-461E-B1B0-69C45619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8AD4-A2A9-4E31-AE42-330781A3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49DE2-001B-481D-BA5F-59184960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382FB-8B31-49C9-8E4F-ADAC2888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11081-4F2D-4878-A6B5-02EED58F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36F04-0BF0-491B-9948-1BD38C49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34892-A48A-476D-9014-7C17C4D0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50638-DB3F-48EA-B4CA-F04FA62B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2B260-46F3-4135-8E3C-012F13AB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1BE142-3364-4A52-B9E4-EEB414A3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467F7-6D51-419B-B906-4E1FCBDB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9BB99-DC23-4F56-835D-FFDD6A94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4726-0562-44B2-942C-22BCBED1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87D02-3A4C-4900-92D1-6DBD5144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C2EF4-CABB-4BF2-B8A0-5ACDAF26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8A957-8F99-4F5A-8F14-C89C9F94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DBD2D-E6C3-4866-8B02-D0FAC3A6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8B082-E4E8-4BAB-93BB-5C0651B1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B6460-98C2-46DA-A884-7EF13191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7FDA3-C418-4FBF-A074-D3C9B9F0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09D677-DDC5-430B-949F-6750D6E5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010DB-7133-4B89-8F14-0E397DC3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30DE97-3434-45C5-8EB8-0180B948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EF29-05A7-47F6-B3E9-CD13F7BC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26C3D-789F-4612-9B79-3A86328F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52932-7F3E-4BFC-B8BD-F823E7C5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28058D-E211-4912-B0E5-7EF1E817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FAA-476C-4C47-B15A-60D7F0CD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18BA-313B-4004-97E9-AE7898D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2B8E-894B-4D3B-BE82-F6225B98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7EC9-2AB1-4A5B-A9A7-1917B104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E211-3153-4535-9D4D-CD6B3188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E798-4D46-4738-BE4E-144D32C1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BC9C-2F81-4BC5-A496-8170982C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14D9-206C-446B-B76D-49F3C9CE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565F-12B6-4FA8-BA8A-5BC3C7E0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288F-4837-42C9-9CE7-BA00E1B5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88F2-297A-4E49-8F10-96C16BF8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606-9DF2-4B9C-9DB8-14E5E8EB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0285-9050-4EDA-B600-86902E26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6C56-AB05-4AB9-BB04-5520CA5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D0B99-9CE8-45E3-A756-C060E5F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9847-D2D7-4B88-9C5E-2FD91A48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03DB-5146-400F-B0A1-F6D5E85C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2112B-7547-452F-B729-15843A89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6ACC-AA27-4E79-8DDD-8A72C214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1481C-0444-497C-BB36-5AD8F307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F162-94E7-4CF6-981A-E99DDF45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F75D-7107-4CF7-92B5-AF3BB30B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66E-BFB0-452D-A750-1E038B9D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2A7B5-4288-42D9-89FC-42CF73A3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915F7-FF70-45C1-B1CE-FE730D1E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1383B-D0BA-41BD-AD46-682C9ADB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60EC0-FA88-4252-B807-CF1EB403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E27C1-6AF2-4F98-A389-F48B6FE6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2611-9D53-40B3-BBDA-A47441D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A8F9-4805-46CD-96DC-C9B234F5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9166C-C714-4D01-95F4-48AEAF8F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2B3B-929B-42A5-9746-FAE2CDE7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D840C-44FA-4F6E-88D9-DE3C3D88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667-6A1D-45E8-B40B-D58F9017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300D1-0349-4D65-8909-326C4142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59DE4-582C-4B6D-9036-6A04E041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FCC0C-57A3-4579-BF3F-B12CA2A3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9F16B-90B3-4D80-84F8-5680CAA7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6B0A-1B48-4D99-81C9-5F34B799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B955-AE13-4E67-8CE8-76C9F8BB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97C2E-FA67-4B2A-9609-8A188EF9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65318-1341-4CC6-8BD8-02725779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E5664-2B68-4EF9-9A90-98F9D2C0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7085E-A666-4327-A1AB-9EC0F999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D81-F206-4896-ABDB-1836BAB5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4F299-D73D-4244-872D-1A4DABAA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66BE2-1C42-415A-AC50-8085ABBB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C1C83-9A15-4CB6-AE7D-106740DF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129BB-1B2F-4E94-B8C1-8FFF9D72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A6AB0-FC83-4E9E-BC2F-550FF1C1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8D00D-06D4-4746-8516-980390BA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7C89B-6FF7-4FC9-BE3F-73B3FF3E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B4B23-8736-46D6-85D0-2022C6E5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BAC6A-2FBA-444C-BC58-A7DA6218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18039-DCB6-4F59-8CED-8CB737B4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DD4-A6C5-4E2C-89CC-19AA31A2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1DED8-8BFE-40C7-BE39-ADF616B5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528EB-A3B5-41FB-8B6A-DF57E229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E4DA7-DF70-497C-9206-6FB1F9E5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FD935-8A51-407F-9E90-4B684A4D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1A0B8-35AC-4115-86F4-2C399085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4D9C8-3AB8-49BE-A919-B57ABCD1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1F399-07CB-4FA5-9445-D1AD8289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B56E0-3373-4A12-94D4-25223AB9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2A4F9-83C5-4EE9-8593-97F6538A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32BD7-3E35-405D-AD09-3BC5102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057-254E-4D05-B420-300182F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9C933-778F-4C5C-BD11-C0C18E44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44A2A-C3A3-4531-A74B-5194EBB5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C5A53-6D19-4BCA-BEC2-660165D1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6EF60-B3F7-4AC8-865D-66691434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C575A-E771-4D55-B41F-18F0F5F5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F0793-8451-47C6-97AC-6692B6B9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646CE-AF87-4FEF-8B8A-7739182C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0FEBA-3F57-417B-B0B1-389495F4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6A686-AB3B-4368-82FF-D42914B2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772A5-BD14-48F8-8791-8C1EFA5C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56E-9925-45B7-9F1B-034801A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B776C-6695-4B13-A6FD-6F1BA62A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752B6-2B3A-43BB-8D56-60993ECE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0DDBA-1FC3-4662-81BF-E060181F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6F73D-9829-4028-88AD-8B9F6ACC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03958-6472-46ED-8ACE-0D782AF8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E7E3F-5FA8-443A-BCF8-67654BB9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D999C-41DA-4F4A-8009-E2FE4193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16196-98DC-4E3C-83F1-D8966B25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0879E-CD68-404B-885B-906CC383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14139-005B-413D-894C-B2968778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21AF-6B28-4691-B0D6-BB86EFE092B5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E71A-BA42-4678-9ADA-EDD7EC6528C0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CC88-62E3-4ABA-B766-375F34D7301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ACF6-58CB-4199-90A5-DD9330E02F8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461E-7404-484F-BCCB-11AE69BE23B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BF5A-6558-46DD-8065-916E08CEDDB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35CD-D5A1-4908-87CA-90F50DAEB34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9A40-E9B1-473B-A19B-0EE98F33A1D7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3E6A-6E1C-4896-97FC-DB7D86AE145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6DD7-FDEE-41F7-8424-7ADF09800DF6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8D7-2F74-49EA-A196-9238B7B5B83F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7932-DFA0-4291-B3FC-36960C6C81D3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2766-1861-4324-9E06-1BC54F59BE7C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6EDB-6D60-41AD-AFEA-AD0ECCD9B570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62F4-D052-4209-AEFD-F70D0E5F8DCD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6ADB-0193-4134-AF32-0109FA88343D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Title 1" descr=""/>
          <p:cNvPicPr/>
          <p:nvPr/>
        </p:nvPicPr>
        <p:blipFill>
          <a:blip r:embed="rId1"/>
          <a:stretch/>
        </p:blipFill>
        <p:spPr>
          <a:xfrm>
            <a:off x="706320" y="853920"/>
            <a:ext cx="8334360" cy="1481400"/>
          </a:xfrm>
          <a:prstGeom prst="rect">
            <a:avLst/>
          </a:prstGeom>
          <a:ln w="0">
            <a:noFill/>
          </a:ln>
        </p:spPr>
      </p:pic>
      <p:pic>
        <p:nvPicPr>
          <p:cNvPr id="693" name="Subtitle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1768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C:\Users\Owner\AppData\Local\Microsoft\Windows\Temporary Internet Files\Content.IE5\1HGG76PY\MCj04369200000[1].png"/>
          <p:cNvPicPr/>
          <p:nvPr/>
        </p:nvPicPr>
        <p:blipFill>
          <a:blip r:embed="rId3"/>
          <a:stretch/>
        </p:blipFill>
        <p:spPr>
          <a:xfrm>
            <a:off x="6858000" y="3571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C:\Users\Owner\AppData\Local\Microsoft\Windows\Temporary Internet Files\Content.IE5\1BCSU8LE\MPj03995780000[1].jpg"/>
          <p:cNvPicPr/>
          <p:nvPr/>
        </p:nvPicPr>
        <p:blipFill>
          <a:blip r:embed="rId4"/>
          <a:stretch/>
        </p:blipFill>
        <p:spPr>
          <a:xfrm>
            <a:off x="857160" y="3786120"/>
            <a:ext cx="2071800" cy="258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C:\Users\Owner\AppData\Local\Microsoft\Windows\Temporary Internet Files\Content.IE5\PKO7PTW0\MCj02317760000[1].wmf"/>
          <p:cNvPicPr/>
          <p:nvPr/>
        </p:nvPicPr>
        <p:blipFill>
          <a:blip r:embed="rId5"/>
          <a:stretch/>
        </p:blipFill>
        <p:spPr>
          <a:xfrm>
            <a:off x="2214720" y="500040"/>
            <a:ext cx="3301920" cy="1649520"/>
          </a:xfrm>
          <a:prstGeom prst="rect">
            <a:avLst/>
          </a:prstGeom>
          <a:ln w="0">
            <a:noFill/>
          </a:ln>
        </p:spPr>
      </p:pic>
      <p:sp>
        <p:nvSpPr>
          <p:cNvPr id="697" name="TextBox 10"/>
          <p:cNvSpPr/>
          <p:nvPr/>
        </p:nvSpPr>
        <p:spPr>
          <a:xfrm>
            <a:off x="3784320" y="47149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entury Gothic"/>
              </a:rPr>
              <a:t>January – March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me materials cannot be described by a single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a material that has more than one set of properties. It contains more than one kind of matter combined in such a way that it keeps its own set of properties.</a:t>
            </a:r>
            <a:r>
              <a:rPr b="0" i="1" lang="en-US" sz="3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wo or more substances combined together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609120" y="837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: means made up of parts, or mixed. A heterogeneous mixture is made up of parts that can be seen and obser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5" descr="MCj02333550000[1]"/>
          <p:cNvPicPr/>
          <p:nvPr/>
        </p:nvPicPr>
        <p:blipFill>
          <a:blip r:embed="rId1"/>
          <a:stretch/>
        </p:blipFill>
        <p:spPr>
          <a:xfrm>
            <a:off x="762120" y="3733920"/>
            <a:ext cx="2895480" cy="24890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MPj04392720000[1]"/>
          <p:cNvPicPr/>
          <p:nvPr/>
        </p:nvPicPr>
        <p:blipFill>
          <a:blip r:embed="rId2"/>
          <a:stretch/>
        </p:blipFill>
        <p:spPr>
          <a:xfrm>
            <a:off x="4419720" y="3733920"/>
            <a:ext cx="38862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0880" y="533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Homogeneous mixture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: means every part of the material is the same. There is only one set of proper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fr-CA" sz="3000" spc="-1" strike="noStrike">
                <a:solidFill>
                  <a:srgbClr val="ffffff"/>
                </a:solidFill>
                <a:latin typeface="Arial"/>
              </a:rPr>
              <a:t>: water, ai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4" descr="MPj04384670000[1]"/>
          <p:cNvPicPr/>
          <p:nvPr/>
        </p:nvPicPr>
        <p:blipFill>
          <a:blip r:embed="rId1"/>
          <a:stretch/>
        </p:blipFill>
        <p:spPr>
          <a:xfrm>
            <a:off x="685800" y="4113360"/>
            <a:ext cx="3048120" cy="2287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MPj04365520000[1]"/>
          <p:cNvPicPr/>
          <p:nvPr/>
        </p:nvPicPr>
        <p:blipFill>
          <a:blip r:embed="rId2"/>
          <a:stretch/>
        </p:blipFill>
        <p:spPr>
          <a:xfrm>
            <a:off x="4952880" y="2666880"/>
            <a:ext cx="3772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Franklin Gothic Book"/>
              </a:rPr>
              <a:t>Heterogeneous or Homogeneous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ith salt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e ju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nut bu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 and pepper mixed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ie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nge juice with pu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A Classified Photograph-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 Activity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(p. 101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533520" y="1676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the photograph on p. 9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Make a table (like the one on p. 10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nd 10 substances in the imag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assify whether each material is heterogeneous or homogeneous. Record your decision in the second column of your t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In the third column, identify what made you decide (observations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45720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464832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45720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464832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45720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464832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Quiz 4.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The quiz on section 4.1</a:t>
            </a:r>
            <a:r>
              <a:rPr b="0" lang="fr-CA" sz="3000" spc="-1" strike="noStrike">
                <a:solidFill>
                  <a:srgbClr val="ffffff"/>
                </a:solidFill>
                <a:latin typeface="Arial Rounded MT Bold"/>
              </a:rPr>
              <a:t> 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5 definitions (matter, properties, homogeneous, heterogeneous, mix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Study</a:t>
            </a:r>
            <a:r>
              <a:rPr b="1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 time!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tudy your 5 definitions (matter, properties, mixture, homogeneous, heterogeneou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Write them dow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with a partner (no laptop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ake a list of as many properties as you can think of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2 – What is a mixtur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33520" y="13712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ything with at least two distinct sets of properties (characteristics) is a mixture of at least 2 materia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 sand, pop, sandwi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(All are heterogeneous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hen a mixture’s different parts can be identified this easily, the mixture is usually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echanical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Title 3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699" name="Content Placeholder 8" descr=""/>
          <p:cNvPicPr/>
          <p:nvPr/>
        </p:nvPicPr>
        <p:blipFill>
          <a:blip r:embed="rId2"/>
          <a:stretch/>
        </p:blipFill>
        <p:spPr>
          <a:xfrm>
            <a:off x="450720" y="1878120"/>
            <a:ext cx="8498160" cy="4583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C:\Users\Owner\AppData\Local\Microsoft\Windows\Temporary Internet Files\Content.IE5\1BCSU8LE\MPj04393840000[1].jpg"/>
          <p:cNvPicPr/>
          <p:nvPr/>
        </p:nvPicPr>
        <p:blipFill>
          <a:blip r:embed="rId3"/>
          <a:stretch/>
        </p:blipFill>
        <p:spPr>
          <a:xfrm>
            <a:off x="357120" y="1714680"/>
            <a:ext cx="4714920" cy="4431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088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ven so-called “homogenized” milk turned out to be a heterogeneous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t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look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omogeneous. With your eyes only, you cannot detect bubbles or bits with a different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ith a microscope, the milk contains many tiny elements of a second liquid – fat. No matter how smooth milk appears, it is actu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By now you may be wondering 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08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n’t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on Earth re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Can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b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3" name="Picture 4" descr="MCj04315600000[1]"/>
          <p:cNvPicPr/>
          <p:nvPr/>
        </p:nvPicPr>
        <p:blipFill>
          <a:blip r:embed="rId1"/>
          <a:stretch/>
        </p:blipFill>
        <p:spPr>
          <a:xfrm rot="1060200">
            <a:off x="4876560" y="3352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MCj04315600000[1]"/>
          <p:cNvPicPr/>
          <p:nvPr/>
        </p:nvPicPr>
        <p:blipFill>
          <a:blip r:embed="rId2"/>
          <a:stretch/>
        </p:blipFill>
        <p:spPr>
          <a:xfrm rot="20137200">
            <a:off x="6095880" y="144756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MCj03977760000[1]"/>
          <p:cNvPicPr/>
          <p:nvPr/>
        </p:nvPicPr>
        <p:blipFill>
          <a:blip r:embed="rId3"/>
          <a:stretch/>
        </p:blipFill>
        <p:spPr>
          <a:xfrm>
            <a:off x="7772400" y="1219320"/>
            <a:ext cx="1066680" cy="8744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" descr="MCj04042630000[1]"/>
          <p:cNvPicPr/>
          <p:nvPr/>
        </p:nvPicPr>
        <p:blipFill>
          <a:blip r:embed="rId4"/>
          <a:stretch/>
        </p:blipFill>
        <p:spPr>
          <a:xfrm>
            <a:off x="6781680" y="3294000"/>
            <a:ext cx="15289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088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homogeneous mixture is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lutions are everywhere. 2/3 of Earth is covered with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liquid 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- the water of the oc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rth is surrounded b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ga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that we call air – a homogeneous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ixture of oxygen, nitrogen, and other gas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838080" y="13716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eve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id solution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such as a sterling silv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(Sterling silver is a solution of silver and copper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5" descr="MPj03989610000[1]"/>
          <p:cNvPicPr/>
          <p:nvPr/>
        </p:nvPicPr>
        <p:blipFill>
          <a:blip r:embed="rId1"/>
          <a:stretch/>
        </p:blipFill>
        <p:spPr>
          <a:xfrm>
            <a:off x="4495680" y="4789440"/>
            <a:ext cx="2514600" cy="14382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" descr="MPj03848250000[1]"/>
          <p:cNvPicPr/>
          <p:nvPr/>
        </p:nvPicPr>
        <p:blipFill>
          <a:blip r:embed="rId2"/>
          <a:stretch/>
        </p:blipFill>
        <p:spPr>
          <a:xfrm>
            <a:off x="1600200" y="4724280"/>
            <a:ext cx="190512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to do now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07.  Do the activity in the yellow square “Homogeneous Mixtur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questions 1 of “What to do”. When you  are done, complete # 2, 3, 4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11 complete # 1 and # 2 a). We will correct in a few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nsw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85440" y="12952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#1. </a:t>
            </a: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How may sets of properties do you need to observe in order to classify a material as a 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nything with two or more distinct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2. a) What is a solu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 homogeneous mixture is a solu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c"/>
                </a:solidFill>
                <a:latin typeface="Arial Rounded MT 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4.3 – Mixtures and Pure Substanc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33520" y="129528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have seen that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ave two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also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which have properties that are a bl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blend of properties depends on how much of one material and how much of the other material are in the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8080" y="1294920"/>
            <a:ext cx="74678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re there any pure substances – materials whose properties are not a blend and are always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√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Yes there are pure substanc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: gold, oxygen, copper, aluminum, silver, sugar, salt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How can you find a pure substance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761760" y="14479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First you look to see if the material is homogeneous. A pure substance must be homogeneo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vestigate (observe) the properties of the material to find out if they are always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140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f they re all exactly the same in all parts of the material, no matter what part of the world the material comes from, then you may conclude that you have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thorough investigation is necessary before anything can be classified as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5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Rectangle 2" descr=""/>
          <p:cNvPicPr/>
          <p:nvPr/>
        </p:nvPicPr>
        <p:blipFill>
          <a:blip r:embed="rId1"/>
          <a:stretch/>
        </p:blipFill>
        <p:spPr>
          <a:xfrm>
            <a:off x="450720" y="390600"/>
            <a:ext cx="8242560" cy="12920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533520" y="1671120"/>
            <a:ext cx="8082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Task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differences between these pairs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lass &amp; Ste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Water &amp;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asoline &amp; O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3" name="Picture 4" descr="MCj04043530000[1]"/>
          <p:cNvPicPr/>
          <p:nvPr/>
        </p:nvPicPr>
        <p:blipFill>
          <a:blip r:embed="rId2"/>
          <a:stretch/>
        </p:blipFill>
        <p:spPr>
          <a:xfrm>
            <a:off x="6324480" y="4114800"/>
            <a:ext cx="18288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we have seen so far about matter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2767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Organization Chart 5"/>
          <p:cNvGrpSpPr/>
          <p:nvPr/>
        </p:nvGrpSpPr>
        <p:grpSpPr>
          <a:xfrm>
            <a:off x="838080" y="1523880"/>
            <a:ext cx="7467120" cy="4601160"/>
            <a:chOff x="838080" y="1523880"/>
            <a:chExt cx="7467120" cy="4601160"/>
          </a:xfrm>
        </p:grpSpPr>
        <p:cxnSp>
          <p:nvCxnSpPr>
            <p:cNvPr id="779" name="_s1028"/>
            <p:cNvCxnSpPr>
              <a:stCxn id="780" idx="0"/>
              <a:endCxn id="781" idx="2"/>
            </p:cNvCxnSpPr>
            <p:nvPr/>
          </p:nvCxnSpPr>
          <p:spPr>
            <a:xfrm flipV="1" rot="16200000">
              <a:off x="5867280" y="389448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2" name="_s1029"/>
            <p:cNvCxnSpPr>
              <a:stCxn id="783" idx="0"/>
              <a:endCxn id="781" idx="2"/>
            </p:cNvCxnSpPr>
            <p:nvPr/>
          </p:nvCxnSpPr>
          <p:spPr>
            <a:xfrm flipH="1" flipV="1" rot="5400000">
              <a:off x="4284000" y="38952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4" name="_s1030"/>
            <p:cNvCxnSpPr>
              <a:stCxn id="781" idx="0"/>
              <a:endCxn id="785" idx="2"/>
            </p:cNvCxnSpPr>
            <p:nvPr/>
          </p:nvCxnSpPr>
          <p:spPr>
            <a:xfrm flipV="1" rot="16200000">
              <a:off x="4283640" y="21690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6" name="_s1031"/>
            <p:cNvCxnSpPr>
              <a:stCxn id="787" idx="0"/>
              <a:endCxn id="785" idx="2"/>
            </p:cNvCxnSpPr>
            <p:nvPr/>
          </p:nvCxnSpPr>
          <p:spPr>
            <a:xfrm flipH="1" flipV="1" rot="5400000">
              <a:off x="2700000" y="216900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5" name="_s1032"/>
            <p:cNvSpPr/>
            <p:nvPr/>
          </p:nvSpPr>
          <p:spPr>
            <a:xfrm>
              <a:off x="2422080" y="152388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All 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_s1033"/>
            <p:cNvSpPr/>
            <p:nvPr/>
          </p:nvSpPr>
          <p:spPr>
            <a:xfrm>
              <a:off x="83808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eterogeneou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1034"/>
            <p:cNvSpPr/>
            <p:nvPr/>
          </p:nvSpPr>
          <p:spPr>
            <a:xfrm>
              <a:off x="400572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_s1035"/>
            <p:cNvSpPr/>
            <p:nvPr/>
          </p:nvSpPr>
          <p:spPr>
            <a:xfrm>
              <a:off x="2422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ixture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_s1036"/>
            <p:cNvSpPr/>
            <p:nvPr/>
          </p:nvSpPr>
          <p:spPr>
            <a:xfrm>
              <a:off x="5590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Pure substance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8" name="Picture 20" descr="MCj04338000000[1]"/>
          <p:cNvPicPr/>
          <p:nvPr/>
        </p:nvPicPr>
        <p:blipFill>
          <a:blip r:embed="rId1"/>
          <a:stretch/>
        </p:blipFill>
        <p:spPr>
          <a:xfrm>
            <a:off x="7924680" y="12193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 Theory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pure substances always be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solutions have blended properties but still be homogeneou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o answer these questions, scientists need a theory (explanation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Picture 4" descr="MCj04315120000[1]"/>
          <p:cNvPicPr/>
          <p:nvPr/>
        </p:nvPicPr>
        <p:blipFill>
          <a:blip r:embed="rId1"/>
          <a:stretch/>
        </p:blipFill>
        <p:spPr>
          <a:xfrm>
            <a:off x="7696080" y="2133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45720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theory that scientists use to explain the properties of various mixtures and substances is called the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article theory of matt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ll matter is made up of extremely tiny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ch pure substance has its own kind of particle, different from the particles of other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456840" y="38052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ased on the particle theory,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 substanc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s a material made up of only one kind of extremely small partic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ccording to the particle theory, all water particles are exactly the sam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Pure water, no matter how or where it is obtained, always contains identical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685440" y="1218960"/>
            <a:ext cx="7543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imilarly, all particles of table     sugar are exactly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y are different from water particles, different from the particles of any other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ut all the particles of table sugar are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6" name="Picture 6" descr="MPj02896290000[1]"/>
          <p:cNvPicPr/>
          <p:nvPr/>
        </p:nvPicPr>
        <p:blipFill>
          <a:blip r:embed="rId1"/>
          <a:stretch/>
        </p:blipFill>
        <p:spPr>
          <a:xfrm>
            <a:off x="7162920" y="685800"/>
            <a:ext cx="1596960" cy="2286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MCj02514750000[1]"/>
          <p:cNvPicPr/>
          <p:nvPr/>
        </p:nvPicPr>
        <p:blipFill>
          <a:blip r:embed="rId2"/>
          <a:stretch/>
        </p:blipFill>
        <p:spPr>
          <a:xfrm>
            <a:off x="7543800" y="5181480"/>
            <a:ext cx="1301760" cy="14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Lets see how well you understood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14400" y="15235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urn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5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to questions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1. a, b, c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and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2. a, b, c, d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8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#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will correct the exercise together in 10-1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swers « Pouring? Shaping? Filling? (p. 115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212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1. Name the state(s) in which a materia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a) has a fixed shap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A - sol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b) takes the shape of its contain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) always fills watever container it is 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53316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 Rounded MT Bold"/>
              </a:rPr>
              <a:t>2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Name the state(s) in which the particl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) far apart from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–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) relatively clos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) free to move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   &amp; 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) held in fixe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A- 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D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544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Introduction – Chapter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Section 5.1 definition - dis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Comic str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struction material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be mel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not bend in original stat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without being melted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glass is transparent, steel is gre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ight (steel is heavier, if the size is the sam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eel (metal) can conduct electric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lass is fragile, steel is not easily brok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6" name="Picture 4" descr="MCj03316670000[1]"/>
          <p:cNvPicPr/>
          <p:nvPr/>
        </p:nvPicPr>
        <p:blipFill>
          <a:blip r:embed="rId2"/>
          <a:stretch/>
        </p:blipFill>
        <p:spPr>
          <a:xfrm>
            <a:off x="7238880" y="304920"/>
            <a:ext cx="1209960" cy="17859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MCj00902410000[1]"/>
          <p:cNvPicPr/>
          <p:nvPr/>
        </p:nvPicPr>
        <p:blipFill>
          <a:blip r:embed="rId3"/>
          <a:stretch/>
        </p:blipFill>
        <p:spPr>
          <a:xfrm>
            <a:off x="6629400" y="2666880"/>
            <a:ext cx="2125800" cy="15084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MCj04062020000[1]"/>
          <p:cNvPicPr/>
          <p:nvPr/>
        </p:nvPicPr>
        <p:blipFill>
          <a:blip r:embed="rId4"/>
          <a:stretch/>
        </p:blipFill>
        <p:spPr>
          <a:xfrm>
            <a:off x="457200" y="228600"/>
            <a:ext cx="11127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y can freeze and evapora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can drink the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ood for our healt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nflammable (cannot catch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water is clear, milk has colo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transparent, milk is no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more widespread on earth (2/3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naturally on Earth, milk comes from cow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lk is thicker than wa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1" name="Picture 4" descr="MCj04104490000[1]"/>
          <p:cNvPicPr/>
          <p:nvPr/>
        </p:nvPicPr>
        <p:blipFill>
          <a:blip r:embed="rId2"/>
          <a:stretch/>
        </p:blipFill>
        <p:spPr>
          <a:xfrm>
            <a:off x="6553080" y="762120"/>
            <a:ext cx="23418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Rectangle 2" descr=""/>
          <p:cNvPicPr/>
          <p:nvPr/>
        </p:nvPicPr>
        <p:blipFill>
          <a:blip r:embed="rId1"/>
          <a:stretch/>
        </p:blipFill>
        <p:spPr>
          <a:xfrm>
            <a:off x="1292400" y="29844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bustible (can catch on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xture (not pure substance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oil has color, gasoline is clea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il is thicker than gasolin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asoline is what we put in our ca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oking oil can be used in a kitch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4" name="Picture 4" descr="MCj03842060000[1]"/>
          <p:cNvPicPr/>
          <p:nvPr/>
        </p:nvPicPr>
        <p:blipFill>
          <a:blip r:embed="rId2"/>
          <a:stretch/>
        </p:blipFill>
        <p:spPr>
          <a:xfrm>
            <a:off x="380880" y="228600"/>
            <a:ext cx="1300320" cy="15080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MCj03254760000[1]"/>
          <p:cNvPicPr/>
          <p:nvPr/>
        </p:nvPicPr>
        <p:blipFill>
          <a:blip r:embed="rId3"/>
          <a:stretch/>
        </p:blipFill>
        <p:spPr>
          <a:xfrm>
            <a:off x="7238880" y="609480"/>
            <a:ext cx="1459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Rectangle 2" descr=""/>
          <p:cNvPicPr/>
          <p:nvPr/>
        </p:nvPicPr>
        <p:blipFill>
          <a:blip r:embed="rId1"/>
          <a:stretch/>
        </p:blipFill>
        <p:spPr>
          <a:xfrm>
            <a:off x="682560" y="1066680"/>
            <a:ext cx="8290080" cy="254160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odule 2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ffff"/>
                </a:solidFill>
                <a:latin typeface="Arial"/>
              </a:rPr>
              <a:t>Pure Substances and Mix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1 - Matter in Your Worl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Matter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any material that occupies space and has a mass (includes all solids, liquids, and gas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Properti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the characteristics that are used to describe mat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amples: size, shape, form, state, smell, color, tas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*Every material has its own set of propertie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ater at the beach (photo on page 98)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as the following properti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ear,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ol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od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reezes at 0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º C *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(under norm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ndi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Boils at 100º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4" descr="MCj04109210000[1]"/>
          <p:cNvPicPr/>
          <p:nvPr/>
        </p:nvPicPr>
        <p:blipFill>
          <a:blip r:embed="rId1"/>
          <a:stretch/>
        </p:blipFill>
        <p:spPr>
          <a:xfrm>
            <a:off x="7315200" y="228600"/>
            <a:ext cx="1514520" cy="15238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MCj04125560000[1]"/>
          <p:cNvPicPr/>
          <p:nvPr/>
        </p:nvPicPr>
        <p:blipFill>
          <a:blip r:embed="rId2"/>
          <a:stretch/>
        </p:blipFill>
        <p:spPr>
          <a:xfrm>
            <a:off x="457200" y="3049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MCj02949790000[1]"/>
          <p:cNvPicPr/>
          <p:nvPr/>
        </p:nvPicPr>
        <p:blipFill>
          <a:blip r:embed="rId3"/>
          <a:stretch/>
        </p:blipFill>
        <p:spPr>
          <a:xfrm>
            <a:off x="4724280" y="3527280"/>
            <a:ext cx="388620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38:30Z</dcterms:created>
  <dc:creator>Lisa.c.Cormier</dc:creator>
  <dc:description/>
  <dc:language>en-US</dc:language>
  <cp:lastModifiedBy>Lisa.c.Cormier</cp:lastModifiedBy>
  <dcterms:modified xsi:type="dcterms:W3CDTF">2009-04-16T17:57:01Z</dcterms:modified>
  <cp:revision>4</cp:revision>
  <dc:subject/>
  <dc:title>Science 7</dc:title>
</cp:coreProperties>
</file>