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7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12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26.jpeg" ContentType="image/jpeg"/>
  <Override PartName="/ppt/media/image37.wmf" ContentType="image/x-wmf"/>
  <Override PartName="/ppt/media/image32.jpeg" ContentType="image/jpeg"/>
  <Override PartName="/ppt/media/image17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15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796-01D3-487C-AFA2-FBDE11851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EA0-ADE0-43F3-88FC-A93765221D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31BA-1502-4DEB-90E0-BC1A20226E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B272-EE42-4183-9BF6-02E9AC1ACF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46E-44AB-4FCE-AD50-8854190264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258-457D-469B-B8B3-C0DEB33E0A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7B9F-4018-4278-A032-6027E0DFA3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7A6C-9DE2-4E01-AA12-72A2C10D7D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44A5-5830-49AC-B5E6-AFEC19E88C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6A6-22DB-41BE-9AF9-0C4AE33DBC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570-B925-4FB1-9131-E1CEC070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7CF-C2B2-4541-B060-E4F3748F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38E70-41B9-482E-9907-4A1C6DEB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4106B-E51B-4B8C-A42C-FF995E7C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FCD55-5C83-43F7-B88C-5880C1C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F289-67CC-473E-B319-6793E71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63614-675E-4F3E-8B8B-D228439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B48DC-FE57-491E-80C4-F746054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4987F-EF42-4AA8-8F6E-9D714F2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39756-503F-43A6-A82E-824ED9C1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8AD6D-F15A-4B47-9ABA-0943D0BE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5B767-9257-49B1-9E29-1797B861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5B7-CC60-4909-AB85-AB4003A4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D3D7-0F68-40F8-833A-4B9E7AD7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7117B-8D70-4D7C-ACD8-1C279F2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7682A-85C7-4D87-8E61-340954F7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FA45F-07BA-4ECD-B340-049E360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E4594-3F40-44D9-876C-A405F5F3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4AF72-411F-40F7-B498-31A0467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1BA5F-80F8-49D5-B26C-6450741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A57CF-7318-432C-B61D-A7B540D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E5648-560F-4AA3-BF36-3702FA44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CF27A-32EB-4A53-9F77-59C29143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0D8-FCA2-4666-8C96-105F1938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F3236-1FB9-4737-95DB-81122ABA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6E8D-0D79-4485-86BB-355D2151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1A357-BFE2-4635-AFFD-9267944C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03868-F964-47E9-B04A-38D2250B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61D8A-3565-4EE8-B2DB-5529824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A87F-4F9E-443D-8644-6D5A5E7B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29A21-A005-4084-92BF-84CA620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78821-3610-4CA0-9B7E-E2EA8FB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002D8-C3A0-4988-8D1B-323301D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317B5-976D-4B97-BDB9-F720C54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42D6-5B60-49EE-95B6-5C5E85AF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453EC-7613-4B36-9305-5715CF1B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1045C-E1F9-4B71-BBC9-A8E1CF98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3752-0F53-4B93-9CE1-5461D960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0C4A1-91A2-40F4-A25D-B32991B9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F4DB1-1025-49F5-A212-672BEA8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D63CA-E94F-4E5B-A7C3-38DDAA8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ED0A5-BE8E-4B07-B317-75ABBF44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C482F-1633-4A2E-8350-2F9537A0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33401-4CBC-47BB-9CD9-E61878A5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125C0-D3C2-4E0C-8313-53B2F42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1484-970C-4A18-95AA-C14C10B6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ED350-FA5A-459A-BC1E-EC6E5C0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15ED6-698F-4C05-98E9-856B89E4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F2A21-90C3-45EA-8A59-EB77B45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383E5-7CB7-47A1-8C91-89798E0B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1B54E-F24D-4F2A-AA77-3C0AAC5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C31E9-A36B-493D-99E8-4D8BD55A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10D9A-FC55-405D-8E2D-980178A6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A503C-1AFA-44E0-8978-BE05F65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6ABEA-BF2C-44CF-BE34-535AC71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1D807-E25B-4667-A93A-A803F24E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4801-C2EE-42C2-B080-51B505D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0F94D-87A5-4C5C-96C0-030C379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B8EE6-B8CC-4667-9AA5-15D0CFB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66B2D-75B0-4105-829D-8310576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47C23-64E6-4975-85C9-EDCE2284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D728E-B1CE-44FD-BB75-6653A30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615C9-8FF9-4D43-88F6-FBCD357A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3D0A1-4C3D-4CD4-9DE5-364B8CDC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F7F97-C10E-429C-AA89-5EE1883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7F298-491C-40A8-A4AD-D7B6B53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3E22F-1101-4D97-937B-6D0DAA11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0872-95D1-4D67-963B-F38BE36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C813C-22F7-4B7D-A2F5-6BBE53DE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A29BB-3515-4F7F-A3A1-23C181DB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303F4-2329-462B-BC97-92DB13E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57BB4-DEAF-4AE9-8031-1747DAE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F0829-E87F-4BFF-B33F-9FF90B1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F77F3-50D4-4DAF-BA3A-F04F66B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EDF8E-CDAD-4FDC-9B64-0B3DD6C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4307F-EF3F-4063-9D61-43B5A274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E95ED-6DD2-4684-896F-DC429659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8A0FD-2CC3-4749-A5BA-EEA8A3BE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1311-2094-4878-881E-7AB59C6F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FAF16-42BD-4753-8682-B47F4098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CE739-DC04-4BB5-ADC8-13FFAE8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FDD98-2EEB-480B-BAA0-867632F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E6819-4347-45D9-BDF4-2CED829A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99CEF-1D9B-4AE9-BC38-C37750B1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37754-767C-4B5A-853C-F7D6EDE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06B6A-6187-4CF9-9486-35122393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E853C-DD85-4851-B770-674D6FD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14A9B-8991-4D7E-8DA3-B149F1A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16B00-8DF1-40A5-A5A5-4ADA7DF6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2AA2-EA60-4798-B345-C8A44E7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FF9FD-CCCB-439F-B7EE-970B1D8C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9C40A-A7E8-4A11-858C-79502CF9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F0BF6-D111-41E9-8054-0463F0F6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B3A0F-A1FA-450E-A75D-39152F4C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4FE9E-0AB0-42E6-96F5-D4554BA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7274F-5C06-4684-A734-6A35E3D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5EEBA-FBFB-43C3-A4F0-9B95104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E8712-F012-47F2-9662-78AA003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74C35-224F-4C87-B615-09F1A98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2CACC-87C7-40BE-8183-73E38DA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FE8A-54A7-470A-B86E-0891A48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F9717-049B-45E9-971F-836BACA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FBB21-E0A8-4D5C-97BD-FC415B3E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E49ED-E78B-4EC7-B341-77031F46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50D-1400-44FE-A5A2-FE397F0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D1F0-8657-4D75-A63C-E5B0433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A593-537C-4E45-9A97-3FBA5A28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45F-49DB-4321-8167-06E1D5A7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AC2A-EF1C-4B6D-800E-8349F730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5E47-7628-4E83-830F-7CAB291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B6B8-B1E3-4F44-88B5-C7C37B6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933C-E482-478F-8990-DBBB10B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2CDE-5830-4462-A759-71650EF4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E4A0-CFCD-47DE-8CD0-FC4DE0E6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6636-0601-43DD-A291-8FDBC076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6E4-A42A-4D98-B7F5-E1A1036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8CE1-4334-4F7F-8655-B3A1C36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F7F6-BF0C-478A-AC3E-2CFB086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A990-AD07-46B0-B68A-F0159E04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23E6-7B73-4FDC-9EA7-64EB9E4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1350-6AEE-43B9-864E-6344E2D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5917-6FF9-401A-9731-91B6E714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1FC5-5806-4AF8-8A8B-2503D35D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D49F-6BDE-420F-93BA-3763819E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9845-2DB7-4196-B26B-491547E1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82B7-DC8A-41BD-9429-30A5E226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AB7-148C-4C88-B587-C7BBA85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4897-1559-43DE-ACBD-739BD47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8D73-78A1-471E-A625-5982A374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A83F-BFEF-4019-A239-389D9CD3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2F800-BEF3-409D-84EB-FDE2D68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C508-B812-4F03-9139-B126D20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AC31-D85F-42BE-ABE6-BF67E81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EF52-78CB-41F6-B87D-A62EFB5A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0606-33C4-4410-9027-09C3EDF3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5573-BEC8-4115-8091-CD9B7E1F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70F8-0558-4BAC-B3B0-2F23A166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4FB-A126-4762-BA54-AC212798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EF0B-764C-4FCD-AE12-B57E448A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F92C-FAD2-44EA-96DD-9D95C7FC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C7CD-0AAF-4049-AC8A-7E977B37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6B46-6516-4F24-8875-1ECA4033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575A-19FA-48B2-A195-85FB285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347B-ACBD-44B5-9EE8-4417DA5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3AF8-20B7-4421-92E3-BDCAF0DC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996C-2960-4FB7-9596-3D35DD9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28A90-906B-40C1-9E3D-38730AC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4DB4-39B1-43DC-B9F3-CABDE0E4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E56-DCF4-48B0-91DB-89C6D744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13091-B858-41CD-9031-B10F49ED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D8152-5F31-47A4-B15D-812975FA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EC65-9799-4C30-8250-BBE75D59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49B34-152C-492E-AADD-4F695BA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E4153-15D2-4273-BB30-FF031DF3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2F51-3826-458F-A5DB-EFEA4D0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3767-5214-454F-9C15-A3D6BE3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C6B5-1201-41FA-84D6-A1D4F31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B644-A434-4486-8339-125FBDF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C060-83B9-4EAF-ACD1-A134624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127-A61F-4223-B01F-A593C59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DD4C-B0B2-4905-A511-3EE65A3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304C-C98A-442A-8D0B-0E5734CF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4BB2D-A30B-4FD5-ABFD-8662939E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8E59-CFE8-418D-993E-47ABA8FD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9119D-F082-4EB9-B00F-F242507F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C9094-2D15-43B9-9AB8-0DA8A4B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9D5F-07D4-40D3-BDF5-E4CC095B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27A1C-C5C4-4E62-B8F4-699AE63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4A7F-A129-47BF-A785-3ECD94E7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55ED-ED44-477C-93DC-D8ACBE4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BB8-ABC2-4254-926A-A215EBF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AB22F-1F36-469D-9798-C1EEB53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C713-A05A-499E-9C0C-D093BF2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EA75-995A-4D6F-ACF2-B2F93385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A59B9-BA01-42A5-9493-4C9557D3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2D44-4FE8-4A11-8DD9-8E276194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5E0E-E82F-45B6-9D42-5743C85D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F416-2A78-4C8C-9646-CCC9125B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694C-B114-4753-A24E-BB1BF94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36C0-E407-4A1B-85E9-9AF77A5E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264D-1EBB-4E7B-A2E9-480DDEE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F0B-BAC4-49F4-9DD8-31DDF10C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8A5A-54EC-40E3-B73F-E33F20C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6698-2A6D-4BEF-AD22-CA784F0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6D809-865A-469A-9FC5-CBFCFC5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8D903-C1B4-4AE0-8DEA-59CC067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58656-C2C4-48EB-8938-867175BC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25E7-6882-447D-B0F0-21C15588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63B9-A748-43B6-9718-75339136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E777E-4C11-45FA-94F7-7F9376BD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578B-874F-4A08-BAA2-0953FB1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68A2B-25F2-4DAA-BD3F-06CA87C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7DC-803E-4D2E-91C1-8724C5902B99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118-06F3-48EB-8B1E-45339FBE158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9C82-D7F4-42C4-B585-8A5D09C9519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D677-C633-4DAB-93D5-B6A2EA58192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96E5-BCFB-4437-AE70-58044F5CBF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2BB-B80F-48C6-AE2F-769FDC0C224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489-A9A3-4CBF-B453-3102F4BD34A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5030-E92C-49EC-883D-1E50392AA2F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EB4-7E03-46CF-A977-A6A44530441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482-23A8-4C63-832B-CD32DC5AD959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8AE-E46A-4367-81D3-1A860C0A0B1D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C2FB-9D8F-4B3F-8187-71BF0A98863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4A23-FD00-4B90-8AE3-DDA5FE2B15F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9C8B-BF2E-48ED-B2D3-D4021AA82D71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9538-5506-4698-8446-5AC0F34C180A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F428-09E2-45B9-A2B9-8D819A09718B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Title 1" descr=""/>
          <p:cNvPicPr/>
          <p:nvPr/>
        </p:nvPicPr>
        <p:blipFill>
          <a:blip r:embed="rId1"/>
          <a:stretch/>
        </p:blipFill>
        <p:spPr>
          <a:xfrm>
            <a:off x="706320" y="853920"/>
            <a:ext cx="8334360" cy="1481400"/>
          </a:xfrm>
          <a:prstGeom prst="rect">
            <a:avLst/>
          </a:prstGeom>
          <a:ln w="0">
            <a:noFill/>
          </a:ln>
        </p:spPr>
      </p:pic>
      <p:pic>
        <p:nvPicPr>
          <p:cNvPr id="693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Owner\AppData\Local\Microsoft\Windows\Temporary Internet Files\Content.IE5\1HGG76PY\MCj04369200000[1].png"/>
          <p:cNvPicPr/>
          <p:nvPr/>
        </p:nvPicPr>
        <p:blipFill>
          <a:blip r:embed="rId3"/>
          <a:stretch/>
        </p:blipFill>
        <p:spPr>
          <a:xfrm>
            <a:off x="6858000" y="3571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Users\Owner\AppData\Local\Microsoft\Windows\Temporary Internet Files\Content.IE5\1BCSU8LE\MPj03995780000[1].jpg"/>
          <p:cNvPicPr/>
          <p:nvPr/>
        </p:nvPicPr>
        <p:blipFill>
          <a:blip r:embed="rId4"/>
          <a:stretch/>
        </p:blipFill>
        <p:spPr>
          <a:xfrm>
            <a:off x="857160" y="3786120"/>
            <a:ext cx="2071800" cy="258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:\Users\Owner\AppData\Local\Microsoft\Windows\Temporary Internet Files\Content.IE5\PKO7PTW0\MCj02317760000[1].wmf"/>
          <p:cNvPicPr/>
          <p:nvPr/>
        </p:nvPicPr>
        <p:blipFill>
          <a:blip r:embed="rId5"/>
          <a:stretch/>
        </p:blipFill>
        <p:spPr>
          <a:xfrm>
            <a:off x="2214720" y="500040"/>
            <a:ext cx="3301920" cy="16495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0"/>
          <p:cNvSpPr/>
          <p:nvPr/>
        </p:nvSpPr>
        <p:spPr>
          <a:xfrm>
            <a:off x="3784320" y="47149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entury Gothic"/>
              </a:rPr>
              <a:t>January – March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me materials cannot be described by a single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a material that has more than one set of properties. It contains more than one kind of matter combined in such a way that it keeps its own set of properties.</a:t>
            </a:r>
            <a:r>
              <a:rPr b="0" i="1" lang="en-US" sz="3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wo or more substances combined together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09120" y="837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: means made up of parts, or mixed. A heterogeneous mixture is made up of parts that can be seen and obser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MCj02333550000[1]"/>
          <p:cNvPicPr/>
          <p:nvPr/>
        </p:nvPicPr>
        <p:blipFill>
          <a:blip r:embed="rId1"/>
          <a:stretch/>
        </p:blipFill>
        <p:spPr>
          <a:xfrm>
            <a:off x="762120" y="3733920"/>
            <a:ext cx="2895480" cy="2489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MPj04392720000[1]"/>
          <p:cNvPicPr/>
          <p:nvPr/>
        </p:nvPicPr>
        <p:blipFill>
          <a:blip r:embed="rId2"/>
          <a:stretch/>
        </p:blipFill>
        <p:spPr>
          <a:xfrm>
            <a:off x="4419720" y="3733920"/>
            <a:ext cx="38862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Homogeneous mixture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: means every part of the material is the same. There is only one set of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fr-CA" sz="3000" spc="-1" strike="noStrike">
                <a:solidFill>
                  <a:srgbClr val="ffffff"/>
                </a:solidFill>
                <a:latin typeface="Arial"/>
              </a:rPr>
              <a:t>: water, a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MPj04384670000[1]"/>
          <p:cNvPicPr/>
          <p:nvPr/>
        </p:nvPicPr>
        <p:blipFill>
          <a:blip r:embed="rId1"/>
          <a:stretch/>
        </p:blipFill>
        <p:spPr>
          <a:xfrm>
            <a:off x="685800" y="411336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MPj04365520000[1]"/>
          <p:cNvPicPr/>
          <p:nvPr/>
        </p:nvPicPr>
        <p:blipFill>
          <a:blip r:embed="rId2"/>
          <a:stretch/>
        </p:blipFill>
        <p:spPr>
          <a:xfrm>
            <a:off x="4952880" y="2666880"/>
            <a:ext cx="3772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Franklin Gothic Book"/>
              </a:rPr>
              <a:t>Heterogeneous or Homogeneous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sal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and pepper mix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i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 juice with p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A Classified Photograph-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 Activity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(p. 101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33520" y="1676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the photograph on p. 9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ake a table (like the one on p. 10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nd 10 substances in the im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assify whether each material is heterogeneous or homogeneous. Record your decision in the second column of your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the third column, identify what made you decide (observati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64832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5720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464832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5720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64832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Quiz 4.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The quiz on section 4.1</a:t>
            </a:r>
            <a:r>
              <a:rPr b="0" lang="fr-CA" sz="3000" spc="-1" strike="noStrike">
                <a:solidFill>
                  <a:srgbClr val="ffffff"/>
                </a:solidFill>
                <a:latin typeface="Arial Rounded MT Bold"/>
              </a:rPr>
              <a:t>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 definitions (matter, properties, homogeneous, heterogeneous, mix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Study</a:t>
            </a:r>
            <a:r>
              <a:rPr b="1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 time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udy your 5 definitions (matter, properties, mixture, homogeneous, heterogeneo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Write them dow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with a partner (no lapto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ake a list of as many properties as you can think of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2 – What is a mixtu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520" y="13712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ything with at least two distinct sets of properties (characteristics) is a mixture of at least 2 materia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 sand, pop,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(All are heterogeneous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hen a mixture’s different parts can be identified this easily, the mixture is usually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echanical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Title 3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699" name="Content Placeholder 8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498160" cy="4583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Owner\AppData\Local\Microsoft\Windows\Temporary Internet Files\Content.IE5\1BCSU8LE\MPj04393840000[1].jpg"/>
          <p:cNvPicPr/>
          <p:nvPr/>
        </p:nvPicPr>
        <p:blipFill>
          <a:blip r:embed="rId3"/>
          <a:stretch/>
        </p:blipFill>
        <p:spPr>
          <a:xfrm>
            <a:off x="357120" y="1714680"/>
            <a:ext cx="4714920" cy="443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ven so-called “homogenized” milk turned out to be a heterogeneous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t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look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omogeneous. With your eyes only, you cannot detect bubbles or bits with a different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ith a microscope, the milk contains many tiny elements of a second liquid – fat. No matter how smooth milk appears, it is actu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By now you may be wondering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n’t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on Earth re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an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b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MCj04315600000[1]"/>
          <p:cNvPicPr/>
          <p:nvPr/>
        </p:nvPicPr>
        <p:blipFill>
          <a:blip r:embed="rId1"/>
          <a:stretch/>
        </p:blipFill>
        <p:spPr>
          <a:xfrm rot="1060200">
            <a:off x="4876560" y="3352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4315600000[1]"/>
          <p:cNvPicPr/>
          <p:nvPr/>
        </p:nvPicPr>
        <p:blipFill>
          <a:blip r:embed="rId2"/>
          <a:stretch/>
        </p:blipFill>
        <p:spPr>
          <a:xfrm rot="20137200">
            <a:off x="6095880" y="144756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977760000[1]"/>
          <p:cNvPicPr/>
          <p:nvPr/>
        </p:nvPicPr>
        <p:blipFill>
          <a:blip r:embed="rId3"/>
          <a:stretch/>
        </p:blipFill>
        <p:spPr>
          <a:xfrm>
            <a:off x="7772400" y="1219320"/>
            <a:ext cx="1066680" cy="874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MCj04042630000[1]"/>
          <p:cNvPicPr/>
          <p:nvPr/>
        </p:nvPicPr>
        <p:blipFill>
          <a:blip r:embed="rId4"/>
          <a:stretch/>
        </p:blipFill>
        <p:spPr>
          <a:xfrm>
            <a:off x="6781680" y="3294000"/>
            <a:ext cx="15289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homogeneous mixture is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lutions are everywhere. 2/3 of Earth is covered with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liquid 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- the water of the oc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rth is surrounded b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ga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at we call air – a homogeneous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ixture of oxygen, nitrogen, and other gas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8080" y="13716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eve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id solution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such as a sterling silv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(Sterling silver is a solution of silver and copper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5" descr="MPj03989610000[1]"/>
          <p:cNvPicPr/>
          <p:nvPr/>
        </p:nvPicPr>
        <p:blipFill>
          <a:blip r:embed="rId1"/>
          <a:stretch/>
        </p:blipFill>
        <p:spPr>
          <a:xfrm>
            <a:off x="4495680" y="478944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MPj03848250000[1]"/>
          <p:cNvPicPr/>
          <p:nvPr/>
        </p:nvPicPr>
        <p:blipFill>
          <a:blip r:embed="rId2"/>
          <a:stretch/>
        </p:blipFill>
        <p:spPr>
          <a:xfrm>
            <a:off x="1600200" y="4724280"/>
            <a:ext cx="190512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to do 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07.  Do the activity in the yellow square “Homogeneous Mixtur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questions 1 of “What to do”. When you  are done, complete # 2, 3,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11 complete # 1 and # 2 a). We will correct in a few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nsw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#1. </a:t>
            </a: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How may sets of properties do you need to observe in order to classify a material as a 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nything with two or more distinct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2. a) What is a solu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 homogeneous mixture is a solu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c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4.3 – Mixtures and Pure Substa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33520" y="12952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have seen tha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ave two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also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which have properties that are a bl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blend of properties depends on how much of one material and how much of the other material are in the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re there any pure substances – materials whose properties are not a blend and are always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√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Yes there are pure substanc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: gold, oxygen, copper, aluminum, silver, sugar, sal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How can you find a pure substance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17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First you look to see if the material is homogeneous. A pure substance must be homogene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vestigate (observe) the properties of the material to find out if they are always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0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y re all exactly the same in all parts of the material, no matter what part of the world the material comes from, then you may conclude that you have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thorough investigation is necessary before anything can be classified as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450720" y="390600"/>
            <a:ext cx="8242560" cy="12920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71120"/>
            <a:ext cx="8082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Task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differences between these pair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lass &amp; Ste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Water &amp;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asoline &amp; O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3" name="Picture 4" descr="MCj04043530000[1]"/>
          <p:cNvPicPr/>
          <p:nvPr/>
        </p:nvPicPr>
        <p:blipFill>
          <a:blip r:embed="rId2"/>
          <a:stretch/>
        </p:blipFill>
        <p:spPr>
          <a:xfrm>
            <a:off x="6324480" y="4114800"/>
            <a:ext cx="1828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we have seen so far about matt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767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Organization Chart 5"/>
          <p:cNvGrpSpPr/>
          <p:nvPr/>
        </p:nvGrpSpPr>
        <p:grpSpPr>
          <a:xfrm>
            <a:off x="838080" y="1523880"/>
            <a:ext cx="7467120" cy="4601160"/>
            <a:chOff x="838080" y="1523880"/>
            <a:chExt cx="7467120" cy="4601160"/>
          </a:xfrm>
        </p:grpSpPr>
        <p:cxnSp>
          <p:nvCxnSpPr>
            <p:cNvPr id="779" name="_s1028"/>
            <p:cNvCxnSpPr>
              <a:stCxn id="780" idx="0"/>
              <a:endCxn id="781" idx="2"/>
            </p:cNvCxnSpPr>
            <p:nvPr/>
          </p:nvCxnSpPr>
          <p:spPr>
            <a:xfrm flipV="1" rot="16200000">
              <a:off x="5867280" y="389448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2" name="_s1029"/>
            <p:cNvCxnSpPr>
              <a:stCxn id="783" idx="0"/>
              <a:endCxn id="781" idx="2"/>
            </p:cNvCxnSpPr>
            <p:nvPr/>
          </p:nvCxnSpPr>
          <p:spPr>
            <a:xfrm flipH="1" flipV="1" rot="5400000">
              <a:off x="4284000" y="38952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4" name="_s1030"/>
            <p:cNvCxnSpPr>
              <a:stCxn id="781" idx="0"/>
              <a:endCxn id="785" idx="2"/>
            </p:cNvCxnSpPr>
            <p:nvPr/>
          </p:nvCxnSpPr>
          <p:spPr>
            <a:xfrm flipV="1" rot="16200000">
              <a:off x="4283640" y="21690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6" name="_s1031"/>
            <p:cNvCxnSpPr>
              <a:stCxn id="787" idx="0"/>
              <a:endCxn id="785" idx="2"/>
            </p:cNvCxnSpPr>
            <p:nvPr/>
          </p:nvCxnSpPr>
          <p:spPr>
            <a:xfrm flipH="1" flipV="1" rot="5400000">
              <a:off x="2700000" y="216900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5" name="_s1032"/>
            <p:cNvSpPr/>
            <p:nvPr/>
          </p:nvSpPr>
          <p:spPr>
            <a:xfrm>
              <a:off x="2422080" y="152388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All 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_s1033"/>
            <p:cNvSpPr/>
            <p:nvPr/>
          </p:nvSpPr>
          <p:spPr>
            <a:xfrm>
              <a:off x="83808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1034"/>
            <p:cNvSpPr/>
            <p:nvPr/>
          </p:nvSpPr>
          <p:spPr>
            <a:xfrm>
              <a:off x="400572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1035"/>
            <p:cNvSpPr/>
            <p:nvPr/>
          </p:nvSpPr>
          <p:spPr>
            <a:xfrm>
              <a:off x="2422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ixture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_s1036"/>
            <p:cNvSpPr/>
            <p:nvPr/>
          </p:nvSpPr>
          <p:spPr>
            <a:xfrm>
              <a:off x="5590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Pure substance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20" descr="MCj04338000000[1]"/>
          <p:cNvPicPr/>
          <p:nvPr/>
        </p:nvPicPr>
        <p:blipFill>
          <a:blip r:embed="rId1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 The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pure substances always be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solutions have blended properties but still be homogeneou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o answer these questions, scientists need a theory (explanation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4" descr="MCj04315120000[1]"/>
          <p:cNvPicPr/>
          <p:nvPr/>
        </p:nvPicPr>
        <p:blipFill>
          <a:blip r:embed="rId1"/>
          <a:stretch/>
        </p:blipFill>
        <p:spPr>
          <a:xfrm>
            <a:off x="7696080" y="2133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theory that scientists use to explain the properties of various mixtures and substances is called th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 theory of matt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ll matter is made up of extremely tiny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ch pure substance has its own kind of particle, different from the particles of other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68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ased on the particle theory,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 sub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s a material made up of only one kind of extremely small partic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ccording to the particle theory, all water particles are exactly the sa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ure water, no matter how or where it is obtained, always contains identical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440" y="1218960"/>
            <a:ext cx="7543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imilarly, all particles of table     sugar are exactly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y are different from water particles, different from the particles of any other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ut all the particles of table sugar are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Picture 6" descr="MPj02896290000[1]"/>
          <p:cNvPicPr/>
          <p:nvPr/>
        </p:nvPicPr>
        <p:blipFill>
          <a:blip r:embed="rId1"/>
          <a:stretch/>
        </p:blipFill>
        <p:spPr>
          <a:xfrm>
            <a:off x="7162920" y="68580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MCj02514750000[1]"/>
          <p:cNvPicPr/>
          <p:nvPr/>
        </p:nvPicPr>
        <p:blipFill>
          <a:blip r:embed="rId2"/>
          <a:stretch/>
        </p:blipFill>
        <p:spPr>
          <a:xfrm>
            <a:off x="7543800" y="5181480"/>
            <a:ext cx="13017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Lets see how well you understood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15235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urn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5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to questions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1. a, b, c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and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2. a, b, c, d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8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#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will correct the exercise together in 10-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swers « Pouring? Shaping? Filling? (p. 115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1. Name the state(s) in which a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) has a fixed shap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A -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b) takes the shape of its co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) always fills watever container it is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53316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 Rounded MT Bold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Name the state(s) in which the particl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) far apart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–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) relatively clos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) free to move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   &amp; 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) held in fix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A-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D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44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Introduction – Chapter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Section 5.1 definition - dis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Comic st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truction materi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be mel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not bend in original sta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without being melt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glass is transparent, steel is gre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ight (steel is heavier, if the size is the sam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el (metal) can conduct electric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lass is fragile, steel is not easily brok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6" name="Picture 4" descr="MCj0331667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209960" cy="1785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MCj00902410000[1]"/>
          <p:cNvPicPr/>
          <p:nvPr/>
        </p:nvPicPr>
        <p:blipFill>
          <a:blip r:embed="rId3"/>
          <a:stretch/>
        </p:blipFill>
        <p:spPr>
          <a:xfrm>
            <a:off x="6629400" y="2666880"/>
            <a:ext cx="2125800" cy="150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Cj04062020000[1]"/>
          <p:cNvPicPr/>
          <p:nvPr/>
        </p:nvPicPr>
        <p:blipFill>
          <a:blip r:embed="rId4"/>
          <a:stretch/>
        </p:blipFill>
        <p:spPr>
          <a:xfrm>
            <a:off x="457200" y="228600"/>
            <a:ext cx="1112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can freeze and evapor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can drink th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for our healt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nflammable (cannot catch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water is clear, milk has col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transparent, milk is no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more widespread on earth (2/3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naturally on Earth, milk comes from cow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lk is thicker than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1" name="Picture 4" descr="MCj04104490000[1]"/>
          <p:cNvPicPr/>
          <p:nvPr/>
        </p:nvPicPr>
        <p:blipFill>
          <a:blip r:embed="rId2"/>
          <a:stretch/>
        </p:blipFill>
        <p:spPr>
          <a:xfrm>
            <a:off x="6553080" y="762120"/>
            <a:ext cx="2341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Rectangle 2" descr=""/>
          <p:cNvPicPr/>
          <p:nvPr/>
        </p:nvPicPr>
        <p:blipFill>
          <a:blip r:embed="rId1"/>
          <a:stretch/>
        </p:blipFill>
        <p:spPr>
          <a:xfrm>
            <a:off x="1292400" y="298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bustible (can catch on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xture (not pure substanc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oil has color, gasoline is clea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il is thicker than gasoli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soline is what we put in our ca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oking oil can be used in a kitch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4" name="Picture 4" descr="MCj03842060000[1]"/>
          <p:cNvPicPr/>
          <p:nvPr/>
        </p:nvPicPr>
        <p:blipFill>
          <a:blip r:embed="rId2"/>
          <a:stretch/>
        </p:blipFill>
        <p:spPr>
          <a:xfrm>
            <a:off x="380880" y="228600"/>
            <a:ext cx="1300320" cy="15080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MCj03254760000[1]"/>
          <p:cNvPicPr/>
          <p:nvPr/>
        </p:nvPicPr>
        <p:blipFill>
          <a:blip r:embed="rId3"/>
          <a:stretch/>
        </p:blipFill>
        <p:spPr>
          <a:xfrm>
            <a:off x="7238880" y="609480"/>
            <a:ext cx="1459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90080" cy="25416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odule 2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ff"/>
                </a:solidFill>
                <a:latin typeface="Arial"/>
              </a:rPr>
              <a:t>Pure Substances and Mix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1 - Matter in Your Worl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Matter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any material that occupies space and has a mass (includes all solids, liquids, and gas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perti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the characteristics that are used to describe ma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s: size, shape, form, state, smell, color, tas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*Every material has its own set of propertie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ater at the beach (photo on page 98)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as the following properti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ear,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ol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od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reezes at 0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º C 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under norm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ndi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oils at 100º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MCj0410921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MCj04125560000[1]"/>
          <p:cNvPicPr/>
          <p:nvPr/>
        </p:nvPicPr>
        <p:blipFill>
          <a:blip r:embed="rId2"/>
          <a:stretch/>
        </p:blipFill>
        <p:spPr>
          <a:xfrm>
            <a:off x="457200" y="3049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Cj02949790000[1]"/>
          <p:cNvPicPr/>
          <p:nvPr/>
        </p:nvPicPr>
        <p:blipFill>
          <a:blip r:embed="rId3"/>
          <a:stretch/>
        </p:blipFill>
        <p:spPr>
          <a:xfrm>
            <a:off x="4724280" y="3527280"/>
            <a:ext cx="3886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38:30Z</dcterms:created>
  <dc:creator>Lisa.c.Cormier</dc:creator>
  <dc:description/>
  <dc:language>en-US</dc:language>
  <cp:lastModifiedBy>Lisa.c.Cormier</cp:lastModifiedBy>
  <dcterms:modified xsi:type="dcterms:W3CDTF">2009-04-16T17:57:01Z</dcterms:modified>
  <cp:revision>4</cp:revision>
  <dc:subject/>
  <dc:title>Science 7</dc:title>
</cp:coreProperties>
</file>