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7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12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34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26.jpeg" ContentType="image/jpeg"/>
  <Override PartName="/ppt/media/image37.wmf" ContentType="image/x-wmf"/>
  <Override PartName="/ppt/media/image32.jpeg" ContentType="image/jpeg"/>
  <Override PartName="/ppt/media/image17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1.png" ContentType="image/png"/>
  <Override PartName="/ppt/media/image15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9A41-370E-4BFA-A57A-AD2AECF0D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0CF4-4A76-4F7D-932A-0D0A73F534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B8AB-CE03-44F7-897C-BE96E7E17D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31D9-AE25-4447-B9A2-9CE4CC6F93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E2D9-0708-4DD9-8C8C-E13822C929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BCFB-1A2D-4E00-B607-A80966BD31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1C0C-C737-44FD-9824-CD1919E45E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D216-F83B-452C-B324-18F14F280D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E57F-38F9-408A-B472-5DA74460CD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0210-FD23-4B55-9F35-F09710DB1F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20B-3033-4681-AFD0-0303A459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9F5-224C-4A81-8E54-7CA10257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9B531-234A-4819-A6BB-8CF631D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21E35-623F-40F4-A49E-BDE0145B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58800-76DB-4611-93FB-B3A000F5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24898-E6DB-4444-969E-263AA37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2FCBE-18C1-4237-BE8E-27344420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FCC02-0302-462E-B90E-D437C3F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D0431-1BCD-4D98-9AAB-4D0D663C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FB6D2-0F05-4700-9D97-0FF23D42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552EB-6566-4E62-AE3E-76B07A1D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C2267-8555-4531-AD6B-23EA4B2E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8C5-C05C-45C6-9579-F26ABF2A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DB99C-36E1-4C22-A5EE-9FD954D9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DC9E9-4B9B-4E35-BA71-A8A26ED0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568DA-8937-42A0-9086-D2E56C68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79573-97CD-4517-8874-8562FEF6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15B6D-9D11-488F-AA99-034D3808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8C21E-05F4-410E-9FE0-01688A02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CD376-8A36-43CF-86AF-42EF3DC5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1C81F-F8E1-46CD-96F8-DA31E832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03125-01B6-4582-96AF-5CC2EB6B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C3459-387D-4F97-BE43-21B896D2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044-CEA4-4EBB-A4D7-7EFCA0C5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97FC5-7647-438F-B6C3-450603A0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94C8D-8A75-411E-A823-2A9CC61B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2920C-3AB5-43B4-B786-674E0FB2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B305A-A206-41F9-8CD0-C70BCFFF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81A63-1774-4D14-8F11-93B11277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625E0-403C-4A78-8F7D-7CE5D7E2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C66F7-1EB7-423A-BDC8-03648C4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60010-8A06-4AE8-809A-D5A8282E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6FA12-86DC-48A5-8A04-2107AEBD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FE445-981C-4F7B-8CB7-EF9D2587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571F-00AC-4511-8F8D-9984671E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F4AE0-D92A-48ED-BADB-2DC9BAB1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FDFFA-38CA-4747-824F-D54308EE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A2BC2-0AE8-4ED0-B571-5C18AB33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27DC9-83DB-4F61-90C4-BDAE77F7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5BA67-12D4-460C-B380-B2F930E2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2F7F5-BC3A-4FC2-9B18-25533D61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831CE-248B-4C77-B7C9-E78DA7C2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C114B-7D81-4AB9-9712-B3B3D10F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744CE-9C13-4884-A6ED-564F85FA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6F008-04DC-4F32-89D2-C794F5A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B918-0976-4AD9-9922-97CC85C5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7B3EB-D102-4DA5-8533-FBE5BBEB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8121D-8622-401A-8CE4-853F402C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70AB1-4E80-4D25-95D5-BC20B603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1EAC0-B983-43EF-8325-D5FAC01A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37F90-ABBF-4AD0-BDEB-950A8429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45F0C-3405-4012-A8D9-939853B6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87CA6-EB2D-4DAE-864B-4A736D99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F0334-339C-4E07-B10E-7D98431E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08C59-96D9-4ECE-B4AB-F9126BC3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0FE49-D12D-4E3B-A287-E5B80A94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9008-9E6A-4C7D-8072-826AF403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5A02B-CD31-4FDA-9796-1228DD7F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007C3-EF6F-4846-9EA1-CCCDC77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E20F1-BF3A-47E1-BB75-9DF2FAEE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8616F-1D83-43CD-8E01-0CCDA3E1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FDA74-ED76-4BDC-8A4B-37D6AC03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640A1-E81E-4D60-9A33-58F79DE4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C77C1-368A-48DC-955D-3F5E8636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3B0CA-83E8-4058-A784-935D737F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52919-B200-4196-BD38-07CA5889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C9D6C-076B-43DD-997F-ECAB11C0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663B-E01B-459A-BEBA-D6C95653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F4A92-BEA5-4FF1-8B0A-DDCC92F2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AC0BF-9EDE-47F1-A389-711AFD58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FB8D3-AA3C-4ABC-83A9-20B57C64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9A406-7373-4DC3-BDEB-2EB3FC8C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AB65B-A353-4A3A-BC27-542B06D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A4E4A-73D4-4FFB-B499-57B8E13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2F0E2-1C3D-4C82-BBFA-F99DE045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9F8BC-7237-4249-AC35-83A3AF71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82EEA-3C7B-434B-B1A6-74BAB479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707EF-488B-4243-A94A-F7D09DA2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E4C1-9326-46E2-8148-0779208A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63F79-BCF1-4FA4-9C98-5E6963A3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078FD-232D-46C0-AA4B-2FABE51A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13D4A-BB46-4312-A1ED-74084049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14FAF-35F0-45D2-9D1B-44ED7368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1F0C0-2444-4E9D-BF61-0E7F337B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63B1C0-7CBA-47D5-9337-AA15BEE1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A511A-444B-41C0-9437-7C4A7CAD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B214E-A15E-4149-A3BE-68513756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6F628-206F-4B11-9856-5A89DB9C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04F75-6E30-4F62-9549-6B80E4ED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CCC9-10DC-4D27-A404-EC873ADE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E4AF1-1856-4023-BA1A-34F88E07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74763-AA85-48C2-BB4C-52BCC803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5BD49-C0CF-4A44-A4B4-9AF786C9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690B8-0219-4158-9E1D-BA754A70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9A294-408E-477F-8B18-E2830241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7FF92-49BF-43D0-B6F2-7653FBB3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E05B9-0034-419F-B74C-74FA9438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5AD1B-DA54-4B0D-BC45-3402E96B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969C2-A1A9-48F3-8867-11B72100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BC6BA-9F61-4847-99BC-E9B8ED7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94BF-76AB-43C8-A7D3-5072F005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D1107D-00E8-416F-B732-9F0CD7C9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BE427-60C8-46C4-8158-4A5A9D37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F3451-8ABB-4745-885E-B1D998B8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7D3-6F3D-4B10-8C25-78968E9E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2576-1EED-49EC-8DAC-19BA66C5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432D-16F3-4978-87C5-6DFBBB51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A7F2-00BE-42C8-BE55-A51B6140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C3B2-DB16-4D5A-8C31-977CBDB0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9971-3025-479F-9D12-42713292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3EC4-5997-47CA-83B9-A0CB4606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8FCE-6D50-4BF1-9D63-3FE9F98D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429C-A2AF-4483-BC04-1D342342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16B7-E5B1-4E19-A586-2C2E4321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1F11B-FEF8-4B44-95FE-7B923AAF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3D0-FC05-42F0-9A81-6DD0A9C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EB21E-63FC-4260-BF9F-59C15465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471C-7AB2-4FDB-BE71-37AEACDA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0FEC-83BE-4078-825A-B5E887F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5A1C-53A8-4C7C-85EE-4E8EF56F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C3F5-BA97-40D2-9531-5DF9C3FA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05A1-B177-4DAF-909F-B8A47FD6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E7FA-9600-4107-926D-0A32D6B2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6E5BE-5245-4C49-9099-966A0C18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97D78-C32E-4BD2-835D-2E7BEB12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3CB2F-286C-4462-ACD1-D6A6BEA9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00C-8F1D-4A6C-AEA7-73B5E66B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FF764-9563-4000-A913-E5DAF731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42A5-FCA5-40C8-A70B-7E3A8038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92557-83A6-457B-8268-4ABAFC71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9E243-4B1B-456A-8101-5433A79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567EA-514C-4291-B84A-B5A88307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0522-86EB-4BED-B988-7D67ECF1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AFADF-55C1-4406-8DBB-90DBA8C1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69F3-B939-49EA-8CEF-449004E5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60F9-9866-489C-A131-4C023914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2CCFF-1503-4BED-AA3D-CDD3C5ED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FFC-AB4F-4C22-8994-0B81E52A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85AC7-C1FA-48B2-8809-296D7ACD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6CEAD-6D37-4F92-8AE9-FDE7904F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FA079-177D-4E4E-B219-234CFEA1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236D4-148D-433A-95A5-15BA4D1F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587A7-A8E0-419C-99E1-7A9EA9CB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0DD8-107C-45D6-BECC-AC409EDE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0E5C0-2026-49BD-B205-C833621A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19E5-2BF0-4592-AC03-BC80D5BE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4B472-522D-402A-A08B-50845FE7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57EF-8A4E-46D3-8349-711B2058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62C-D549-4024-BC38-787D60A1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5C61-FFCB-4E57-8FAC-AF28CF5A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15E73-8820-4503-8152-A5A2AA4B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C5E9-73DA-4D7D-B4C4-C4D93FBB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1C8B5-D75D-44FE-B2E9-92E63C47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09184-3BE2-444E-BD8B-3B22179B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474F9-395F-4849-9BAC-500D1082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D97B8-2CC1-4B32-8CA5-74F9CD77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6334-80F3-4A27-8781-0F45F855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A71B3-9C7F-4747-9C41-7ED825FD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2FE39-352F-4394-95C6-95E4DEE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1CC-AE12-47BA-B18E-40EE04F9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D8494-AADB-4837-B714-A86B8BE7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CA998-69DD-4248-BF0F-BB2AB60E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4317-8812-42A4-8D1B-8F859007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A7BDE-2A76-4E54-89C1-3C05EAF3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6F813-40E5-432E-8180-1C3864A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86062-CA04-4DFC-92E6-6DAEF4DF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4CC19-92F5-409C-BE19-195F0113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7B2EF-93D7-4FA0-BC3D-F17EC7CC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E1DAF-51C3-45BA-8B4A-A77AFE11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0558-082A-44B5-AFF4-5073B771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03F-65BD-4970-9291-8C5841A1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F96F0-30AB-40B3-A0FF-D1663B8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D35B5-D27D-4F57-8839-369DEA1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228F9-40BE-404A-B622-8A0A84B1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1BA69-4DD4-4499-B26F-72B395E0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797D3-6377-4FD7-AE50-F7301D51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BB488-EC3A-48F1-9BD5-8B93DD2B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CFC28-95D5-4871-B1C2-D6FB0004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494A7-2044-4DC9-ACDE-74014DF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C683F-0FA3-40AB-BF68-A5C6F73B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EB67C-2DD0-4FD3-A661-90534B89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494-6CD9-48F0-879A-C3C3BC30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3A9FD-5B3B-4187-91E2-D087788D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D49FC-9397-41AC-B156-EB8CB51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3BA27-634D-40C9-9700-DE288F0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C7B0F-891F-4B25-8333-84FA6F72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001E6-6285-4F07-9213-95E0D116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3B80-DBC4-4940-8002-FAF9649B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2DCBB-8BCB-4E82-B634-BF5EECF6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7FABD-CA56-48D6-A225-F5D613A5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E9E06-2C7A-4260-B5CE-3BC7760E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DD8A3-3B3A-4A37-954D-E5C9D5EE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1822-A780-4091-8F7C-455BC8F80E35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5D6D-3105-4145-95E0-1FD5FE37A1F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5F04-C308-4683-A3AC-5EC58C11DA6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4B66-1400-43F8-9697-50D97A0FC8C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E947-E095-4B26-83A7-DBA16AC95A3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252-392F-4028-9FEF-E57FC935470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B8AA-5E85-4E28-A8A5-E0233C94C6E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7862-2B12-4229-8EB9-01A4A18E0479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4CB0-1D53-419B-B3E7-987A914998C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6A02-675F-4C96-86DF-277FF347D134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7DCF-3EDE-4407-BBF5-29A5A71AEF27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CB14-B409-42E0-8355-3FB760C0DB8E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384C-E9EC-407C-9BDF-688496455B9C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C6A2-1EDF-4F36-ABFD-D87928B6C00B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FC9-7E19-46A3-B4D7-62991306DBE8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A69C-AA7E-486B-BF22-FCAD01742E57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Title 1" descr=""/>
          <p:cNvPicPr/>
          <p:nvPr/>
        </p:nvPicPr>
        <p:blipFill>
          <a:blip r:embed="rId1"/>
          <a:stretch/>
        </p:blipFill>
        <p:spPr>
          <a:xfrm>
            <a:off x="706320" y="853920"/>
            <a:ext cx="8334360" cy="1481400"/>
          </a:xfrm>
          <a:prstGeom prst="rect">
            <a:avLst/>
          </a:prstGeom>
          <a:ln w="0">
            <a:noFill/>
          </a:ln>
        </p:spPr>
      </p:pic>
      <p:pic>
        <p:nvPicPr>
          <p:cNvPr id="693" name="Subtitle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1768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C:\Users\Owner\AppData\Local\Microsoft\Windows\Temporary Internet Files\Content.IE5\1HGG76PY\MCj04369200000[1].png"/>
          <p:cNvPicPr/>
          <p:nvPr/>
        </p:nvPicPr>
        <p:blipFill>
          <a:blip r:embed="rId3"/>
          <a:stretch/>
        </p:blipFill>
        <p:spPr>
          <a:xfrm>
            <a:off x="6858000" y="3571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C:\Users\Owner\AppData\Local\Microsoft\Windows\Temporary Internet Files\Content.IE5\1BCSU8LE\MPj03995780000[1].jpg"/>
          <p:cNvPicPr/>
          <p:nvPr/>
        </p:nvPicPr>
        <p:blipFill>
          <a:blip r:embed="rId4"/>
          <a:stretch/>
        </p:blipFill>
        <p:spPr>
          <a:xfrm>
            <a:off x="857160" y="3786120"/>
            <a:ext cx="2071800" cy="258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C:\Users\Owner\AppData\Local\Microsoft\Windows\Temporary Internet Files\Content.IE5\PKO7PTW0\MCj02317760000[1].wmf"/>
          <p:cNvPicPr/>
          <p:nvPr/>
        </p:nvPicPr>
        <p:blipFill>
          <a:blip r:embed="rId5"/>
          <a:stretch/>
        </p:blipFill>
        <p:spPr>
          <a:xfrm>
            <a:off x="2214720" y="500040"/>
            <a:ext cx="3301920" cy="1649520"/>
          </a:xfrm>
          <a:prstGeom prst="rect">
            <a:avLst/>
          </a:prstGeom>
          <a:ln w="0">
            <a:noFill/>
          </a:ln>
        </p:spPr>
      </p:pic>
      <p:sp>
        <p:nvSpPr>
          <p:cNvPr id="697" name="TextBox 10"/>
          <p:cNvSpPr/>
          <p:nvPr/>
        </p:nvSpPr>
        <p:spPr>
          <a:xfrm>
            <a:off x="3784320" y="47149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entury Gothic"/>
              </a:rPr>
              <a:t>January – March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me materials cannot be described by a single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a material that has more than one set of properties. It contains more than one kind of matter combined in such a way that it keeps its own set of properties.</a:t>
            </a:r>
            <a:r>
              <a:rPr b="0" i="1" lang="en-US" sz="3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wo or more substances combined together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09120" y="837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: means made up of parts, or mixed. A heterogeneous mixture is made up of parts that can be seen and obser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5" descr="MCj02333550000[1]"/>
          <p:cNvPicPr/>
          <p:nvPr/>
        </p:nvPicPr>
        <p:blipFill>
          <a:blip r:embed="rId1"/>
          <a:stretch/>
        </p:blipFill>
        <p:spPr>
          <a:xfrm>
            <a:off x="762120" y="3733920"/>
            <a:ext cx="2895480" cy="24890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MPj04392720000[1]"/>
          <p:cNvPicPr/>
          <p:nvPr/>
        </p:nvPicPr>
        <p:blipFill>
          <a:blip r:embed="rId2"/>
          <a:stretch/>
        </p:blipFill>
        <p:spPr>
          <a:xfrm>
            <a:off x="4419720" y="3733920"/>
            <a:ext cx="38862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0880" y="533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Homogeneous mixture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: means every part of the material is the same. There is only one set of proper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fr-CA" sz="3000" spc="-1" strike="noStrike">
                <a:solidFill>
                  <a:srgbClr val="ffffff"/>
                </a:solidFill>
                <a:latin typeface="Arial"/>
              </a:rPr>
              <a:t>: water, ai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4" descr="MPj04384670000[1]"/>
          <p:cNvPicPr/>
          <p:nvPr/>
        </p:nvPicPr>
        <p:blipFill>
          <a:blip r:embed="rId1"/>
          <a:stretch/>
        </p:blipFill>
        <p:spPr>
          <a:xfrm>
            <a:off x="685800" y="4113360"/>
            <a:ext cx="3048120" cy="2287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MPj04365520000[1]"/>
          <p:cNvPicPr/>
          <p:nvPr/>
        </p:nvPicPr>
        <p:blipFill>
          <a:blip r:embed="rId2"/>
          <a:stretch/>
        </p:blipFill>
        <p:spPr>
          <a:xfrm>
            <a:off x="4952880" y="2666880"/>
            <a:ext cx="3772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Franklin Gothic Book"/>
              </a:rPr>
              <a:t>Heterogeneous or Homogeneous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ith salt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e ju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nut bu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 and pepper mixed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ie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nge juice with pu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A Classified Photograph-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 Activity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(p. 101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533520" y="1676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the photograph on p. 9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Make a table (like the one on p. 10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nd 10 substances in the imag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assify whether each material is heterogeneous or homogeneous. Record your decision in the second column of your 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In the third column, identify what made you decide (observations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45720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464832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45720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464832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45720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464832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Quiz 4.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The quiz on section 4.1</a:t>
            </a:r>
            <a:r>
              <a:rPr b="0" lang="fr-CA" sz="3000" spc="-1" strike="noStrike">
                <a:solidFill>
                  <a:srgbClr val="ffffff"/>
                </a:solidFill>
                <a:latin typeface="Arial Rounded MT Bold"/>
              </a:rPr>
              <a:t> 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5 definitions (matter, properties, homogeneous, heterogeneous, mix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Study</a:t>
            </a:r>
            <a:r>
              <a:rPr b="1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 time!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tudy your 5 definitions (matter, properties, mixture, homogeneous, heterogeneou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Write them dow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with a partner (no laptop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ake a list of as many properties as you can think of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2 – What is a mixtur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33520" y="13712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ything with at least two distinct sets of properties (characteristics) is a mixture of at least 2 materia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 sand, pop, sandwi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(All are heterogeneous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hen a mixture’s different parts can be identified this easily, the mixture is usually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echanical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Title 3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699" name="Content Placeholder 8" descr=""/>
          <p:cNvPicPr/>
          <p:nvPr/>
        </p:nvPicPr>
        <p:blipFill>
          <a:blip r:embed="rId2"/>
          <a:stretch/>
        </p:blipFill>
        <p:spPr>
          <a:xfrm>
            <a:off x="450720" y="1878120"/>
            <a:ext cx="8498160" cy="4583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C:\Users\Owner\AppData\Local\Microsoft\Windows\Temporary Internet Files\Content.IE5\1BCSU8LE\MPj04393840000[1].jpg"/>
          <p:cNvPicPr/>
          <p:nvPr/>
        </p:nvPicPr>
        <p:blipFill>
          <a:blip r:embed="rId3"/>
          <a:stretch/>
        </p:blipFill>
        <p:spPr>
          <a:xfrm>
            <a:off x="357120" y="1714680"/>
            <a:ext cx="4714920" cy="4431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ven so-called “homogenized” milk turned out to be a heterogeneous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t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look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omogeneous. With your eyes only, you cannot detect bubbles or bits with a different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ith a microscope, the milk contains many tiny elements of a second liquid – fat. No matter how smooth milk appears, it is actu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By now you may be wondering 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08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n’t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on Earth re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an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b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Picture 4" descr="MCj04315600000[1]"/>
          <p:cNvPicPr/>
          <p:nvPr/>
        </p:nvPicPr>
        <p:blipFill>
          <a:blip r:embed="rId1"/>
          <a:stretch/>
        </p:blipFill>
        <p:spPr>
          <a:xfrm rot="1060200">
            <a:off x="4876560" y="3352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MCj04315600000[1]"/>
          <p:cNvPicPr/>
          <p:nvPr/>
        </p:nvPicPr>
        <p:blipFill>
          <a:blip r:embed="rId2"/>
          <a:stretch/>
        </p:blipFill>
        <p:spPr>
          <a:xfrm rot="20137200">
            <a:off x="6095880" y="144756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MCj03977760000[1]"/>
          <p:cNvPicPr/>
          <p:nvPr/>
        </p:nvPicPr>
        <p:blipFill>
          <a:blip r:embed="rId3"/>
          <a:stretch/>
        </p:blipFill>
        <p:spPr>
          <a:xfrm>
            <a:off x="7772400" y="1219320"/>
            <a:ext cx="1066680" cy="8744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" descr="MCj04042630000[1]"/>
          <p:cNvPicPr/>
          <p:nvPr/>
        </p:nvPicPr>
        <p:blipFill>
          <a:blip r:embed="rId4"/>
          <a:stretch/>
        </p:blipFill>
        <p:spPr>
          <a:xfrm>
            <a:off x="6781680" y="3294000"/>
            <a:ext cx="15289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088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homogeneous mixture is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lutions are everywhere. 2/3 of Earth is covered with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liquid 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- the water of the oc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rth is surrounded b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ga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that we call air – a homogeneous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ixture of oxygen, nitrogen, and other gas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838080" y="13716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eve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id solution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such as a sterling silv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(Sterling silver is a solution of silver and copper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5" descr="MPj03989610000[1]"/>
          <p:cNvPicPr/>
          <p:nvPr/>
        </p:nvPicPr>
        <p:blipFill>
          <a:blip r:embed="rId1"/>
          <a:stretch/>
        </p:blipFill>
        <p:spPr>
          <a:xfrm>
            <a:off x="4495680" y="4789440"/>
            <a:ext cx="2514600" cy="14382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MPj03848250000[1]"/>
          <p:cNvPicPr/>
          <p:nvPr/>
        </p:nvPicPr>
        <p:blipFill>
          <a:blip r:embed="rId2"/>
          <a:stretch/>
        </p:blipFill>
        <p:spPr>
          <a:xfrm>
            <a:off x="1600200" y="4724280"/>
            <a:ext cx="190512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to do now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07.  Do the activity in the yellow square “Homogeneous Mixtur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questions 1 of “What to do”. When you  are done, complete # 2, 3, 4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11 complete # 1 and # 2 a). We will correct in a few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nsw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440" y="12952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#1. </a:t>
            </a: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How may sets of properties do you need to observe in order to classify a material as a 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nything with two or more distinct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2. a) What is a solu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 homogeneous mixture is a solu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c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4.3 – Mixtures and Pure Substanc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33520" y="129528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have seen that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ave two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also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which have properties that are a bl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blend of properties depends on how much of one material and how much of the other material are in the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8080" y="1294920"/>
            <a:ext cx="74678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re there any pure substances – materials whose properties are not a blend and are always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√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Yes there are pure substanc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: gold, oxygen, copper, aluminum, silver, sugar, salt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How can you find a pure substance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761760" y="14479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First you look to see if the material is homogeneous. A pure substance must be homogeneo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vestigate (observe) the properties of the material to find out if they are always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140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f they re all exactly the same in all parts of the material, no matter what part of the world the material comes from, then you may conclude that you have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thorough investigation is necessary before anything can be classified as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2" descr=""/>
          <p:cNvPicPr/>
          <p:nvPr/>
        </p:nvPicPr>
        <p:blipFill>
          <a:blip r:embed="rId1"/>
          <a:stretch/>
        </p:blipFill>
        <p:spPr>
          <a:xfrm>
            <a:off x="450720" y="390600"/>
            <a:ext cx="8242560" cy="12920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533520" y="1671120"/>
            <a:ext cx="8082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Task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differences between these pairs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lass &amp; Ste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Water &amp;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asoline &amp; O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3" name="Picture 4" descr="MCj04043530000[1]"/>
          <p:cNvPicPr/>
          <p:nvPr/>
        </p:nvPicPr>
        <p:blipFill>
          <a:blip r:embed="rId2"/>
          <a:stretch/>
        </p:blipFill>
        <p:spPr>
          <a:xfrm>
            <a:off x="6324480" y="4114800"/>
            <a:ext cx="18288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we have seen so far about matter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2767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Organization Chart 5"/>
          <p:cNvGrpSpPr/>
          <p:nvPr/>
        </p:nvGrpSpPr>
        <p:grpSpPr>
          <a:xfrm>
            <a:off x="838080" y="1523880"/>
            <a:ext cx="7467120" cy="4601160"/>
            <a:chOff x="838080" y="1523880"/>
            <a:chExt cx="7467120" cy="4601160"/>
          </a:xfrm>
        </p:grpSpPr>
        <p:cxnSp>
          <p:nvCxnSpPr>
            <p:cNvPr id="779" name="_s1028"/>
            <p:cNvCxnSpPr>
              <a:stCxn id="780" idx="0"/>
              <a:endCxn id="781" idx="2"/>
            </p:cNvCxnSpPr>
            <p:nvPr/>
          </p:nvCxnSpPr>
          <p:spPr>
            <a:xfrm flipV="1" rot="16200000">
              <a:off x="5867280" y="389448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2" name="_s1029"/>
            <p:cNvCxnSpPr>
              <a:stCxn id="783" idx="0"/>
              <a:endCxn id="781" idx="2"/>
            </p:cNvCxnSpPr>
            <p:nvPr/>
          </p:nvCxnSpPr>
          <p:spPr>
            <a:xfrm flipH="1" flipV="1" rot="5400000">
              <a:off x="4284000" y="38952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4" name="_s1030"/>
            <p:cNvCxnSpPr>
              <a:stCxn id="781" idx="0"/>
              <a:endCxn id="785" idx="2"/>
            </p:cNvCxnSpPr>
            <p:nvPr/>
          </p:nvCxnSpPr>
          <p:spPr>
            <a:xfrm flipV="1" rot="16200000">
              <a:off x="4283640" y="21690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6" name="_s1031"/>
            <p:cNvCxnSpPr>
              <a:stCxn id="787" idx="0"/>
              <a:endCxn id="785" idx="2"/>
            </p:cNvCxnSpPr>
            <p:nvPr/>
          </p:nvCxnSpPr>
          <p:spPr>
            <a:xfrm flipH="1" flipV="1" rot="5400000">
              <a:off x="2700000" y="216900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5" name="_s1032"/>
            <p:cNvSpPr/>
            <p:nvPr/>
          </p:nvSpPr>
          <p:spPr>
            <a:xfrm>
              <a:off x="2422080" y="152388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All 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_s1033"/>
            <p:cNvSpPr/>
            <p:nvPr/>
          </p:nvSpPr>
          <p:spPr>
            <a:xfrm>
              <a:off x="83808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eterogeneou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1034"/>
            <p:cNvSpPr/>
            <p:nvPr/>
          </p:nvSpPr>
          <p:spPr>
            <a:xfrm>
              <a:off x="400572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_s1035"/>
            <p:cNvSpPr/>
            <p:nvPr/>
          </p:nvSpPr>
          <p:spPr>
            <a:xfrm>
              <a:off x="2422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ixture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_s1036"/>
            <p:cNvSpPr/>
            <p:nvPr/>
          </p:nvSpPr>
          <p:spPr>
            <a:xfrm>
              <a:off x="5590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Pure substance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8" name="Picture 20" descr="MCj04338000000[1]"/>
          <p:cNvPicPr/>
          <p:nvPr/>
        </p:nvPicPr>
        <p:blipFill>
          <a:blip r:embed="rId1"/>
          <a:stretch/>
        </p:blipFill>
        <p:spPr>
          <a:xfrm>
            <a:off x="7924680" y="1219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 Theory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pure substances always be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solutions have blended properties but still be homogeneou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o answer these questions, scientists need a theory (explanation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4" descr="MCj04315120000[1]"/>
          <p:cNvPicPr/>
          <p:nvPr/>
        </p:nvPicPr>
        <p:blipFill>
          <a:blip r:embed="rId1"/>
          <a:stretch/>
        </p:blipFill>
        <p:spPr>
          <a:xfrm>
            <a:off x="7696080" y="2133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45720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theory that scientists use to explain the properties of various mixtures and substances is called the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article theory of matt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ll matter is made up of extremely tiny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ch pure substance has its own kind of particle, different from the particles of other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456840" y="38052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ased on the particle theory,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 substanc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s a material made up of only one kind of extremely small partic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ccording to the particle theory, all water particles are exactly the sam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Pure water, no matter how or where it is obtained, always contains identical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685440" y="1218960"/>
            <a:ext cx="7543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imilarly, all particles of table     sugar are exactly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y are different from water particles, different from the particles of any other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ut all the particles of table sugar are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6" name="Picture 6" descr="MPj02896290000[1]"/>
          <p:cNvPicPr/>
          <p:nvPr/>
        </p:nvPicPr>
        <p:blipFill>
          <a:blip r:embed="rId1"/>
          <a:stretch/>
        </p:blipFill>
        <p:spPr>
          <a:xfrm>
            <a:off x="7162920" y="685800"/>
            <a:ext cx="1596960" cy="2286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MCj02514750000[1]"/>
          <p:cNvPicPr/>
          <p:nvPr/>
        </p:nvPicPr>
        <p:blipFill>
          <a:blip r:embed="rId2"/>
          <a:stretch/>
        </p:blipFill>
        <p:spPr>
          <a:xfrm>
            <a:off x="7543800" y="5181480"/>
            <a:ext cx="1301760" cy="14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Lets see how well you understood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14400" y="15235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urn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5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to questions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1. a, b, c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and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2. a, b, c, d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8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#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will correct the exercise together in 10-1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swers « Pouring? Shaping? Filling? (p. 115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212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1. Name the state(s) in which a materia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a) has a fixed shap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A - sol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b) takes the shape of its contain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) always fills watever container it is 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53316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 Rounded MT Bold"/>
              </a:rPr>
              <a:t>2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Name the state(s) in which the particl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) far apart from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–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) relatively clos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) free to move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   &amp; 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) held in fixe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A- 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D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44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Introduction – Chapter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Section 5.1 definition - dis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Comic str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struction material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be mel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not bend in original stat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without being melte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glass is transparent, steel is gre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ight (steel is heavier, if the size is the sam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eel (metal) can conduct electric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lass is fragile, steel is not easily brok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6" name="Picture 4" descr="MCj03316670000[1]"/>
          <p:cNvPicPr/>
          <p:nvPr/>
        </p:nvPicPr>
        <p:blipFill>
          <a:blip r:embed="rId2"/>
          <a:stretch/>
        </p:blipFill>
        <p:spPr>
          <a:xfrm>
            <a:off x="7238880" y="304920"/>
            <a:ext cx="1209960" cy="17859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MCj00902410000[1]"/>
          <p:cNvPicPr/>
          <p:nvPr/>
        </p:nvPicPr>
        <p:blipFill>
          <a:blip r:embed="rId3"/>
          <a:stretch/>
        </p:blipFill>
        <p:spPr>
          <a:xfrm>
            <a:off x="6629400" y="2666880"/>
            <a:ext cx="2125800" cy="15084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MCj04062020000[1]"/>
          <p:cNvPicPr/>
          <p:nvPr/>
        </p:nvPicPr>
        <p:blipFill>
          <a:blip r:embed="rId4"/>
          <a:stretch/>
        </p:blipFill>
        <p:spPr>
          <a:xfrm>
            <a:off x="457200" y="228600"/>
            <a:ext cx="11127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y can freeze and evapora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can drink the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ood for our healt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nflammable (cannot catch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water is clear, milk has colo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transparent, milk is no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more widespread on earth (2/3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naturally on Earth, milk comes from cow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lk is thicker than wa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1" name="Picture 4" descr="MCj04104490000[1]"/>
          <p:cNvPicPr/>
          <p:nvPr/>
        </p:nvPicPr>
        <p:blipFill>
          <a:blip r:embed="rId2"/>
          <a:stretch/>
        </p:blipFill>
        <p:spPr>
          <a:xfrm>
            <a:off x="6553080" y="762120"/>
            <a:ext cx="23418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Rectangle 2" descr=""/>
          <p:cNvPicPr/>
          <p:nvPr/>
        </p:nvPicPr>
        <p:blipFill>
          <a:blip r:embed="rId1"/>
          <a:stretch/>
        </p:blipFill>
        <p:spPr>
          <a:xfrm>
            <a:off x="1292400" y="29844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bustible (can catch on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xture (not pure substance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oil has color, gasoline is clea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il is thicker than gasolin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asoline is what we put in our ca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oking oil can be used in a kitch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4" name="Picture 4" descr="MCj03842060000[1]"/>
          <p:cNvPicPr/>
          <p:nvPr/>
        </p:nvPicPr>
        <p:blipFill>
          <a:blip r:embed="rId2"/>
          <a:stretch/>
        </p:blipFill>
        <p:spPr>
          <a:xfrm>
            <a:off x="380880" y="228600"/>
            <a:ext cx="1300320" cy="15080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MCj03254760000[1]"/>
          <p:cNvPicPr/>
          <p:nvPr/>
        </p:nvPicPr>
        <p:blipFill>
          <a:blip r:embed="rId3"/>
          <a:stretch/>
        </p:blipFill>
        <p:spPr>
          <a:xfrm>
            <a:off x="7238880" y="609480"/>
            <a:ext cx="1459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Rectangle 2" descr=""/>
          <p:cNvPicPr/>
          <p:nvPr/>
        </p:nvPicPr>
        <p:blipFill>
          <a:blip r:embed="rId1"/>
          <a:stretch/>
        </p:blipFill>
        <p:spPr>
          <a:xfrm>
            <a:off x="682560" y="1066680"/>
            <a:ext cx="8290080" cy="254160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odule 2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ffff"/>
                </a:solidFill>
                <a:latin typeface="Arial"/>
              </a:rPr>
              <a:t>Pure Substances and Mix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1 - Matter in Your Worl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Matter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any material that occupies space and has a mass (includes all solids, liquids, and gas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Properti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the characteristics that are used to describe mat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amples: size, shape, form, state, smell, color, tas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*Every material has its own set of propertie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ater at the beach (photo on page 98)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as the following properti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ear,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ol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od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reezes at 0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º C *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(under norm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ndi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Boils at 100º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MCj04109210000[1]"/>
          <p:cNvPicPr/>
          <p:nvPr/>
        </p:nvPicPr>
        <p:blipFill>
          <a:blip r:embed="rId1"/>
          <a:stretch/>
        </p:blipFill>
        <p:spPr>
          <a:xfrm>
            <a:off x="7315200" y="228600"/>
            <a:ext cx="1514520" cy="15238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MCj04125560000[1]"/>
          <p:cNvPicPr/>
          <p:nvPr/>
        </p:nvPicPr>
        <p:blipFill>
          <a:blip r:embed="rId2"/>
          <a:stretch/>
        </p:blipFill>
        <p:spPr>
          <a:xfrm>
            <a:off x="457200" y="3049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MCj02949790000[1]"/>
          <p:cNvPicPr/>
          <p:nvPr/>
        </p:nvPicPr>
        <p:blipFill>
          <a:blip r:embed="rId3"/>
          <a:stretch/>
        </p:blipFill>
        <p:spPr>
          <a:xfrm>
            <a:off x="4724280" y="3527280"/>
            <a:ext cx="38862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38:30Z</dcterms:created>
  <dc:creator>Lisa.c.Cormier</dc:creator>
  <dc:description/>
  <dc:language>en-US</dc:language>
  <cp:lastModifiedBy>Lisa.c.Cormier</cp:lastModifiedBy>
  <dcterms:modified xsi:type="dcterms:W3CDTF">2009-04-16T17:57:01Z</dcterms:modified>
  <cp:revision>4</cp:revision>
  <dc:subject/>
  <dc:title>Science 7</dc:title>
</cp:coreProperties>
</file>