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7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12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34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26.jpeg" ContentType="image/jpeg"/>
  <Override PartName="/ppt/media/image37.wmf" ContentType="image/x-wmf"/>
  <Override PartName="/ppt/media/image32.jpeg" ContentType="image/jpeg"/>
  <Override PartName="/ppt/media/image17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1.png" ContentType="image/png"/>
  <Override PartName="/ppt/media/image15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CD12-F8A3-4537-87C8-D016CDFF6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2AAB-7C38-48AE-8966-64B59D42EE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8330-8091-420E-8EC8-22DEEE9DAC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D337-21EC-42CD-8AAD-93D17AFB18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DAB8-0955-49B0-BB87-BAE637B70A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7A18-A5D5-4327-8DD7-F61EB948F3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E1ED-1F00-4108-B6B5-5E852431C0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8F9A-5A03-4CB6-8171-6813695DED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3A94-E302-4532-BEFA-6908EA64F6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AD96-F883-49BF-ACC9-90FE4AF413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E04-4D2C-4107-BAD6-2D829126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C37-5B31-4C09-ACFE-D8CE09F7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82114-E9F9-43CD-860F-0CA48EE4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0E7A4-9582-4308-9A43-61B4BABD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17700-2B26-4B02-B305-27D9CEE5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7223F-8AE8-4FFE-B67D-41A0800C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53785-887F-4793-9A0B-382A5DF0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57FCE-9217-44FD-A0F6-24C0014A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5422E-EB14-4674-B287-5D5D4188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96264-C355-4B2D-8B46-8E538B5D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04B3C-D41F-400B-A0F8-337BF972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2BF88-22AC-44CC-8D49-F9556E81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DB5-1A51-4968-B8CB-A27EF639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C5252-0EB2-48BB-8A2A-78750CAB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9A262-35DD-43DF-B060-C10C3FC0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17C93-CFF0-43F7-BE02-4FDC0926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57133-718C-4ADB-BC3C-F2CE9BC3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BFDEB-CA56-44DB-B5ED-E8A461C8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919B8-E515-4E14-BC61-CD8E197A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B3A28-D130-4290-9276-6EDB98D0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A2E5A-CF9B-4E9E-8D06-3DECE0AE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2EC16-97D3-42EE-BEFF-95468D5D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696A-9C05-4ADE-B574-160EC594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7A2-837D-45CF-AEC2-A0260BB7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18928-51E5-4982-A7ED-36C17449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D3A04-0776-4F9B-90A2-E23706E9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720A2-4992-4F3E-8672-C36BC012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404E9-A4D8-4290-AF5D-3FFB1992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86828-80FD-4E0F-A69D-A7DE6E7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D0EF5-60D8-4849-BC63-2F619110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E4F40-AA55-4A2B-8BB4-7B062F7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55DF5-4ECD-4B09-8260-F7054B1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117D0-F200-4CB6-8824-4E5A7D9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A7239-84A0-45FA-887D-6EEE691B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5638-3B9E-47EF-BA07-BA50BD3B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6ABD8-9517-4DF4-8404-221601C5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E1CCA-732D-4CC2-A6DC-8E6B23E0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3884E-C291-44FE-8533-F392DBF4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D576A-7178-47FE-B273-A1B2179E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3AEDE-1578-4845-BEAF-26179671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459CB-EB1A-48A8-84A8-7C581D57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130A9-9641-420C-8C4A-AC0BBFD3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907B4-19E7-4791-AC26-525D80AA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C33A0-C790-4EF0-9932-748B0D4C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8EF51-EEE6-404A-A6F8-7293BBA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93C6-A781-4DE4-91D0-200184F6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D39C0-B7E4-4071-915E-CB1003A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C00A3-6604-4DB0-9135-9C9F9CA3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2435F-B175-4563-B5E1-B6EAA2CC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92A7C-1137-4173-BBD6-B090078C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05381-63EC-4BA9-9127-12219351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0F7A0-4CF2-48C0-ABE3-24FA04E0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47921-32FE-4B06-85C9-7054DDBF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9987B-F2F6-4C4B-9725-A2A73033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3AF44-52FF-4D37-8AE8-EF27B197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65C18-1172-45F9-83FE-F6704E8F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A54D-D10A-4ADF-A166-4B474A4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A58AE-0308-4FDB-A938-E125F12F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3F9B6-7ABB-4DDF-BA4C-A564121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EB6B5-80F3-4EF6-8D90-B9E71E63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57CB2-1934-4ADC-B4C3-B36CB6B1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B27FA-5C35-4672-BE00-C064B638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47004-CA09-469B-9BB9-ED3DA8C1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A2404-1EA4-44A4-B2C3-A46C71EE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10FB4-2607-4B29-B54A-1C392012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DF088-888E-49A4-9C41-19CFADB5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4A6D9-02FA-4A0F-AF06-D279C248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34C8-1CDD-4762-9D79-2CA3D31E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593F9-864C-450B-9C2E-19D7E1B2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CACD0-C88B-43B5-8EA3-516ECD0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29439-79DE-4FFE-8A73-2ECF8C2B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25C46-E05A-447E-BBF5-9038B871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577A8-765A-4C95-ACEA-21B30BF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99794-250A-4A4B-B46A-222B6E1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28B8C-EDB2-465C-AEA0-F0BD9C97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FB5AB-8E99-4267-9CA4-21B3E4C9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B6863-CB24-4F3E-8365-810E4CE3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915CF-52F9-4DB0-8A8F-83019649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09E5-D786-473C-BF20-F84803F2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FD2CF-00C7-4794-8E28-BB89933D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5F12B-CF97-481D-A4E4-0B0DCCC3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5631F-206C-45A9-98A6-58156A34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D6B4A-BF1D-4AAB-992D-2F3578D4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C9DA6-7B3B-496A-8F28-57485F61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124B18-EC6B-4DAB-8773-BA74333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FE44D-505F-44AC-B8EB-8F99796B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2C3FA-0741-41BF-B74F-8E8C3962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A4D93-F06E-43E9-A87E-614EEED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5255B-500F-4916-9FA9-F08D344B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3BD3-60A4-4E18-B84D-C05E579E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41AB8-2FF1-4334-968C-C5DC8CFB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5C7BB-E071-4841-A6A6-16F1B864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9572D-483B-4701-A642-133AEBD5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4467A-59B5-43B1-95A7-BC3350F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7A85C2-BAA3-4FFD-A017-5002D83E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500C8-22B0-4244-B2D7-B7211C8A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182C5-0402-4791-BE83-16C23CD2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CD47F-3FE0-467B-AE75-F4DDD35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05A19-4DC0-49A7-AFB8-ABB04510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4B927F-90E9-41DB-9033-64504CE7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0609-6642-4110-B255-CD43ADC4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5D18E-E7AE-4864-90F8-4CCC073F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97796-398B-413B-A8C2-24D6FDF1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67F5C-0064-4A11-9077-C67D7BD3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DA7-7922-4E30-9D4E-69FD6F21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E31E-DA60-4A35-9DDE-0F276A68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9300-7725-4686-9FED-F5BE950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1862-4BAD-412C-82D7-186F1B33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6D5A-FD04-4A47-A150-31F03146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8826-E367-40EA-98E5-A309DF38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A5C2-D9A9-494C-8456-764E957D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769C-1F10-410F-8CF1-9A85E767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95FA-0444-4087-8774-07772B2C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E5B1-A384-4DE3-90BD-36278A32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A6E3-9F28-42B2-A656-254D264C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16A-07EF-4D31-8930-4AE3B8C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0A74-42DC-4C66-9A24-1EF52BC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DF376-39CC-4598-87C9-9FC4937B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1D46-2CE1-483E-A14F-4766EDA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04CC-C65B-4508-B2CF-34181AA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BA09-46B1-44AA-B7DF-43FE0241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D3B2-A98C-40A0-A233-59CD3011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042E-F78E-49C8-A7C1-9E906FA8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8E4E8-0AD6-491B-BB39-69D3F2A0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D5E2-5B0A-4B23-8A3C-9E7522D1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46BA-AA49-4E98-B475-C0F8EC36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7C8-3DA8-4725-A1F6-84588798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F4BF0-640E-4D45-9FA0-66103B82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69287-A48D-40A5-AC77-2328410C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C560D-1245-4BA8-A46A-1676BC79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9447-60E9-4E9D-B4A6-74DBE298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3EB5-FC5B-4680-BD83-C5A39CE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A652-330F-4A03-A9FB-BED5D14E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0BBA-13C3-46B8-BBE6-19078537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21D9-6D30-44A1-AB64-36237E0D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3B1E5-B475-4690-A726-CDA29CD8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A63FF-16EF-4FFC-8A73-74741B31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016-1D9F-4F49-924F-82188FFF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4516-2906-4483-8A42-7A2B6755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23FE7-AC09-4329-AEAA-2C0064C2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E2A5-1A06-44CF-A649-5C8A0A77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90119-5EC8-48C7-8D1B-3B0A8A3A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2667-7116-435D-94BA-40C146C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F155-D874-4754-84F3-B25AA702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BF75-69B6-4114-A5B8-D76DBBB8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9FC94-A98C-4DE7-8855-A08AA044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B550-723F-47EA-AF01-2CD96695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C46E-B4D1-4B0E-814C-2CD5C61F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455-8FAA-4533-943D-81B72AA0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5B336-3B85-4F62-B7EA-1737D96A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8652B-D2EB-4CFB-B85A-AAA9D26E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BBD56-5093-4A65-A9F1-09A07859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EAAE-E23A-4E1A-848F-5FCF8A70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CE033-9D7E-4EB1-A0DB-4C920E3B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E3192-EB77-45B7-ADE0-A90D10F9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E94B-4EB9-4DF8-A815-2C617508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E442C-7326-4382-A95E-D18428B9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76BC9-89C7-4F15-BA2D-4F29D31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F1965-48F2-4FFB-9AAC-F46DC63A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FC1-3CF2-4D89-8070-B2B307DD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FA21-23C6-42BF-B8F0-7AAF4BB6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6A45-91E4-4FA6-8B62-D25E31FD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EDB9C-7B08-4CCB-A55D-DFF3B5EC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C94B7-D5EA-441A-BE0A-C481960C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A94A0-D8DC-448C-9958-CD62D834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848F-845F-4F96-98E8-B70D2A8D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DEF6-CCAF-4C53-A07E-394669FC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BC673-C40D-46B4-ACD5-E745749C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87E23-BCB0-4831-B658-7666F8BD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B7A51-44AB-43A9-B81B-9542ECF3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38E-286D-47F9-A4DB-FE7C49F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8C1BA-26CD-4BF1-9863-22851320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92C2E-2FAD-4284-9148-09C08C77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260EA-0A86-473B-84D4-22F804CB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11B9-38D6-40D4-AEB2-F4597C86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2C0FF-AF06-450F-AD10-E2A15C35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8A2B-5110-46CA-AD4E-ECC32418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232CB-5FFB-4DBC-ABB1-3F8B75CC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158E1-F7E5-4D5C-9E58-FB8FDD29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E13F2-1B9D-430A-9491-6C1E5A2A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745BB-A1C3-47D7-A017-6F6C1A3F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7DA-EC33-49DD-979E-D5564CA2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6BFA-009E-494C-8BA7-69D3EA5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40B51-462A-4B2E-9B20-D499D67D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CE074-7B34-4E48-B49C-D6548D67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1559B-C8C2-4802-A140-D1562B50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DD9CD-91D6-44D3-AD1A-1893F812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A8162-9289-4EDE-9FF5-05423093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37609-BE62-490B-AB9C-8BADA2C4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3B7C3-FCD0-482B-B5A8-A1A1536B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5B376-D07A-41C6-9C9E-1B4291A5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08B7E-EA18-4160-9111-22D9FDFB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B72B-E162-4CF2-A791-3F1CDD240BB3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845A-3901-4B50-AB14-FEEB0E5F2BA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4D13-1E15-4B7D-AAB1-86353F142F5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6147-B0E4-47E5-B6F1-AB7CDA5C67C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27AD-C9A6-47C5-AAB4-6894A65A6E6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F696-9D76-4C6C-A901-D5ED102092D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16AA-0B8D-4A7F-8217-F0563A2A815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595D-769C-403D-A680-E972FF075948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D4E-B392-4332-A77A-CFDD8DFEA68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C597-6625-4D2A-8D43-AEA8D5EBFD03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3258-7C6E-4876-8B2B-518D911FEB74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6286-1444-4DDB-BC83-FEA268B135FC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5DFC-C796-4A1E-96B3-E02B3B3AEC2A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6A8B-45B1-4185-9A64-5D5DBD06FBA0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BF26-EDD0-40C0-8035-008CA0517CE6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4E99-1785-4E0F-A2D7-C0C4402D21A9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Title 1" descr=""/>
          <p:cNvPicPr/>
          <p:nvPr/>
        </p:nvPicPr>
        <p:blipFill>
          <a:blip r:embed="rId1"/>
          <a:stretch/>
        </p:blipFill>
        <p:spPr>
          <a:xfrm>
            <a:off x="706320" y="853920"/>
            <a:ext cx="8334360" cy="1481400"/>
          </a:xfrm>
          <a:prstGeom prst="rect">
            <a:avLst/>
          </a:prstGeom>
          <a:ln w="0">
            <a:noFill/>
          </a:ln>
        </p:spPr>
      </p:pic>
      <p:pic>
        <p:nvPicPr>
          <p:cNvPr id="693" name="Subtitle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C:\Users\Owner\AppData\Local\Microsoft\Windows\Temporary Internet Files\Content.IE5\1HGG76PY\MCj04369200000[1].png"/>
          <p:cNvPicPr/>
          <p:nvPr/>
        </p:nvPicPr>
        <p:blipFill>
          <a:blip r:embed="rId3"/>
          <a:stretch/>
        </p:blipFill>
        <p:spPr>
          <a:xfrm>
            <a:off x="6858000" y="3571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C:\Users\Owner\AppData\Local\Microsoft\Windows\Temporary Internet Files\Content.IE5\1BCSU8LE\MPj03995780000[1].jpg"/>
          <p:cNvPicPr/>
          <p:nvPr/>
        </p:nvPicPr>
        <p:blipFill>
          <a:blip r:embed="rId4"/>
          <a:stretch/>
        </p:blipFill>
        <p:spPr>
          <a:xfrm>
            <a:off x="857160" y="3786120"/>
            <a:ext cx="2071800" cy="258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C:\Users\Owner\AppData\Local\Microsoft\Windows\Temporary Internet Files\Content.IE5\PKO7PTW0\MCj02317760000[1].wmf"/>
          <p:cNvPicPr/>
          <p:nvPr/>
        </p:nvPicPr>
        <p:blipFill>
          <a:blip r:embed="rId5"/>
          <a:stretch/>
        </p:blipFill>
        <p:spPr>
          <a:xfrm>
            <a:off x="2214720" y="500040"/>
            <a:ext cx="3301920" cy="1649520"/>
          </a:xfrm>
          <a:prstGeom prst="rect">
            <a:avLst/>
          </a:prstGeom>
          <a:ln w="0">
            <a:noFill/>
          </a:ln>
        </p:spPr>
      </p:pic>
      <p:sp>
        <p:nvSpPr>
          <p:cNvPr id="697" name="TextBox 10"/>
          <p:cNvSpPr/>
          <p:nvPr/>
        </p:nvSpPr>
        <p:spPr>
          <a:xfrm>
            <a:off x="3784320" y="47149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entury Gothic"/>
              </a:rPr>
              <a:t>January – March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me materials cannot be described by a single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a material that has more than one set of properties. It contains more than one kind of matter combined in such a way that it keeps its own set of properties.</a:t>
            </a:r>
            <a:r>
              <a:rPr b="0" i="1" lang="en-US" sz="3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wo or more substances combined together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09120" y="837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: means made up of parts, or mixed. A heterogeneous mixture is made up of parts that can be seen and obser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5" descr="MCj02333550000[1]"/>
          <p:cNvPicPr/>
          <p:nvPr/>
        </p:nvPicPr>
        <p:blipFill>
          <a:blip r:embed="rId1"/>
          <a:stretch/>
        </p:blipFill>
        <p:spPr>
          <a:xfrm>
            <a:off x="762120" y="3733920"/>
            <a:ext cx="2895480" cy="24890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MPj04392720000[1]"/>
          <p:cNvPicPr/>
          <p:nvPr/>
        </p:nvPicPr>
        <p:blipFill>
          <a:blip r:embed="rId2"/>
          <a:stretch/>
        </p:blipFill>
        <p:spPr>
          <a:xfrm>
            <a:off x="4419720" y="3733920"/>
            <a:ext cx="38862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0880" y="533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Homogeneous mixture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: means every part of the material is the same. There is only one set of proper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fr-CA" sz="3000" spc="-1" strike="noStrike">
                <a:solidFill>
                  <a:srgbClr val="ffffff"/>
                </a:solidFill>
                <a:latin typeface="Arial"/>
              </a:rPr>
              <a:t>: water, ai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4" descr="MPj04384670000[1]"/>
          <p:cNvPicPr/>
          <p:nvPr/>
        </p:nvPicPr>
        <p:blipFill>
          <a:blip r:embed="rId1"/>
          <a:stretch/>
        </p:blipFill>
        <p:spPr>
          <a:xfrm>
            <a:off x="685800" y="4113360"/>
            <a:ext cx="3048120" cy="2287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MPj04365520000[1]"/>
          <p:cNvPicPr/>
          <p:nvPr/>
        </p:nvPicPr>
        <p:blipFill>
          <a:blip r:embed="rId2"/>
          <a:stretch/>
        </p:blipFill>
        <p:spPr>
          <a:xfrm>
            <a:off x="4952880" y="2666880"/>
            <a:ext cx="3772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Franklin Gothic Book"/>
              </a:rPr>
              <a:t>Heterogeneous or Homogeneous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sal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e ju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nut bu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 and pepper mixed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ie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nge juice with pu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A Classified Photograph-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 Activity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(p. 101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533520" y="1676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the photograph on p. 9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Make a table (like the one on p. 10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nd 10 substances in the ima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assify whether each material is heterogeneous or homogeneous. Record your decision in the second column of your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In the third column, identify what made you decide (observation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464832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45720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464832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45720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464832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Quiz 4.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The quiz on section 4.1</a:t>
            </a:r>
            <a:r>
              <a:rPr b="0" lang="fr-CA" sz="3000" spc="-1" strike="noStrike">
                <a:solidFill>
                  <a:srgbClr val="ffffff"/>
                </a:solidFill>
                <a:latin typeface="Arial Rounded MT Bold"/>
              </a:rPr>
              <a:t> 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 definitions (matter, properties, homogeneous, heterogeneous, mix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Study</a:t>
            </a:r>
            <a:r>
              <a:rPr b="1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 time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tudy your 5 definitions (matter, properties, mixture, homogeneous, heterogeneou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Write them dow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with a partner (no lapto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ake a list of as many properties as you can think of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2 – What is a mixtu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33520" y="13712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ything with at least two distinct sets of properties (characteristics) is a mixture of at least 2 materia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 sand, pop, sandwi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(All are heterogeneous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hen a mixture’s different parts can be identified this easily, the mixture is usually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echanical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Title 3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699" name="Content Placeholder 8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498160" cy="4583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C:\Users\Owner\AppData\Local\Microsoft\Windows\Temporary Internet Files\Content.IE5\1BCSU8LE\MPj04393840000[1].jpg"/>
          <p:cNvPicPr/>
          <p:nvPr/>
        </p:nvPicPr>
        <p:blipFill>
          <a:blip r:embed="rId3"/>
          <a:stretch/>
        </p:blipFill>
        <p:spPr>
          <a:xfrm>
            <a:off x="357120" y="1714680"/>
            <a:ext cx="4714920" cy="4431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ven so-called “homogenized” milk turned out to be a heterogeneous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t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look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omogeneous. With your eyes only, you cannot detect bubbles or bits with a different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ith a microscope, the milk contains many tiny elements of a second liquid – fat. No matter how smooth milk appears, it is actu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By now you may be wondering 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n’t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on Earth re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an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b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4" descr="MCj04315600000[1]"/>
          <p:cNvPicPr/>
          <p:nvPr/>
        </p:nvPicPr>
        <p:blipFill>
          <a:blip r:embed="rId1"/>
          <a:stretch/>
        </p:blipFill>
        <p:spPr>
          <a:xfrm rot="1060200">
            <a:off x="4876560" y="3352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MCj04315600000[1]"/>
          <p:cNvPicPr/>
          <p:nvPr/>
        </p:nvPicPr>
        <p:blipFill>
          <a:blip r:embed="rId2"/>
          <a:stretch/>
        </p:blipFill>
        <p:spPr>
          <a:xfrm rot="20137200">
            <a:off x="6095880" y="144756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MCj03977760000[1]"/>
          <p:cNvPicPr/>
          <p:nvPr/>
        </p:nvPicPr>
        <p:blipFill>
          <a:blip r:embed="rId3"/>
          <a:stretch/>
        </p:blipFill>
        <p:spPr>
          <a:xfrm>
            <a:off x="7772400" y="1219320"/>
            <a:ext cx="1066680" cy="874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" descr="MCj04042630000[1]"/>
          <p:cNvPicPr/>
          <p:nvPr/>
        </p:nvPicPr>
        <p:blipFill>
          <a:blip r:embed="rId4"/>
          <a:stretch/>
        </p:blipFill>
        <p:spPr>
          <a:xfrm>
            <a:off x="6781680" y="3294000"/>
            <a:ext cx="15289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088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homogeneous mixture is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lutions are everywhere. 2/3 of Earth is covered with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liquid 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- the water of the oc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rth is surrounded b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ga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that we call air – a homogeneous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ixture of oxygen, nitrogen, and other gas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838080" y="13716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eve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id solution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such as a sterling silv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(Sterling silver is a solution of silver and copper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5" descr="MPj03989610000[1]"/>
          <p:cNvPicPr/>
          <p:nvPr/>
        </p:nvPicPr>
        <p:blipFill>
          <a:blip r:embed="rId1"/>
          <a:stretch/>
        </p:blipFill>
        <p:spPr>
          <a:xfrm>
            <a:off x="4495680" y="4789440"/>
            <a:ext cx="2514600" cy="14382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MPj03848250000[1]"/>
          <p:cNvPicPr/>
          <p:nvPr/>
        </p:nvPicPr>
        <p:blipFill>
          <a:blip r:embed="rId2"/>
          <a:stretch/>
        </p:blipFill>
        <p:spPr>
          <a:xfrm>
            <a:off x="1600200" y="4724280"/>
            <a:ext cx="190512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to do 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07.  Do the activity in the yellow square “Homogeneous Mixtur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questions 1 of “What to do”. When you  are done, complete # 2, 3, 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11 complete # 1 and # 2 a). We will correct in a few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nsw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44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#1. </a:t>
            </a: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How may sets of properties do you need to observe in order to classify a material as a 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nything with two or more distinct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2. a) What is a solu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 homogeneous mixture is a solu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c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4.3 – Mixtures and Pure Substa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33520" y="12952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have seen tha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ave two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also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which have properties that are a bl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blend of properties depends on how much of one material and how much of the other material are in the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re there any pure substances – materials whose properties are not a blend and are always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√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Yes there are pure substanc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: gold, oxygen, copper, aluminum, silver, sugar, salt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How can you find a pure substance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61760" y="14479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First you look to see if the material is homogeneous. A pure substance must be homogeneo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vestigate (observe) the properties of the material to find out if they are always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140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f they re all exactly the same in all parts of the material, no matter what part of the world the material comes from, then you may conclude that you have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thorough investigation is necessary before anything can be classified as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450720" y="390600"/>
            <a:ext cx="8242560" cy="12920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71120"/>
            <a:ext cx="8082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Task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differences between these pairs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lass &amp; Ste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Water &amp;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asoline &amp; O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3" name="Picture 4" descr="MCj04043530000[1]"/>
          <p:cNvPicPr/>
          <p:nvPr/>
        </p:nvPicPr>
        <p:blipFill>
          <a:blip r:embed="rId2"/>
          <a:stretch/>
        </p:blipFill>
        <p:spPr>
          <a:xfrm>
            <a:off x="6324480" y="4114800"/>
            <a:ext cx="18288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we have seen so far about matt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767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Organization Chart 5"/>
          <p:cNvGrpSpPr/>
          <p:nvPr/>
        </p:nvGrpSpPr>
        <p:grpSpPr>
          <a:xfrm>
            <a:off x="838080" y="1523880"/>
            <a:ext cx="7467120" cy="4601160"/>
            <a:chOff x="838080" y="1523880"/>
            <a:chExt cx="7467120" cy="4601160"/>
          </a:xfrm>
        </p:grpSpPr>
        <p:cxnSp>
          <p:nvCxnSpPr>
            <p:cNvPr id="779" name="_s1028"/>
            <p:cNvCxnSpPr>
              <a:stCxn id="780" idx="0"/>
              <a:endCxn id="781" idx="2"/>
            </p:cNvCxnSpPr>
            <p:nvPr/>
          </p:nvCxnSpPr>
          <p:spPr>
            <a:xfrm flipV="1" rot="16200000">
              <a:off x="5867280" y="389448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2" name="_s1029"/>
            <p:cNvCxnSpPr>
              <a:stCxn id="783" idx="0"/>
              <a:endCxn id="781" idx="2"/>
            </p:cNvCxnSpPr>
            <p:nvPr/>
          </p:nvCxnSpPr>
          <p:spPr>
            <a:xfrm flipH="1" flipV="1" rot="5400000">
              <a:off x="4284000" y="38952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4" name="_s1030"/>
            <p:cNvCxnSpPr>
              <a:stCxn id="781" idx="0"/>
              <a:endCxn id="785" idx="2"/>
            </p:cNvCxnSpPr>
            <p:nvPr/>
          </p:nvCxnSpPr>
          <p:spPr>
            <a:xfrm flipV="1" rot="16200000">
              <a:off x="4283640" y="21690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6" name="_s1031"/>
            <p:cNvCxnSpPr>
              <a:stCxn id="787" idx="0"/>
              <a:endCxn id="785" idx="2"/>
            </p:cNvCxnSpPr>
            <p:nvPr/>
          </p:nvCxnSpPr>
          <p:spPr>
            <a:xfrm flipH="1" flipV="1" rot="5400000">
              <a:off x="2700000" y="216900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5" name="_s1032"/>
            <p:cNvSpPr/>
            <p:nvPr/>
          </p:nvSpPr>
          <p:spPr>
            <a:xfrm>
              <a:off x="2422080" y="152388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All 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_s1033"/>
            <p:cNvSpPr/>
            <p:nvPr/>
          </p:nvSpPr>
          <p:spPr>
            <a:xfrm>
              <a:off x="83808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1034"/>
            <p:cNvSpPr/>
            <p:nvPr/>
          </p:nvSpPr>
          <p:spPr>
            <a:xfrm>
              <a:off x="400572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_s1035"/>
            <p:cNvSpPr/>
            <p:nvPr/>
          </p:nvSpPr>
          <p:spPr>
            <a:xfrm>
              <a:off x="2422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ixture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_s1036"/>
            <p:cNvSpPr/>
            <p:nvPr/>
          </p:nvSpPr>
          <p:spPr>
            <a:xfrm>
              <a:off x="5590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Pure substance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8" name="Picture 20" descr="MCj04338000000[1]"/>
          <p:cNvPicPr/>
          <p:nvPr/>
        </p:nvPicPr>
        <p:blipFill>
          <a:blip r:embed="rId1"/>
          <a:stretch/>
        </p:blipFill>
        <p:spPr>
          <a:xfrm>
            <a:off x="7924680" y="1219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 Theory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pure substances always be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solutions have blended properties but still be homogeneou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o answer these questions, scientists need a theory (explanation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4" descr="MCj04315120000[1]"/>
          <p:cNvPicPr/>
          <p:nvPr/>
        </p:nvPicPr>
        <p:blipFill>
          <a:blip r:embed="rId1"/>
          <a:stretch/>
        </p:blipFill>
        <p:spPr>
          <a:xfrm>
            <a:off x="7696080" y="2133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45720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theory that scientists use to explain the properties of various mixtures and substances is called the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 theory of matt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ll matter is made up of extremely tiny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ch pure substance has its own kind of particle, different from the particles of other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456840" y="38052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ased on the particle theory,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 substanc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s a material made up of only one kind of extremely small partic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ccording to the particle theory, all water particles are exactly the sa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ure water, no matter how or where it is obtained, always contains identical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685440" y="1218960"/>
            <a:ext cx="7543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imilarly, all particles of table     sugar are exactly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y are different from water particles, different from the particles of any other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ut all the particles of table sugar are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6" name="Picture 6" descr="MPj02896290000[1]"/>
          <p:cNvPicPr/>
          <p:nvPr/>
        </p:nvPicPr>
        <p:blipFill>
          <a:blip r:embed="rId1"/>
          <a:stretch/>
        </p:blipFill>
        <p:spPr>
          <a:xfrm>
            <a:off x="7162920" y="685800"/>
            <a:ext cx="1596960" cy="2286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MCj02514750000[1]"/>
          <p:cNvPicPr/>
          <p:nvPr/>
        </p:nvPicPr>
        <p:blipFill>
          <a:blip r:embed="rId2"/>
          <a:stretch/>
        </p:blipFill>
        <p:spPr>
          <a:xfrm>
            <a:off x="7543800" y="5181480"/>
            <a:ext cx="130176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Lets see how well you understood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400" y="15235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urn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5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to questions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1. a, b, c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and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2. a, b, c, d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8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#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will correct the exercise together in 10-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swers « Pouring? Shaping? Filling? (p. 115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212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1. Name the state(s) in which a materia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a) has a fixed shap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A - sol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b) takes the shape of its contain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) always fills watever container it is 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53316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 Rounded MT Bold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Name the state(s) in which the particl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) far apart from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–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) relatively clos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) free to move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   &amp; 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) held in fix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A- 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D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44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Introduction – Chapter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Section 5.1 definition - dis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Comic str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struction materi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be mel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not bend in original sta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without being melte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glass is transparent, steel is gre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ight (steel is heavier, if the size is the sam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eel (metal) can conduct electric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lass is fragile, steel is not easily brok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6" name="Picture 4" descr="MCj03316670000[1]"/>
          <p:cNvPicPr/>
          <p:nvPr/>
        </p:nvPicPr>
        <p:blipFill>
          <a:blip r:embed="rId2"/>
          <a:stretch/>
        </p:blipFill>
        <p:spPr>
          <a:xfrm>
            <a:off x="7238880" y="304920"/>
            <a:ext cx="1209960" cy="17859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MCj00902410000[1]"/>
          <p:cNvPicPr/>
          <p:nvPr/>
        </p:nvPicPr>
        <p:blipFill>
          <a:blip r:embed="rId3"/>
          <a:stretch/>
        </p:blipFill>
        <p:spPr>
          <a:xfrm>
            <a:off x="6629400" y="2666880"/>
            <a:ext cx="2125800" cy="15084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MCj04062020000[1]"/>
          <p:cNvPicPr/>
          <p:nvPr/>
        </p:nvPicPr>
        <p:blipFill>
          <a:blip r:embed="rId4"/>
          <a:stretch/>
        </p:blipFill>
        <p:spPr>
          <a:xfrm>
            <a:off x="457200" y="228600"/>
            <a:ext cx="11127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can freeze and evapor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can drink th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ood for our healt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nflammable (cannot catch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water is clear, milk has colo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transparent, milk is no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more widespread on earth (2/3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naturally on Earth, milk comes from cow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lk is thicker than w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1" name="Picture 4" descr="MCj04104490000[1]"/>
          <p:cNvPicPr/>
          <p:nvPr/>
        </p:nvPicPr>
        <p:blipFill>
          <a:blip r:embed="rId2"/>
          <a:stretch/>
        </p:blipFill>
        <p:spPr>
          <a:xfrm>
            <a:off x="6553080" y="762120"/>
            <a:ext cx="23418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Rectangle 2" descr=""/>
          <p:cNvPicPr/>
          <p:nvPr/>
        </p:nvPicPr>
        <p:blipFill>
          <a:blip r:embed="rId1"/>
          <a:stretch/>
        </p:blipFill>
        <p:spPr>
          <a:xfrm>
            <a:off x="1292400" y="29844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bustible (can catch on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xture (not pure substance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oil has color, gasoline is clea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il is thicker than gasolin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soline is what we put in our ca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oking oil can be used in a kitch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4" name="Picture 4" descr="MCj03842060000[1]"/>
          <p:cNvPicPr/>
          <p:nvPr/>
        </p:nvPicPr>
        <p:blipFill>
          <a:blip r:embed="rId2"/>
          <a:stretch/>
        </p:blipFill>
        <p:spPr>
          <a:xfrm>
            <a:off x="380880" y="228600"/>
            <a:ext cx="1300320" cy="15080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MCj03254760000[1]"/>
          <p:cNvPicPr/>
          <p:nvPr/>
        </p:nvPicPr>
        <p:blipFill>
          <a:blip r:embed="rId3"/>
          <a:stretch/>
        </p:blipFill>
        <p:spPr>
          <a:xfrm>
            <a:off x="7238880" y="609480"/>
            <a:ext cx="1459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Rectangle 2" descr=""/>
          <p:cNvPicPr/>
          <p:nvPr/>
        </p:nvPicPr>
        <p:blipFill>
          <a:blip r:embed="rId1"/>
          <a:stretch/>
        </p:blipFill>
        <p:spPr>
          <a:xfrm>
            <a:off x="682560" y="1066680"/>
            <a:ext cx="8290080" cy="25416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odule 2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ff"/>
                </a:solidFill>
                <a:latin typeface="Arial"/>
              </a:rPr>
              <a:t>Pure Substances and Mix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1 - Matter in Your Worl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Matter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any material that occupies space and has a mass (includes all solids, liquids, and gas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Properti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the characteristics that are used to describe mat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amples: size, shape, form, state, smell, color, tas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*Every material has its own set of propertie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ater at the beach (photo on page 98)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as the following properti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ear,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ol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od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reezes at 0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º C *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(under norm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ndi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oils at 100º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MCj04109210000[1]"/>
          <p:cNvPicPr/>
          <p:nvPr/>
        </p:nvPicPr>
        <p:blipFill>
          <a:blip r:embed="rId1"/>
          <a:stretch/>
        </p:blipFill>
        <p:spPr>
          <a:xfrm>
            <a:off x="7315200" y="228600"/>
            <a:ext cx="1514520" cy="15238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MCj04125560000[1]"/>
          <p:cNvPicPr/>
          <p:nvPr/>
        </p:nvPicPr>
        <p:blipFill>
          <a:blip r:embed="rId2"/>
          <a:stretch/>
        </p:blipFill>
        <p:spPr>
          <a:xfrm>
            <a:off x="457200" y="3049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MCj02949790000[1]"/>
          <p:cNvPicPr/>
          <p:nvPr/>
        </p:nvPicPr>
        <p:blipFill>
          <a:blip r:embed="rId3"/>
          <a:stretch/>
        </p:blipFill>
        <p:spPr>
          <a:xfrm>
            <a:off x="4724280" y="3527280"/>
            <a:ext cx="38862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38:30Z</dcterms:created>
  <dc:creator>Lisa.c.Cormier</dc:creator>
  <dc:description/>
  <dc:language>en-US</dc:language>
  <cp:lastModifiedBy>Lisa.c.Cormier</cp:lastModifiedBy>
  <dcterms:modified xsi:type="dcterms:W3CDTF">2009-04-16T17:57:01Z</dcterms:modified>
  <cp:revision>4</cp:revision>
  <dc:subject/>
  <dc:title>Science 7</dc:title>
</cp:coreProperties>
</file>