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6B8-6C9C-4DB3-83D7-5DDD92E9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250-6A77-472A-8A93-FD647D69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BFA-C056-4D31-A9FC-532024C8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D41-B084-4D94-AE20-43675EE7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6D08F-036B-47CD-8531-77164570C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A4067-5D11-4883-A51E-C19FC749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EB63-E6C6-4415-8EDE-45E30F59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34EC1-AE45-4751-BE18-1ACDEB1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15188-F1B6-441E-A42E-49931566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2186-9E87-4355-9D65-A714E415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F0EF-E529-4D52-B425-850F5A8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1D4-A75D-4B9F-A06A-43FB9F69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189C-E058-4DE0-AFCD-EBBC48B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A4712-7D4D-457B-B863-944762E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43E5C-06F8-414F-B9A3-B25BB3A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555BA-4EB6-496F-9B8B-A4A13D7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0E569-BCFE-4199-BEAF-07BF72934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D3D-F9E2-4C9E-BE32-4DD43DC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AEB-1FAD-4EC0-8AD3-7544FD3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295-865A-44B7-A5D8-1B27AE0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9B8-DA84-4CA1-88DD-046BFA53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932-1077-4817-B420-9EC386A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E52-7F04-411B-9A25-1D5AB81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C24-9F3C-42D6-9D8D-2206CD3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pter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934-F7E9-479B-BF84-9665D7C6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259092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EA2F-A90F-4FA7-8663-560A7162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3366"/>
                </a:solidFill>
                <a:latin typeface="Arial"/>
              </a:rPr>
              <a:t>Ecology &amp; the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762120"/>
            <a:ext cx="609840" cy="6858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Chai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relationship between plants and animals that shows who eats what. Energy is transferred from one organism to another through the food ch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8000" y="5229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Web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model of feeding relationships, describing the connections among all food chains within an eco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nergy Pyramid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representation of the loss of useful energy at each step in a food cha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yramid of Number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Based on the number of organisms needed to make a simple food chain. Shows how large populations of certain organisms are needed to support very small populations of other organism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5157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Symbio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interactive association between two or more species living together; may be parasitic, commensal, or mutualistic. The relationship between two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508464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ens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relationship in which one species benefits and the other is not aff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arasit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form of symbiosis in which the population of one species benefits at the expense of the population of another specie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Mutu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interaction between two species in which both derive some benefi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peti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ne of the biological interactions that can limit population growth; occurs when two species vie with each other for the same re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opula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organisms that belong to the same species living in a commun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log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Study of the interactions that take place among organisms and their environment.</a:t>
            </a:r>
            <a:r>
              <a:rPr b="0" lang="en-US" sz="31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un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populations of different species that live in an ecosystem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abitat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lace where an organism lives and that provides the types of food, shelter, moisture, and temperature needed for surviv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Nich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Arial"/>
              </a:rPr>
              <a:t>An organism’s place in the ecosystem: where it lives, what it consumes, what consumes it, and how it interacts with all biotic and abiotic factors. A unique ecological role of an organism in a community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0360" y="5013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rgan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ny living 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sphe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art of Earth that supports life, including the top portion of Earth's crust, the atmosphere, and all the water on Earth's surfac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syste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living organisms that live in an area and the nonliving features of their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Limiting Fac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ything that can restrict the size of a population, including living and nonliving features of an ecosystem, such as predators or drough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68936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rying Capac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Largest number of individuals of a particular species that an ecosystem can support over time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 Potential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maximum reproductive rate of an organism, given unlimited resources and ideal environmental condit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xponential Growth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Growth of a population without any constraints; therefore, the population will grow at an ever-increasing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Living parts of the environment; plants animals &amp; micro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hotosynthe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chemical reaction in which green plants combine water and carbon dioxide in the presence of sunlight to form glucose and oxyg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9600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da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kills and eats other anim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is killed and eaten by another anim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A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Non-living parts of the environment; water, air, light,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nsum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rganism that cannot create energy-rich molecules (glucose) but obtains its food by eating other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oduc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, such as a plant or alga, which produces glucose from carbon dioxide by photosynthesis and is a source of food for other organism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5049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imals who hunt and eat other animals; meat e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m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 that eats both plants and animal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erb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eats pl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3:22:37Z</dcterms:created>
  <dc:creator>Mickey Revenaugh</dc:creator>
  <dc:description/>
  <dc:language>en-US</dc:language>
  <cp:lastModifiedBy>User</cp:lastModifiedBy>
  <dcterms:modified xsi:type="dcterms:W3CDTF">2006-10-06T23:47:13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