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654-C625-4FA4-AEF9-E001EEEB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EF6-DDF4-4D85-AC15-987C4416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2EB-8C77-432E-98E2-BB96CD9B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5BD-930E-46BA-9F1F-093B57EF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7AAB4-3DB7-480B-8DB6-906BC9C84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C3518-7F24-4156-BD35-A980C8C1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73D0D-4451-4A18-9ABF-CD064ECF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5A25B-EBE2-4722-8653-21D124B5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AD2BD-31E9-4BF1-B3C1-A82371D4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28994-3E83-43BF-9FA9-842C592E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52DE3-688F-454A-A2C2-D02FDE95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E0E-5F72-4961-8AB4-8A0E8E2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CF525-B7B4-408D-A351-8D732533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885FA-5765-4916-A6F8-E5542DD8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77FF2-0153-4990-A711-56384B47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774C6-E1FC-4FCA-BDAD-EF86B011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420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628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420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628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2E6F1-DD68-4B25-AD1D-5B0A342FF6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43B-AC9D-40F8-A8D7-CED8BF3A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211-048F-4B5A-9EF6-9DB2165F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8B4-4238-472F-A4A9-4BD9C0D5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4CB-B0DA-4CF5-9DD8-D2EA5971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20A-82E5-4402-A066-A6DB4CD3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238-E606-43B5-9E8E-883387FC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A0E-9C09-46B9-80FD-A12A01D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pter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98BB-4502-41D5-9777-6E832E0AC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8120" y="228600"/>
            <a:ext cx="8823600" cy="6095880"/>
          </a:xfrm>
          <a:prstGeom prst="roundRect">
            <a:avLst>
              <a:gd name="adj" fmla="val 11046"/>
            </a:avLst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2590920"/>
            <a:ext cx="769608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E576-1D67-4761-BB4E-FB40D795F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3366"/>
                </a:solidFill>
                <a:latin typeface="Arial"/>
              </a:rPr>
              <a:t>Ecology &amp; the Environ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762120"/>
            <a:ext cx="609840" cy="685800"/>
          </a:xfrm>
          <a:prstGeom prst="star5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Food Chai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relationship between plants and animals that shows who eats what. Energy is transferred from one organism to another through the food cha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28000" y="5229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Food Web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model of feeding relationships, describing the connections among all food chains within an eco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nergy Pyramid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representation of the loss of useful energy at each step in a food chai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yramid of Number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Based on the number of organisms needed to make a simple food chain. Shows how large populations of certain organisms are needed to support very small populations of other organism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40720" y="515772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Symbiosi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interactive association between two or more species living together; may be parasitic, commensal, or mutualistic. The relationship between two organis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67640" y="508464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mensal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symbiotic relationship in which one species benefits and the other is not affec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arasit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form of symbiosis in which the population of one species benefits at the expense of the population of another specie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Mutual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symbiotic interaction between two species in which both derive some benefit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petitio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One of the biological interactions that can limit population growth; occurs when two species vie with each other for the same resou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opulatio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organisms that belong to the same species living in a communit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3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colog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Study of the interactions that take place among organisms and their environment.</a:t>
            </a:r>
            <a:r>
              <a:rPr b="0" lang="en-US" sz="31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munit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populations of different species that live in an ecosystem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Habitat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Place where an organism lives and that provides the types of food, shelter, moisture, and temperature needed for survival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Nich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Arial"/>
              </a:rPr>
              <a:t>An organism’s place in the ecosystem: where it lives, what it consumes, what consumes it, and how it interacts with all biotic and abiotic factors. A unique ecological role of an organism in a community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0360" y="5013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Organ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Any living 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sphe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Part of Earth that supports life, including the top portion of Earth's crust, the atmosphere, and all the water on Earth's surfac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4905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cosyste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living organisms that live in an area and the nonliving features of their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7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Limiting Facto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ything that can restrict the size of a population, including living and nonliving features of an ecosystem, such as predators or drought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468936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arrying Capacit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Largest number of individuals of a particular species that an ecosystem can support over time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2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3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tic Potential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maximum reproductive rate of an organism, given unlimited resources and ideal environmental condition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xponential Growth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Growth of a population without any constraints; therefore, the population will grow at an ever-increasing r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8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tic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Living parts of the environment; plants animals &amp; micro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hotosynthesi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chemical reaction in which green plants combine water and carbon dioxide in the presence of sunlight to form glucose and oxyg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96000" y="4905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9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0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edato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kills and eats other anim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3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e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is killed and eaten by another animal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4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5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Abiotic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Non-living parts of the environment; water, air, light, r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nsume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Organism that cannot create energy-rich molecules (glucose) but obtains its food by eating other organis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oduce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organism, such as a plant or alga, which produces glucose from carbon dioxide by photosynthesis and is a source of food for other organism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504972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arn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imals who hunt and eat other animals; meat ea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Omn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organism that eats both plants and animal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Herb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eats pla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13:22:37Z</dcterms:created>
  <dc:creator>Mickey Revenaugh</dc:creator>
  <dc:description/>
  <dc:language>en-US</dc:language>
  <cp:lastModifiedBy>User</cp:lastModifiedBy>
  <dcterms:modified xsi:type="dcterms:W3CDTF">2006-10-06T23:47:13Z</dcterms:modified>
  <cp:revision>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