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EC44-146B-431C-89C0-F0036B27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4523760"/>
            <a:ext cx="76960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C58C-33B4-4049-994B-CB51C493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9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452376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920" y="452376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9180-36F7-4D07-901C-7F250A7E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200" y="297144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6280" y="297144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452376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200" y="452376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6280" y="452376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BC05-9B7E-4B76-8483-7D724F8E0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781D1-D90A-4592-A03E-08B228B579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FFD01-FD70-462C-8D46-B0923C0F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8C49F-1355-4D7B-8AA7-80BE01C4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3755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920" y="2971440"/>
            <a:ext cx="3755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563C1-24B4-42E0-A009-97CAD53A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6613F-4EFE-4F16-A885-34AD0669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A4B69-8A32-48F3-95A7-2665FC684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2971440"/>
            <a:ext cx="3755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2120" y="452376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E5C85-FFB5-49C7-A9A3-0A86E32B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9CDC-3DB4-4A7F-8355-DA0875B5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3755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920" y="452376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57A27-404A-447B-BA7E-1BEA3DB2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9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4523760"/>
            <a:ext cx="76960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C395C-5B79-4A4F-AC69-4D5C6BFC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2120" y="4523760"/>
            <a:ext cx="76960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8902C-4A05-4850-8306-10701CF8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9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2120" y="452376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920" y="452376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EB633-F1D8-44AE-987B-29987038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4200" y="297144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6280" y="297144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2120" y="452376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4200" y="452376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6280" y="452376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BD4DE-B8D3-4F79-BDD5-5D1A27B112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17A5-B703-4F08-AC75-D8CEFC42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3755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920" y="2971440"/>
            <a:ext cx="3755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42F2-C580-49FE-8122-43797528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7F41-A060-4728-B41E-63B9C190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8246-29B4-400C-A1D7-C26FFF2C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920" y="2971440"/>
            <a:ext cx="3755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452376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9EBD-7B21-4EE7-9F9D-0B408855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3755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920" y="452376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3D14-1999-41A2-BEEB-2C5B6DF6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4523760"/>
            <a:ext cx="76960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FCCF-7B38-4A83-AEE8-AFB5D1A6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apter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9FD1-FFCB-423B-9C91-38159E25B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8120" y="228600"/>
            <a:ext cx="8823600" cy="6095880"/>
          </a:xfrm>
          <a:prstGeom prst="roundRect">
            <a:avLst>
              <a:gd name="adj" fmla="val 11046"/>
            </a:avLst>
          </a:prstGeom>
          <a:noFill/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2590920"/>
            <a:ext cx="7696080" cy="0"/>
          </a:xfrm>
          <a:prstGeom prst="line">
            <a:avLst/>
          </a:prstGeom>
          <a:ln w="381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6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5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DB64-2C43-44FA-B3B4-CDBA1DFEB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93366"/>
                </a:solidFill>
                <a:latin typeface="Arial"/>
              </a:rPr>
              <a:t>Ecology &amp; the Environmen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96080" y="762120"/>
            <a:ext cx="609840" cy="685800"/>
          </a:xfrm>
          <a:prstGeom prst="star5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Food Chain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The relationship between plants and animals that shows who eats what. Energy is transferred from one organism to another through the food chai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28000" y="522936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2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Food Web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 model of feeding relationships, describing the connections among all food chains within an ecosyst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4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5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Energy Pyramid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 representation of the loss of useful energy at each step in a food chai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6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7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Pyramid of Numbers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3366"/>
                </a:solidFill>
                <a:latin typeface="Arial"/>
              </a:rPr>
              <a:t>Based on the number of organisms needed to make a simple food chain. Shows how large populations of certain organisms are needed to support very small populations of other organism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740720" y="5157720"/>
            <a:ext cx="914400" cy="83844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9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9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Symbiosis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n interactive association between two or more species living together; may be parasitic, commensal, or mutualistic. The relationship between two organism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67640" y="5084640"/>
            <a:ext cx="914400" cy="83844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1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32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Commensalism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 symbiotic relationship in which one species benefits and the other is not affect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3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34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Parasitism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 form of symbiosis in which the population of one species benefits at the expense of the population of another species</a:t>
            </a:r>
            <a:r>
              <a:rPr b="0" lang="en-US" sz="31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6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37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Mutualism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 symbiotic interaction between two species in which both derive some benefit</a:t>
            </a:r>
            <a:r>
              <a:rPr b="0" lang="en-US" sz="31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8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39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Competition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One of the biological interactions that can limit population growth; occurs when two species vie with each other for the same resour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1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41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Population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ll the organisms that belong to the same species living in a community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3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44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Ecology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Study of the interactions that take place among organisms and their environment.</a:t>
            </a:r>
            <a:r>
              <a:rPr b="0" lang="en-US" sz="31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Community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ll the populations of different species that live in an ecosystem</a:t>
            </a:r>
            <a:r>
              <a:rPr b="0" lang="en-US" sz="31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5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46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Habitat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Place where an organism lives and that provides the types of food, shelter, moisture, and temperature needed for survival</a:t>
            </a:r>
            <a:r>
              <a:rPr b="0" lang="en-US" sz="31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8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49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Niche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3366"/>
                </a:solidFill>
                <a:latin typeface="Arial"/>
              </a:rPr>
              <a:t>An organism’s place in the ecosystem: where it lives, what it consumes, what consumes it, and how it interacts with all biotic and abiotic factors. A unique ecological role of an organism in a community.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40360" y="501336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0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51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Organism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Any living t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3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53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Biosphere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Part of Earth that supports life, including the top portion of Earth's crust, the atmosphere, and all the water on Earth's surfac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948360" y="490536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5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56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Ecosystem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ll the living organisms that live in an area and the nonliving features of their enviro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7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58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Limiting Factor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nything that can restrict the size of a population, including living and nonliving features of an ecosystem, such as predators or drought</a:t>
            </a:r>
            <a:r>
              <a:rPr b="0" lang="en-US" sz="31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4689360"/>
            <a:ext cx="914400" cy="83844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0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61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Carrying Capacity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Largest number of individuals of a particular species that an ecosystem can support over time</a:t>
            </a:r>
            <a:r>
              <a:rPr b="0" lang="en-US" sz="31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2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63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Biotic Potential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The maximum reproductive rate of an organism, given unlimited resources and ideal environmental condition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5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6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Exponential Growth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Growth of a population without any constraints; therefore, the population will grow at an ever-increasing ra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7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68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Biotic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Living parts of the environment; plants animals &amp; microorganis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Photosynthesis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The chemical reaction in which green plants combine water and carbon dioxide in the presence of sunlight to form glucose and oxyge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96000" y="490536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9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70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Predator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n animal that kills and eats other anima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2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73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Prey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n animal that is killed and eaten by another animal</a:t>
            </a:r>
            <a:r>
              <a:rPr b="0" lang="en-US" sz="31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4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75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Abiotic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Non-living parts of the environment; water, air, light, ro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Consumer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Organism that cannot create energy-rich molecules (glucose) but obtains its food by eating other organism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Producer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n organism, such as a plant or alga, which produces glucose from carbon dioxide by photosynthesis and is a source of food for other organisms</a:t>
            </a:r>
            <a:r>
              <a:rPr b="0" lang="en-US" sz="31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93080" y="5049720"/>
            <a:ext cx="914400" cy="83844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2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3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Carnivore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nimals who hunt and eat other animals; meat ea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4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5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Omnivore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n organism that eats both plants and animals</a:t>
            </a:r>
            <a:r>
              <a:rPr b="0" lang="en-US" sz="31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7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Herbivore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n animal that eats plan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0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9T13:22:37Z</dcterms:created>
  <dc:creator>Mickey Revenaugh</dc:creator>
  <dc:description/>
  <dc:language>en-US</dc:language>
  <cp:lastModifiedBy>User</cp:lastModifiedBy>
  <dcterms:modified xsi:type="dcterms:W3CDTF">2006-10-06T23:47:13Z</dcterms:modified>
  <cp:revision>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