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5594-B2F9-4397-885F-A5D3A1243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4523760"/>
            <a:ext cx="76960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2F19-C8EC-4426-8F00-387D7E37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920" y="297144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452376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920" y="452376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DC71-12AF-4CFA-ACDE-E4AD5FD24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24778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200" y="2971440"/>
            <a:ext cx="24778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6280" y="2971440"/>
            <a:ext cx="24778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4523760"/>
            <a:ext cx="24778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200" y="4523760"/>
            <a:ext cx="24778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6280" y="4523760"/>
            <a:ext cx="24778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B18D-ADDC-427D-8EF7-3A31F898A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12876-6DF8-4115-B75D-26F924D6E8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89D6A-29E9-4D6A-8313-959BAB0F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ADFB7-6E58-424C-8F45-7FE8DD48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3755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920" y="2971440"/>
            <a:ext cx="3755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84EC5-40E5-49F7-9851-F64BDD2A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6D113-D3B4-47A8-AC29-178F1A09A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4B41F-C481-482E-AD3F-1C3E887FC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2971440"/>
            <a:ext cx="3755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2120" y="452376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900A0-06F6-4D83-9706-FE8F8481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3505-6E91-4360-AC2D-DEA8E385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3755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297144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920" y="452376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85586-7718-4EE6-88D6-CB861E5A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920" y="297144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4523760"/>
            <a:ext cx="76960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05B8D3-C87A-4579-B6AA-6F5EE762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2120" y="4523760"/>
            <a:ext cx="76960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02EC1-29CE-4FE2-B40F-337FCB0B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920" y="297144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2120" y="452376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920" y="452376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4B8EC-D692-496F-ABF4-78057606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24778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4200" y="2971440"/>
            <a:ext cx="24778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6280" y="2971440"/>
            <a:ext cx="24778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2120" y="4523760"/>
            <a:ext cx="24778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4200" y="4523760"/>
            <a:ext cx="24778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6280" y="4523760"/>
            <a:ext cx="24778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A9350-EAB0-4ECC-9766-6AA1360341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4F59-C4F6-4FA1-950B-2CDA7BC5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3755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920" y="2971440"/>
            <a:ext cx="3755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749C-84B2-4117-A5D0-70A30B44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64F1-0B10-4E9B-B7D3-8F89628D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4C81-3297-4371-A588-3A3AB5CD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920" y="2971440"/>
            <a:ext cx="3755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452376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37BD-29B6-45D6-AD23-1A449A1B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3755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920" y="297144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920" y="452376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0D81-0CD1-4F1A-B6CE-BAC8075D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920" y="2971440"/>
            <a:ext cx="375552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4523760"/>
            <a:ext cx="76960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B73E-34E8-46C5-8C5B-483A09D7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apter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271E-092E-41CA-9776-C6D7247A2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8120" y="228600"/>
            <a:ext cx="8823600" cy="6095880"/>
          </a:xfrm>
          <a:prstGeom prst="roundRect">
            <a:avLst>
              <a:gd name="adj" fmla="val 11046"/>
            </a:avLst>
          </a:prstGeom>
          <a:noFill/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62120" y="2590920"/>
            <a:ext cx="7696080" cy="0"/>
          </a:xfrm>
          <a:prstGeom prst="line">
            <a:avLst/>
          </a:prstGeom>
          <a:ln w="381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6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5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0851-8A66-409A-B2E5-C6FFEE7B2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93366"/>
                </a:solidFill>
                <a:latin typeface="Arial"/>
              </a:rPr>
              <a:t>Ecology &amp; the Environmen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96080" y="762120"/>
            <a:ext cx="609840" cy="685800"/>
          </a:xfrm>
          <a:prstGeom prst="star5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Food Chain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The relationship between plants and animals that shows who eats what. Energy is transferred from one organism to another through the food chai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28000" y="522936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1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2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Food Web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 model of feeding relationships, describing the connections among all food chains within an ecosyst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4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5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Energy Pyramid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 representation of the loss of useful energy at each step in a food chain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6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7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Pyramid of Numbers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993366"/>
                </a:solidFill>
                <a:latin typeface="Arial"/>
              </a:rPr>
              <a:t>Based on the number of organisms needed to make a simple food chain. Shows how large populations of certain organisms are needed to support very small populations of other organism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740720" y="5157720"/>
            <a:ext cx="914400" cy="83844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9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9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Symbiosis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n interactive association between two or more species living together; may be parasitic, commensal, or mutualistic. The relationship between two organism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67640" y="5084640"/>
            <a:ext cx="914400" cy="83844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1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32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Commensalism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 symbiotic relationship in which one species benefits and the other is not affect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3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34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Parasitism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 form of symbiosis in which the population of one species benefits at the expense of the population of another species</a:t>
            </a:r>
            <a:r>
              <a:rPr b="0" lang="en-US" sz="3100" spc="-1" strike="noStrike">
                <a:solidFill>
                  <a:srgbClr val="993366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6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37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Mutualism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 symbiotic interaction between two species in which both derive some benefit</a:t>
            </a:r>
            <a:r>
              <a:rPr b="0" lang="en-US" sz="3100" spc="-1" strike="noStrike">
                <a:solidFill>
                  <a:srgbClr val="993366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8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39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Competition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One of the biological interactions that can limit population growth; occurs when two species vie with each other for the same resour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1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41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Population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ll the organisms that belong to the same species living in a community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3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44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Ecology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Study of the interactions that take place among organisms and their environment.</a:t>
            </a:r>
            <a:r>
              <a:rPr b="0" lang="en-US" sz="31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Community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ll the populations of different species that live in an ecosystem</a:t>
            </a:r>
            <a:r>
              <a:rPr b="0" lang="en-US" sz="3100" spc="-1" strike="noStrike">
                <a:solidFill>
                  <a:srgbClr val="993366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5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46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Habitat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Place where an organism lives and that provides the types of food, shelter, moisture, and temperature needed for survival</a:t>
            </a:r>
            <a:r>
              <a:rPr b="0" lang="en-US" sz="3100" spc="-1" strike="noStrike">
                <a:solidFill>
                  <a:srgbClr val="993366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8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49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Niche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3366"/>
                </a:solidFill>
                <a:latin typeface="Arial"/>
              </a:rPr>
              <a:t>An organism’s place in the ecosystem: where it lives, what it consumes, what consumes it, and how it interacts with all biotic and abiotic factors. A unique ecological role of an organism in a community.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40360" y="501336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0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51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Organism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Any living t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3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53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Biosphere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Part of Earth that supports life, including the top portion of Earth's crust, the atmosphere, and all the water on Earth's surfac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948360" y="490536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5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56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Ecosystem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ll the living organisms that live in an area and the nonliving features of their enviro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7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58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Limiting Factor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nything that can restrict the size of a population, including living and nonliving features of an ecosystem, such as predators or drought</a:t>
            </a:r>
            <a:r>
              <a:rPr b="0" lang="en-US" sz="3100" spc="-1" strike="noStrike">
                <a:solidFill>
                  <a:srgbClr val="993366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4689360"/>
            <a:ext cx="914400" cy="83844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0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61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Carrying Capacity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Largest number of individuals of a particular species that an ecosystem can support over time</a:t>
            </a:r>
            <a:r>
              <a:rPr b="0" lang="en-US" sz="3100" spc="-1" strike="noStrike">
                <a:solidFill>
                  <a:srgbClr val="993366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2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63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Biotic Potential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The maximum reproductive rate of an organism, given unlimited resources and ideal environmental condition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5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65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Exponential Growth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Growth of a population without any constraints; therefore, the population will grow at an ever-increasing rat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7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68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Biotic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Living parts of the environment; plants animals &amp; microorganis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5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Photosynthesis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The chemical reaction in which green plants combine water and carbon dioxide in the presence of sunlight to form glucose and oxyge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696000" y="490536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9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70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Predator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n animal that kills and eats other anima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500"/>
                            </p:stCondLst>
                            <p:childTnLst>
                              <p:par>
                                <p:cTn id="722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2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73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Prey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n animal that is killed and eaten by another animal</a:t>
            </a:r>
            <a:r>
              <a:rPr b="0" lang="en-US" sz="3100" spc="-1" strike="noStrike">
                <a:solidFill>
                  <a:srgbClr val="993366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4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75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Abiotic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Non-living parts of the environment; water, air, light, ro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Consumer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Organism that cannot create energy-rich molecules (glucose) but obtains its food by eating other organism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Producer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n organism, such as a plant or alga, which produces glucose from carbon dioxide by photosynthesis and is a source of food for other organisms</a:t>
            </a:r>
            <a:r>
              <a:rPr b="0" lang="en-US" sz="3100" spc="-1" strike="noStrike">
                <a:solidFill>
                  <a:srgbClr val="993366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93080" y="5049720"/>
            <a:ext cx="914400" cy="83844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2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3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Carnivore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nimals who hunt and eat other animals; meat ea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4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5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Omnivore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n organism that eats both plants and animals</a:t>
            </a:r>
            <a:r>
              <a:rPr b="0" lang="en-US" sz="3100" spc="-1" strike="noStrike">
                <a:solidFill>
                  <a:srgbClr val="993366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7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Arial Black"/>
              </a:rPr>
              <a:t>Herbivore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3366"/>
                </a:solidFill>
                <a:latin typeface="Arial"/>
              </a:rPr>
              <a:t>An animal that eats plan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419720"/>
            <a:ext cx="914400" cy="838080"/>
          </a:xfrm>
          <a:prstGeom prst="star5">
            <a:avLst/>
          </a:prstGeom>
          <a:solidFill>
            <a:srgbClr val="33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9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0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9T13:22:37Z</dcterms:created>
  <dc:creator>Mickey Revenaugh</dc:creator>
  <dc:description/>
  <dc:language>en-US</dc:language>
  <cp:lastModifiedBy>User</cp:lastModifiedBy>
  <dcterms:modified xsi:type="dcterms:W3CDTF">2006-10-06T23:47:13Z</dcterms:modified>
  <cp:revision>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